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E75-8DC1-440D-A66E-8476907C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B52-A667-41A1-99E9-7CD8BAE6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C65-8821-44BA-BF5B-D463E197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4B9-A8A1-4D9F-9D15-26EB27E89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5602-B1CE-45CE-844C-3449CA29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0EB-D93F-48BE-A39C-86C17623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5E0-FD45-459B-A287-D859E5A9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685-459E-4E25-B716-4C2C10F9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039-D15E-4BEA-898A-DED9F13C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106-C205-45A6-994B-ABC57B3D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25E-F233-4ED3-9C18-977CD832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5B0-DA85-40E5-B293-92626A4D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6D42-007D-4141-B252-A089D73C5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752480"/>
            <a:ext cx="8839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шление (3).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орческое мышл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plor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дна из моделей творческой деятельн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ke, Ward &amp; Smith(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ворчески-познавательный подх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eneplore = generation + expl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ятие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еинвентивной структур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057400"/>
            <a:ext cx="2210040" cy="1676520"/>
          </a:xfrm>
          <a:prstGeom prst="ellipse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н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инвенти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к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2133720" cy="1676520"/>
          </a:xfrm>
          <a:prstGeom prst="ellipse">
            <a:avLst/>
          </a:prstGeom>
          <a:solidFill>
            <a:srgbClr val="00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724280"/>
            <a:ext cx="2057400" cy="1676520"/>
          </a:xfrm>
          <a:prstGeom prst="ellipse">
            <a:avLst/>
          </a:prstGeom>
          <a:solidFill>
            <a:srgbClr val="ff7c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грани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2666880"/>
            <a:ext cx="1447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61" idx="3"/>
            <a:endCxn id="60" idx="5"/>
          </p:cNvCxnSpPr>
          <p:nvPr/>
        </p:nvCxnSpPr>
        <p:spPr>
          <a:xfrm rot="5400000">
            <a:off x="3917160" y="2531880"/>
            <a:ext cx="2160" cy="1932840"/>
          </a:xfrm>
          <a:prstGeom prst="curvedConnector5">
            <a:avLst>
              <a:gd name="adj1" fmla="val 29300000"/>
              <a:gd name="adj2" fmla="val 50000"/>
              <a:gd name="adj3" fmla="val 29300000"/>
            </a:avLst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 flipH="1" flipV="1">
            <a:off x="2361960" y="3733920"/>
            <a:ext cx="68580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24280" y="3733920"/>
            <a:ext cx="838440" cy="12952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plore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»: общая сх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8520" y="152388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Генеративн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4160" y="152388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ксплоративн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ы творческих стратег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тегия ро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ть с любой идеи и упорно работать над 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тегия «руководящей эмо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тёплое чувство правильного пути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Gord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холодок ошиб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тегия «проблемы-замести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мать о подобной проблеме из другой области и заимствовать идеи отт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мехи для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нити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сленная устан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ычные рам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во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иятие неоднозначных сит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ее д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тенч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о девяти круг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971800" y="2514600"/>
            <a:ext cx="2743200" cy="2438280"/>
            <a:chOff x="2971800" y="2514600"/>
            <a:chExt cx="2743200" cy="2438280"/>
          </a:xfrm>
        </p:grpSpPr>
        <p:sp>
          <p:nvSpPr>
            <p:cNvPr id="76" name=""/>
            <p:cNvSpPr/>
            <p:nvPr/>
          </p:nvSpPr>
          <p:spPr>
            <a:xfrm>
              <a:off x="2971800" y="358128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91120" y="3581280"/>
              <a:ext cx="30456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1120" y="4648320"/>
              <a:ext cx="30456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1800" y="4648320"/>
              <a:ext cx="30492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71800" y="251460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1120" y="2514600"/>
              <a:ext cx="30456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10080" y="251460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10080" y="358128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10080" y="4648320"/>
              <a:ext cx="30492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0" y="1066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черкнуть* каждый круг только один раз, не отрывая карандаш от бумаги, чертя только прямые линии, и используя наименьшее их количе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720" y="617220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колько линий получается у ва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486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- круг считается перечёркнутым если один раз линия в него входит и один раз линия из него выходи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971800" y="2819520"/>
            <a:ext cx="2743200" cy="2438280"/>
            <a:chOff x="2971800" y="2819520"/>
            <a:chExt cx="2743200" cy="2438280"/>
          </a:xfrm>
        </p:grpSpPr>
        <p:sp>
          <p:nvSpPr>
            <p:cNvPr id="89" name=""/>
            <p:cNvSpPr/>
            <p:nvPr/>
          </p:nvSpPr>
          <p:spPr>
            <a:xfrm>
              <a:off x="2971800" y="388620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91120" y="3886200"/>
              <a:ext cx="30456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91120" y="4953240"/>
              <a:ext cx="30456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71800" y="4953240"/>
              <a:ext cx="30492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81952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91120" y="2819520"/>
              <a:ext cx="30456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281952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10080" y="388620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10080" y="4953240"/>
              <a:ext cx="30492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flipV="1">
            <a:off x="3124080" y="297180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124080" y="2971800"/>
            <a:ext cx="2438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562720" y="297144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809520"/>
            <a:ext cx="0" cy="129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43040" y="51055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55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линий. Нетворческое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о девяти круг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971800" y="2819520"/>
            <a:ext cx="2743200" cy="2438280"/>
            <a:chOff x="2971800" y="2819520"/>
            <a:chExt cx="2743200" cy="2438280"/>
          </a:xfrm>
        </p:grpSpPr>
        <p:sp>
          <p:nvSpPr>
            <p:cNvPr id="106" name=""/>
            <p:cNvSpPr/>
            <p:nvPr/>
          </p:nvSpPr>
          <p:spPr>
            <a:xfrm>
              <a:off x="2971800" y="388620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91120" y="3886200"/>
              <a:ext cx="30456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91120" y="4953240"/>
              <a:ext cx="30456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4953240"/>
              <a:ext cx="30492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281952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2819520"/>
              <a:ext cx="30456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10080" y="281952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10080" y="388620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0080" y="4953240"/>
              <a:ext cx="30492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V="1">
            <a:off x="3124080" y="297180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123720" y="2971440"/>
            <a:ext cx="121932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274320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343400" y="297144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343040" y="2971440"/>
            <a:ext cx="121932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255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линий. Нетворческое 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о девяти круг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2971800" y="2819520"/>
            <a:ext cx="2743200" cy="2438280"/>
            <a:chOff x="2971800" y="2819520"/>
            <a:chExt cx="2743200" cy="2438280"/>
          </a:xfrm>
        </p:grpSpPr>
        <p:sp>
          <p:nvSpPr>
            <p:cNvPr id="123" name=""/>
            <p:cNvSpPr/>
            <p:nvPr/>
          </p:nvSpPr>
          <p:spPr>
            <a:xfrm>
              <a:off x="2971800" y="388620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91120" y="3886200"/>
              <a:ext cx="30456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1120" y="4953240"/>
              <a:ext cx="30456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4953240"/>
              <a:ext cx="30492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281952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91120" y="2819520"/>
              <a:ext cx="30456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0080" y="281952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0080" y="3886200"/>
              <a:ext cx="304920" cy="30492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0080" y="4953240"/>
              <a:ext cx="304920" cy="304560"/>
            </a:xfrm>
            <a:prstGeom prst="ellipse">
              <a:avLst/>
            </a:prstGeom>
            <a:solidFill>
              <a:srgbClr val="cc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 flipV="1">
            <a:off x="3124080" y="190512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124080" y="1905120"/>
            <a:ext cx="365760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2819520"/>
            <a:ext cx="259092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14800" y="5105520"/>
            <a:ext cx="2666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255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ворческое решение. 4 ли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о девяти круг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6172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Выход за рам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22464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нимание, сознательный контрол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нимание отвечает з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бор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ечение избыточн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д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ительная концент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недостающих све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ение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за одновременным выполнением несколь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2703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ворческое мыш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ереотип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Безумный г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ли эмпирические подтверждения этого стереоти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они есть, то «безумность» – следствие или необходимое условие творчест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нные интроспе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hiselin, Rompel &amp; Taylor (19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ашивали </a:t>
            </a: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креатив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менее креативн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учных рабо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непосредственно перед «озарени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рассеянное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«блуждающее»,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естаби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концентрирова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зу после «озар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спокойное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вним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напряжё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доработки и уточнения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ясное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напряжё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рассе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еримент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delsohn &amp; Griswold (196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ников разделили на группы с высокой и низкой креативн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начала они запоминали список слов, уровень запоминания проверя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том решали ан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упраг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тнеду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ые из запоминавшихся вначале слов были решениями ана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руппа студ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ативные испытуемые решиили больше ана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эффект не был связан с эффективностью запоми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ативные люди бессознательно запоминали и использовали список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delsohn &amp; Griswold (1964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уги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лучайны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и в окружающе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из этих звуков помогали решить  ана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ативные испытуемые могли использовать эти «случайные» стимулы для решения ана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297180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ория Мендельсо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спользование аллюзий («подсказок»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учайные стимулы могут служить «подсказкам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того чтобы замечать такие «подсказки» нужно особое состояние вним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нимание некоторых людей особенно рассеянно и легко отвлекатс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ие люди легче замечают «подсказк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этому они наиболее креатив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итика теории Мендельс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и задания были просты и не требовали какого-либо творчест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ыводы делались о механизмах твор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тог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результаты оказалось трудно повтор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при использовании других критериев креатив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oborz (2003)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теории Мендельсона и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Geneplore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 геометрические фиг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делайте что-нибудь с этими фигура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Генеративная ф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бъясните, что Вы сдела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Эксплоративная ф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й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давались во время первой или второй фа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учайные слова как «подсказ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«подсказ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генеративной ф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Н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</a:t>
            </a:r>
            <a:r>
              <a:rPr b="0" lang="ru-RU" sz="2800" spc="-1" strike="noStrike">
                <a:solidFill>
                  <a:srgbClr val="3333cc"/>
                </a:solidFill>
                <a:latin typeface="Arial"/>
              </a:rPr>
              <a:t>эксплоративной фа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нами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лективного внимания во время твор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roborz (2003)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ка теории Мендельсона и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е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«Geneplore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asof (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осник «Широта вним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щущаете ли Вы текстуру своей одежды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жете ли Вы читать, когда вокруг Вас летает и жужжит мух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ы положительные, хотя и слабые корреляции между креативностью и широтой вним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asof (199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Белый шум» во время решения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величивает уровень неспецифического возб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ужает»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Белый шум» меш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 испытуемым с высокой креативностью (по теста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сти и цели твор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н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стет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о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ус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гмат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зн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wlings (198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хотическое прослушив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ал, к которому привлекалось внимание (подавался структурированный материа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норировавшийся ка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ные слова были в игнорировавшемся кана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лось узнавание контроль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ффективность «фильтра внимания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я узнанных контрольных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ильтр внимания» слабе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реативных испытуемых и у испытуемых с повышенным уровнем психот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Гипотеза «утечки вним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дача на разделение вним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133720"/>
            <a:ext cx="3809880" cy="350496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                                           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286000"/>
            <a:ext cx="533520" cy="3124080"/>
          </a:xfrm>
          <a:prstGeom prst="rect">
            <a:avLst/>
          </a:prstGeom>
          <a:solidFill>
            <a:srgbClr val="99cc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2209680"/>
            <a:ext cx="533520" cy="3124440"/>
          </a:xfrm>
          <a:prstGeom prst="rect">
            <a:avLst/>
          </a:prstGeom>
          <a:solidFill>
            <a:srgbClr val="99cc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581280"/>
            <a:ext cx="53316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200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ęcka (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ęcka (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702000" y="3214080"/>
            <a:ext cx="302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ремя реакци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ом задании, м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91440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1523880"/>
          <a:ext cx="70866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086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Разделение энерг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ключ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а переклю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лечение вним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ичное задание забирает часть ресурсов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7632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ęcka (199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8380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ость связана с более слабым когнитивным («сверху вниз») торможением раннего «автоматического» внимания (например в тесте Струп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ость положительно коррелирует с симптомами синдрома гиперактивности и пониженного вни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3808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кже показано, ч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ю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творчеству (креативность) связана с меньшей эффективностью селективного вним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.е. стереотип о «безумном гении» частично подтверждается результатами исследова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яснение «сверху вниз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еативность ухудшает в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яснение «снизу ввер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течка внимания» облегчает поиск креативны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днозначных данных в пользу того или другого объяснения нет. Скорее всего здесь работает «кольцевая причинност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04920" y="22464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орческое мышление и 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ять «контркреативна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ь хранит старое зн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место того, чтобы создавать новые элемент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а мешает вообра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мы знаем также чт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ь продуктив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ь – основа мыш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цессы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в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дирование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тентная ф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фере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орган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ы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вл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дсказ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орческое мышление и латентная ф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нтанная реорган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резентация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поми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упорядо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итерий творческого проду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кий результат должен бы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ы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инимум подходящ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ворческие результа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е, но бесполез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ценность может быть не всегда понятна сразу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ые, но лишённые новиз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полезные и лишённые новиз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Озарение» (инсайт) как явление, связанное с памя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рактеристики инсай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жида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тастрофическое» изме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определ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репрезентации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п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беспомощности (до инсай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задача про муравьё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узкая* линейка длин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уравьёв бегают вдоль по линейке вправо или влево, со скоростью 1 см/с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муравей встречает другого муравья, оба меняют направление движения на противополож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муравей доходит до края, он падает с лине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о наибольшее время, после которого все муравьи упадут с линей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гда ли «озарение» - творческо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бязатель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«Дошла» ш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ришло понимание чьей-либо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«Личные» инсай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ожиданность инсай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 пред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tcal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близко Вы к решени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не могли отве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ерывн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кретность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ые «ска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stcot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на угадывание элементов последовательност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4 5 3 6 2 7 1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омные различия как между испытуемыми, так и между задачами у того же испыту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сознаваемая обработ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wers et 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играммы из тес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association te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ообщите найденное Вами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Если не можете решить, предположите, решается ли триграмма в принцип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ди предполагали значительно точнее, чем если бы просто случайно угадыв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были субъективно уверены в своих отве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Инкубация реш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сай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ка – Инкубация – Озарение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роисходит во время «инкубации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сознаваемое мышл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олнение энерг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ранение «блоков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«подсказок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шение задачи про муравь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удьте об индивидуальных муравь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два муравья встречаются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ют направление на противоположное, то ес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ичего не меня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м же не нужно отвечать про время для конкретного муравь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ожно считать что каждый муравей просто ползёт от того места, где он находился, до какого-то из краёв линей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ое расстояние – 200 см, скорост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см/сек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альное время – 200 секун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из вариантов – реструктурирование пробл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0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5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творческое решение задач бывает трудны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тключение доступа» к старой репрезентации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новой ре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презент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ой или нов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этих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и втор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огут быть очень сложны (но при этом плохо осознают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 тривиа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«озарение» воспринимается как неожида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imon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еория научного ин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ость научны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по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ные возможности рабочей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ическое чис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е фазы решения научной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с пробл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 попы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ые категоризуются по группам на основании каких-либо призна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елективное заб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ы, которые не могут быть категоризованы, забы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жиданно оказывается, что рабочей памяти начинает хвата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ативность как свойство лич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итарный подх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иа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ыш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ие дости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галитарный подх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о чер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кой-то мере к нему способен кажд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ith: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ажно быть забывчи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ытуемым давались трудные головолом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локеры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кубационный переры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т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длиннее был переры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ем меньшее число ложных подсказок вспомин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ем большее число головоломок реша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ативность и семантическая памят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ychlic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ы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лизких» друг к другу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п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уд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– «далёких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. лягушка – самолё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Эти слова связаны друг с другом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ативные испытуем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ленн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ытуемые с высок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Q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ло ответов «Да» в зависимости от «удалённости» ассоциаций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ychlick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14400" y="1276200"/>
          <a:ext cx="678168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76200"/>
                    <a:ext cx="67816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rot="16200000">
            <a:off x="-67320" y="3879360"/>
            <a:ext cx="2332440" cy="368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о ответов «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9760" y="6019920"/>
            <a:ext cx="219384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70320" y="6019920"/>
            <a:ext cx="216036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5715000"/>
            <a:ext cx="609480" cy="45720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720" y="563868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лё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9080" y="58672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из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440" y="541008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ссоци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990720" y="1504800"/>
          <a:ext cx="6629400" cy="497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04800"/>
                    <a:ext cx="6629400" cy="49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ремя реакци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ychlicka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755720" y="6172200"/>
            <a:ext cx="219384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46640" y="6172200"/>
            <a:ext cx="216036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5867280"/>
            <a:ext cx="609480" cy="45720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2400" y="579132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лё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782760" y="6019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лиз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7480" y="5562720"/>
            <a:ext cx="12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ссоциаци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733920"/>
            <a:ext cx="609480" cy="45720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-70560" y="3804120"/>
            <a:ext cx="2643480" cy="368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реакции, секу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пре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тевая модель семантической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ация уз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остранение актив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реативные мозги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и более слож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ация угасает медлен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ативность и семантический праймин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ruszka &amp; Nęc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й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ан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ыс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о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вязан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йтраль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ёкие по смыслу слова или псевдо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ы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лё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между ними связ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9051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5880" y="1905120"/>
            <a:ext cx="1981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0481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3048120"/>
            <a:ext cx="1981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434340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ег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4343400"/>
            <a:ext cx="1981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55627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рю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5562720"/>
            <a:ext cx="1981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905120"/>
            <a:ext cx="1981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3048120"/>
            <a:ext cx="1981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4343400"/>
            <a:ext cx="1981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5562720"/>
            <a:ext cx="1981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75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75"/>
                            </p:stCondLst>
                            <p:childTnLst>
                              <p:par>
                                <p:cTn id="8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75"/>
                            </p:stCondLst>
                            <p:childTnLst>
                              <p:par>
                                <p:cTn id="805" nodeType="afterEffect" fill="hold" presetClass="entr" presetID="1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65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150"/>
                            </p:stCondLst>
                            <p:childTnLst>
                              <p:par>
                                <p:cTn id="8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3650"/>
                            </p:stCondLst>
                            <p:childTnLst>
                              <p:par>
                                <p:cTn id="81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725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225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6725"/>
                            </p:stCondLst>
                            <p:childTnLst>
                              <p:par>
                                <p:cTn id="82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78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3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19051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5880" y="1905120"/>
            <a:ext cx="1981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30481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3048120"/>
            <a:ext cx="1981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76720" y="434340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ег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95880" y="4343400"/>
            <a:ext cx="1981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76720" y="55627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рю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5562720"/>
            <a:ext cx="19814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905120"/>
            <a:ext cx="1981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3048120"/>
            <a:ext cx="1981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343400"/>
            <a:ext cx="1981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5562720"/>
            <a:ext cx="198108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яг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uszka &amp; Nęcka (2001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йминг помог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е вс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итивные праймеры стимулир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ие близких ассоци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ыми испытуем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йтральные праймеры стимулир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наружение далёких ассоци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же у креати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лизкие ассоци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219320" y="1295280"/>
          <a:ext cx="693396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95280"/>
                    <a:ext cx="693396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 rot="16200000">
            <a:off x="313200" y="3727080"/>
            <a:ext cx="2332440" cy="368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о ответов «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60640" y="6172200"/>
            <a:ext cx="219384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70320" y="6172200"/>
            <a:ext cx="216036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5867280"/>
            <a:ext cx="1067040" cy="45720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07160" y="57913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05000" y="601992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йтр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8200" y="556272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йме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тенциальная креати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без шедев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имптомы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знательност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ое поведение,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оциации из далёких об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онение поверхностных объяс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ное 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аналогий и метаф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лёкие ассоци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914400" y="1181160"/>
          <a:ext cx="6705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81160"/>
                    <a:ext cx="6705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 rot="16200000">
            <a:off x="-67320" y="3574800"/>
            <a:ext cx="2332440" cy="368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о ответов «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7120" y="5867280"/>
            <a:ext cx="219384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13120" y="5867280"/>
            <a:ext cx="216036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5562720"/>
            <a:ext cx="1066680" cy="45720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73640" y="55627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71480" y="5715000"/>
            <a:ext cx="12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йтр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44680" y="525780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ймер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ремя реакци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лёкие ассоциаци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09480" y="1519200"/>
          <a:ext cx="7925040" cy="50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19200"/>
                    <a:ext cx="7925040" cy="50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rot="16200000">
            <a:off x="-1171800" y="3763800"/>
            <a:ext cx="4083840" cy="368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реакции при ответе «Да», с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03440" y="6172200"/>
            <a:ext cx="219384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18040" y="6172200"/>
            <a:ext cx="216036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5181480"/>
            <a:ext cx="1066680" cy="12956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43200" y="5105520"/>
            <a:ext cx="99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итив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243560" y="571500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йтраль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84200" y="4826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й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ремя реакции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лёкие ассоциаци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33520" y="1752480"/>
          <a:ext cx="74674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74674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 rot="16200000">
            <a:off x="-1303200" y="3935520"/>
            <a:ext cx="4197960" cy="368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реакции при ответе «Нет», с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7120" y="6172200"/>
            <a:ext cx="219384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н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65760" y="6172200"/>
            <a:ext cx="2160360" cy="296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е кре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5181480"/>
            <a:ext cx="1066680" cy="12956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62320" y="5105520"/>
            <a:ext cx="99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итив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62680" y="5715000"/>
            <a:ext cx="112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йтраль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403320" y="480060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йме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гнитивная интерпре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антический прайминг специфических уз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тивные праймеры, близкие ассо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й уровень активации всей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йтральные праймеры, далёкие ассоци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орческие личности характеризуются тем, что их семантическая се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олее слож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Более подвержена общей, неспецифической актив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щ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ация может достичь любого узла сети, это только вопрос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мпирический фак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 реакции креативных испытуемых было д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и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ые люди могут дольше жд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 они легче переносят временное отсутствие успе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о строго говоря, эксперимент это не показыва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тивационная интерпре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еативность и имплицитная пам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лицитная пам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сознаваем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намерен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портунистическая гипот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е люди часто стремятся узнать побольш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больше чем непосредственно необходим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делают это чтобы использовать свои знания в неожиданных ситуац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их можно назв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огнитивными оппортунист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твержд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но не доказательство!)</a:t>
            </a:r>
            <a:br>
              <a:rPr sz="36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ęcka &amp; Kałwa (2001)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ировалось 48 предло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оверхност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осчитайте число грамматических ошиб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глубок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вляется ли это предложение точным по смыслу пересказом …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е предло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узна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тарые» 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овые» предлож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/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ęcka &amp; Kałwa (2001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Результ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371600" y="838080"/>
          <a:ext cx="6553080" cy="49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838080"/>
                    <a:ext cx="655308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начимые различия между испытуемыми с гибким и негибким стилями мышления выявлены только для предложений, анализировавшихся на поверхност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14400" y="3111120"/>
            <a:ext cx="3082320" cy="368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исло правильных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08480" y="5486400"/>
            <a:ext cx="2715120" cy="24372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гибкий стиль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238880" y="4800600"/>
            <a:ext cx="609840" cy="8380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6560" y="44197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бот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8000" y="5486400"/>
            <a:ext cx="2491200" cy="24372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ибкий стиль мыш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34320" y="5029200"/>
            <a:ext cx="609480" cy="15228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34320" y="5410080"/>
            <a:ext cx="609480" cy="152640"/>
          </a:xfrm>
          <a:prstGeom prst="rect">
            <a:avLst/>
          </a:prstGeom>
          <a:solidFill>
            <a:srgbClr val="fff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86240" y="4648320"/>
            <a:ext cx="84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верх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ст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86960" y="51814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лубо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ключительное замеч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ь важна для нашего творчества, поэтому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ужно помнить об использовании неосознаваемой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при э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 забывать о селективном забы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04920" y="1795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тоды увеличения творческого потенц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вни твор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Текущее»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ция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Кристаллизованное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проблемы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жение ц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елое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важ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ни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даменталь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дигмаль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а под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чностно-ориентир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нировки креа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Ментальная гимнаст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но-ориентир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и решения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ренировка креативности</a:t>
            </a:r>
            <a:br>
              <a:rPr sz="36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ęcka, 1989-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еативность – это черта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не абсолютно стабиль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креатив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какой-то степ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Текущая» креатив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ристаллизованная» креа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тренируетс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личностные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перация, умение слушать, творческая кр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нитивные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социации, манипуляции с идеями, аналогии, дедукция, метаф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знательность, внутренняя мотивация, потребность в саморазвитии, само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одоление «препятств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«внутренних препятствий», изучение того, как другие люди с ними справляются, упражнения в «безопасной» искусственной об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орческая кри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нравится эта идея потому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ещё может быть сделан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Мозговой штур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зовые предположе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ция идей и критическое мыш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ы 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они находятся в конфлик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 если пытаться их использовать одноврем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 отсроченного су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ссия мозгового шту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Зелё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ция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вободный х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расный 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и дораб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cc33"/>
                </a:solidFill>
                <a:latin typeface="Arial"/>
              </a:rPr>
              <a:t>Правила фазы зелёного цв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 больше идей, тем луч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важнее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должения приветству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риации мозгового штур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ая фор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начала идеи, потом их 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а генерирует идеи, другая их оценив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яются рол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руппы как творческ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убая си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образ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одуше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рупповое мышл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есте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та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ет ли мозговой штур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ва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ьные группы, в которых работали по од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ьные группы, разбитые на номинальные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 реальн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ет, но не для любых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ценка уровня креативнос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лицитные кри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й высоких дост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о как измерить оригинальность композитор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ы Гилфор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ычное использование обычных вещ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ирп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тл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вообразить послед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было бы есл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юди были трёхру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ы должны были бы платить за смех … …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ие задачи хороши для м.ш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ого 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лучшение проду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новых возмож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специф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тод: Синесте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ть необычное знаком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нимание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ть знакомое необыч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нипуляция с пробле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это можно сделат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 ана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рламент как психиатрическая боль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мволическая ана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афорическое поним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нтазийная ана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представляю как проблема решает себя с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сональная ана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ы я себя ощущал если бы бы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..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алидной коляск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овым телефоном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и аналоги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рукти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навяза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спонт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ет в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о креативны сами по себ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ума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докс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нтальная экскур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ыть изначальную пробл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умать об аналоги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аналогичную пробл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нести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ботают ли эти методы вообщ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широко используютс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за них платя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что, скорее д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Мозговой штурм популярен потому что все думают, что он работает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ычное код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 2  9  10  0  1  5  7  3  4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крес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еде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ят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б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тве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енсусный подх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укт или поведение будут считаться творческими если должным образом выбранные наблюдатели с этим соглася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моциональный критер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ru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й подход к работе, или его результат вызывают «эффективное удивле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ценка уровня креативности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плицитные кри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urosoft</cp:lastModifiedBy>
  <dcterms:modified xsi:type="dcterms:W3CDTF">2009-11-21T06:03:33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