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59.png" ContentType="image/pn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3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7.jpeg" ContentType="image/jpeg"/>
  <Override PartName="/ppt/media/image50.jpeg" ContentType="image/jpeg"/>
  <Override PartName="/ppt/media/image52.png" ContentType="image/png"/>
  <Override PartName="/ppt/media/image6.jpeg" ContentType="image/jpeg"/>
  <Override PartName="/ppt/media/image41.png" ContentType="image/png"/>
  <Override PartName="/ppt/media/image45.png" ContentType="image/png"/>
  <Override PartName="/ppt/media/image33.jpeg" ContentType="image/jpeg"/>
  <Override PartName="/ppt/media/image48.png" ContentType="image/png"/>
  <Override PartName="/ppt/media/image37.jpeg" ContentType="image/jpeg"/>
  <Override PartName="/ppt/media/image38.jpeg" ContentType="image/jpeg"/>
  <Override PartName="/ppt/media/image49.jpeg" ContentType="image/jpeg"/>
  <Override PartName="/ppt/media/image54.png" ContentType="image/png"/>
  <Override PartName="/ppt/media/image47.jpeg" ContentType="image/jpeg"/>
  <Override PartName="/ppt/media/image55.png" ContentType="image/png"/>
  <Override PartName="/ppt/media/image56.png" ContentType="image/png"/>
  <Override PartName="/ppt/media/image46.png" ContentType="image/png"/>
  <Override PartName="/ppt/media/image58.png" ContentType="image/png"/>
  <Override PartName="/ppt/media/image57.png" ContentType="image/png"/>
  <Override PartName="/ppt/media/image36.jpeg" ContentType="image/jpeg"/>
  <Override PartName="/ppt/media/image11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8.png" ContentType="image/png"/>
  <Override PartName="/ppt/media/image3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BF06-A5C5-400A-B831-BCDC246912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713B-257D-4595-AF3B-22F17ABA1D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1454-DE27-466F-AF99-2C51667725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25B2-FF72-461C-8BAF-EAACEF0B2E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11E3-E918-4F86-9BF2-11E799557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+ ? +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рина с 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et et al. Renewal of the Neurophysiology of Language: Functional Neuroimaging. Physiol Rev 85:49-95,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рина Yazik2006Phy.ppt (по Byrne,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902-5EFF-4EAA-8B8A-2F279F4B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6BB5-17F9-40EA-B769-8FBECC86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394-1D34-4CCA-8CF8-F4B6371F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F31-A108-4C18-B8B9-B8E8043C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777-4FAA-42CB-978C-0B95EE93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D5F-770E-4F69-9341-77A698DC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947-BB77-44FA-B7DB-3D2A6779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B72-B5B5-4FC6-93A8-0F1C9844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C02-F641-4634-9308-6AF34AC7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4F7-A967-4A2A-B22E-C5AEADA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598-D6BC-4CDE-AD79-C154512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0D1-E7F9-4B0C-BC79-2A41BB4B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BFCD-5629-42E1-ACD0-4B18AD940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images.google.ru/imgres?imgurl=http://www.primatesworld.com/images/WashoeSm3.JPG&amp;imgrefurl=http://www.primatesworld.com/&amp;h=218&amp;w=201&amp;sz=9&amp;tbnid=UrEcTjHhN0EJ:&amp;tbnh=102&amp;tbnw=94&amp;hl=ru&amp;start=1&amp;prev=/images%3Fq%3Dchimpanzee%2Bgardner%26hl%3Dru%26lr%3D%26sa%3D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image" Target="../media/image33.jpeg"/><Relationship Id="rId14" Type="http://schemas.openxmlformats.org/officeDocument/2006/relationships/image" Target="../media/image34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9414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зык и реч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ндивидуальное развитие, эволюция, гене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со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6324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аденцы многое знают про язык задолго до того как произнесут первые слов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ы показали что уже на эмбриональном этапе плод оказывается чувствительным 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одии, то есть ритму, темпу, мелодике и интонациям реч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следовательно и к языку на котором разговаривает его м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нно различия в просодии в значительной степени определяют почему разные языки звучат так по-разному, и почему речь говорящих на одном языке тоже может так сильно отличать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705720" y="1447920"/>
            <a:ext cx="22003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2398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нетические основы языков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enes influence rea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y influence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genes used in other abilities, like language, or face recogn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eriod is neural growth influ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recognition, if neural growth can be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51"/>
          <p:cNvGrpSpPr/>
          <p:nvPr/>
        </p:nvGrpSpPr>
        <p:grpSpPr>
          <a:xfrm>
            <a:off x="0" y="1698480"/>
            <a:ext cx="8772480" cy="4402440"/>
            <a:chOff x="0" y="1698480"/>
            <a:chExt cx="8772480" cy="4402440"/>
          </a:xfrm>
        </p:grpSpPr>
        <p:grpSp>
          <p:nvGrpSpPr>
            <p:cNvPr id="273" name="Group 47"/>
            <p:cNvGrpSpPr/>
            <p:nvPr/>
          </p:nvGrpSpPr>
          <p:grpSpPr>
            <a:xfrm>
              <a:off x="0" y="1698480"/>
              <a:ext cx="8572680" cy="4402440"/>
              <a:chOff x="0" y="1698480"/>
              <a:chExt cx="8572680" cy="4402440"/>
            </a:xfrm>
          </p:grpSpPr>
          <p:pic>
            <p:nvPicPr>
              <p:cNvPr id="274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698480"/>
                <a:ext cx="8572680" cy="44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Rectangle 7"/>
              <p:cNvSpPr/>
              <p:nvPr/>
            </p:nvSpPr>
            <p:spPr>
              <a:xfrm>
                <a:off x="170280" y="1794600"/>
                <a:ext cx="98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34-p36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8"/>
              <p:cNvSpPr/>
              <p:nvPr/>
            </p:nvSpPr>
            <p:spPr>
              <a:xfrm>
                <a:off x="1016640" y="213120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1-p16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9"/>
              <p:cNvSpPr/>
              <p:nvPr/>
            </p:nvSpPr>
            <p:spPr>
              <a:xfrm>
                <a:off x="1072080" y="2267640"/>
                <a:ext cx="0" cy="2386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10"/>
              <p:cNvSpPr/>
              <p:nvPr/>
            </p:nvSpPr>
            <p:spPr>
              <a:xfrm>
                <a:off x="1746000" y="2707920"/>
                <a:ext cx="0" cy="2404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11"/>
              <p:cNvSpPr/>
              <p:nvPr/>
            </p:nvSpPr>
            <p:spPr>
              <a:xfrm>
                <a:off x="399600" y="1938960"/>
                <a:ext cx="0" cy="2584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2"/>
              <p:cNvSpPr/>
              <p:nvPr/>
            </p:nvSpPr>
            <p:spPr>
              <a:xfrm>
                <a:off x="1680840" y="257580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2-q13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3"/>
              <p:cNvSpPr/>
              <p:nvPr/>
            </p:nvSpPr>
            <p:spPr>
              <a:xfrm>
                <a:off x="343080" y="192780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4"/>
              <p:cNvSpPr/>
              <p:nvPr/>
            </p:nvSpPr>
            <p:spPr>
              <a:xfrm>
                <a:off x="1028160" y="224892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15"/>
              <p:cNvSpPr/>
              <p:nvPr/>
            </p:nvSpPr>
            <p:spPr>
              <a:xfrm>
                <a:off x="1700640" y="269244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16"/>
              <p:cNvSpPr/>
              <p:nvPr/>
            </p:nvSpPr>
            <p:spPr>
              <a:xfrm>
                <a:off x="3501360" y="2379240"/>
                <a:ext cx="98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21.3-p2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7"/>
              <p:cNvSpPr/>
              <p:nvPr/>
            </p:nvSpPr>
            <p:spPr>
              <a:xfrm>
                <a:off x="3652560" y="298404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q13-q16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8"/>
              <p:cNvSpPr/>
              <p:nvPr/>
            </p:nvSpPr>
            <p:spPr>
              <a:xfrm>
                <a:off x="7060680" y="2535840"/>
                <a:ext cx="42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5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9"/>
              <p:cNvSpPr/>
              <p:nvPr/>
            </p:nvSpPr>
            <p:spPr>
              <a:xfrm>
                <a:off x="802440" y="5275800"/>
                <a:ext cx="98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q15-q21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20"/>
              <p:cNvSpPr/>
              <p:nvPr/>
            </p:nvSpPr>
            <p:spPr>
              <a:xfrm>
                <a:off x="3064320" y="4847760"/>
                <a:ext cx="42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1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21"/>
              <p:cNvSpPr/>
              <p:nvPr/>
            </p:nvSpPr>
            <p:spPr>
              <a:xfrm>
                <a:off x="6377760" y="5517720"/>
                <a:ext cx="50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q27.3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22"/>
              <p:cNvSpPr/>
              <p:nvPr/>
            </p:nvSpPr>
            <p:spPr>
              <a:xfrm>
                <a:off x="3745440" y="2540520"/>
                <a:ext cx="0" cy="1872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3"/>
              <p:cNvSpPr/>
              <p:nvPr/>
            </p:nvSpPr>
            <p:spPr>
              <a:xfrm>
                <a:off x="3690360" y="250452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24"/>
              <p:cNvSpPr/>
              <p:nvPr/>
            </p:nvSpPr>
            <p:spPr>
              <a:xfrm>
                <a:off x="3737880" y="2847600"/>
                <a:ext cx="0" cy="1875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25"/>
              <p:cNvSpPr/>
              <p:nvPr/>
            </p:nvSpPr>
            <p:spPr>
              <a:xfrm>
                <a:off x="3682080" y="281196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28"/>
              <p:cNvSpPr/>
              <p:nvPr/>
            </p:nvSpPr>
            <p:spPr>
              <a:xfrm>
                <a:off x="7056720" y="2678400"/>
                <a:ext cx="0" cy="1875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29"/>
              <p:cNvSpPr/>
              <p:nvPr/>
            </p:nvSpPr>
            <p:spPr>
              <a:xfrm>
                <a:off x="7002000" y="264276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0"/>
              <p:cNvSpPr/>
              <p:nvPr/>
            </p:nvSpPr>
            <p:spPr>
              <a:xfrm>
                <a:off x="1067760" y="5122080"/>
                <a:ext cx="0" cy="1875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31"/>
              <p:cNvSpPr/>
              <p:nvPr/>
            </p:nvSpPr>
            <p:spPr>
              <a:xfrm>
                <a:off x="1012680" y="508680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33"/>
              <p:cNvSpPr/>
              <p:nvPr/>
            </p:nvSpPr>
            <p:spPr>
              <a:xfrm>
                <a:off x="3008160" y="494064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36"/>
              <p:cNvSpPr/>
              <p:nvPr/>
            </p:nvSpPr>
            <p:spPr>
              <a:xfrm>
                <a:off x="6400800" y="5449320"/>
                <a:ext cx="0" cy="6984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37"/>
              <p:cNvSpPr/>
              <p:nvPr/>
            </p:nvSpPr>
            <p:spPr>
              <a:xfrm>
                <a:off x="6344640" y="536400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38"/>
              <p:cNvSpPr/>
              <p:nvPr/>
            </p:nvSpPr>
            <p:spPr>
              <a:xfrm>
                <a:off x="3050280" y="5044680"/>
                <a:ext cx="0" cy="694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49"/>
            <p:cNvSpPr/>
            <p:nvPr/>
          </p:nvSpPr>
          <p:spPr>
            <a:xfrm>
              <a:off x="8391600" y="3000240"/>
              <a:ext cx="0" cy="1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0"/>
            <p:cNvSpPr/>
            <p:nvPr/>
          </p:nvSpPr>
          <p:spPr>
            <a:xfrm>
              <a:off x="8344080" y="29527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8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q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inkage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yslexia Susceptibility Lo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5"/>
          <p:cNvSpPr/>
          <p:nvPr/>
        </p:nvSpPr>
        <p:spPr>
          <a:xfrm flipV="1">
            <a:off x="3889440" y="1817640"/>
            <a:ext cx="258840" cy="51768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6"/>
          <p:cNvSpPr/>
          <p:nvPr/>
        </p:nvSpPr>
        <p:spPr>
          <a:xfrm flipV="1">
            <a:off x="1892160" y="1607760"/>
            <a:ext cx="322560" cy="9572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8"/>
          <p:cNvSpPr/>
          <p:nvPr/>
        </p:nvSpPr>
        <p:spPr>
          <a:xfrm flipV="1">
            <a:off x="1236600" y="4766760"/>
            <a:ext cx="46080" cy="27972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833400" y="4129200"/>
            <a:ext cx="66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YX1C1 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yslexia susceptibility 1 candid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2"/>
          <p:cNvSpPr/>
          <p:nvPr/>
        </p:nvSpPr>
        <p:spPr>
          <a:xfrm>
            <a:off x="4071960" y="1619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DCDC2 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oublecorti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KIAA03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3"/>
          <p:cNvSpPr/>
          <p:nvPr/>
        </p:nvSpPr>
        <p:spPr>
          <a:xfrm>
            <a:off x="1836720" y="11685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OBO1 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ound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en Genes fo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p34-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igorenko et al., 2001; Rabin et al., 1993; Tzenova et al., 2004 ; Bates et al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pman et al., 2004; Fagerheim, 1999; Francks et al., 2002; Kaminen et al., 2003; Petryshen, et al., 2002 ; Bates et al, 200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q2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askind et al. 2005 ; Bates et al, 2007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12-q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pola-Hemmi et al., 2001; Taipale et al., 2003 ; Bates et al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p23-2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don et al., 1994; Fisher et al., 1999; Gayan et al., 1999; Grigorenko et al., 1997; Kaplan et al., 2002a; Chapman et al., 2004; Turic et al., 2003; Luciano, et al. 2007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q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etryshen et al., 2001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q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Kaminen et al., 2003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p1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siung, Kaplan, Petryshen, Lu, &amp; Field, 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q2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rigorenko et al., 1997; Morris et al., 2000; Nopola-Hemmi et al., 2000; Nothen et al., 1999; Schulte-Körne et al., 1998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p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hapman et al., 2004; Fisher et al., 2002; Marlow et al., 2003; Bates et al, 2007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q2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e Kovel et al., 2004; Fisher et al., 2002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X1C1 and DCD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Content Placeholder 42" descr="Picture 1.png"/>
          <p:cNvPicPr/>
          <p:nvPr/>
        </p:nvPicPr>
        <p:blipFill>
          <a:blip r:embed="rId1"/>
          <a:stretch/>
        </p:blipFill>
        <p:spPr>
          <a:xfrm>
            <a:off x="414360" y="5040360"/>
            <a:ext cx="7556400" cy="1252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3" descr="Picture 2.png"/>
          <p:cNvPicPr/>
          <p:nvPr/>
        </p:nvPicPr>
        <p:blipFill>
          <a:blip r:embed="rId2"/>
          <a:stretch/>
        </p:blipFill>
        <p:spPr>
          <a:xfrm>
            <a:off x="457200" y="1417680"/>
            <a:ext cx="5524560" cy="33782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4"/>
          <p:cNvSpPr/>
          <p:nvPr/>
        </p:nvSpPr>
        <p:spPr>
          <a:xfrm>
            <a:off x="5981760" y="1811160"/>
            <a:ext cx="18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cchini and Monaco,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brain that ca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the growth of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al Proliferation/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CDC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pe et al. 2005; Bates et a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IAA03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pe et al. 2005, Luciano et a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X1C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ates et a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s Crossing the mi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BO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Hanula-Jouppi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IAA0319; DCDC2; DYX1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466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inked to neuronal mig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Turco 2007; Wang et al, 2006; Schumacher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3" descr="migration.png"/>
          <p:cNvPicPr/>
          <p:nvPr/>
        </p:nvPicPr>
        <p:blipFill>
          <a:blip r:embed="rId1"/>
          <a:stretch/>
        </p:blipFill>
        <p:spPr>
          <a:xfrm>
            <a:off x="576360" y="3271680"/>
            <a:ext cx="765180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for Norm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39 twins, siblings and parents (768 famil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1% male; 98% Caucasian (~82% Anglo-Cel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Reading Examination (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reading and spelling tests of regular, irregular (e.g., yacht) and non-word (e.g., torlep)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es et al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association of normal rea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DC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X1C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AA03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26"/>
          <p:cNvGrpSpPr/>
          <p:nvPr/>
        </p:nvGrpSpPr>
        <p:grpSpPr>
          <a:xfrm>
            <a:off x="299880" y="192240"/>
            <a:ext cx="7691400" cy="6353280"/>
            <a:chOff x="299880" y="192240"/>
            <a:chExt cx="7691400" cy="6353280"/>
          </a:xfrm>
        </p:grpSpPr>
        <p:pic>
          <p:nvPicPr>
            <p:cNvPr id="326" name="Picture 4" descr=""/>
            <p:cNvPicPr/>
            <p:nvPr/>
          </p:nvPicPr>
          <p:blipFill>
            <a:blip r:embed="rId1"/>
            <a:stretch/>
          </p:blipFill>
          <p:spPr>
            <a:xfrm>
              <a:off x="299880" y="793800"/>
              <a:ext cx="7691400" cy="53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3759120" y="774720"/>
              <a:ext cx="628560" cy="540180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8"/>
            <p:cNvGrpSpPr/>
            <p:nvPr/>
          </p:nvGrpSpPr>
          <p:grpSpPr>
            <a:xfrm>
              <a:off x="5340240" y="192240"/>
              <a:ext cx="2638440" cy="5983200"/>
              <a:chOff x="5340240" y="192240"/>
              <a:chExt cx="2638440" cy="5983200"/>
            </a:xfrm>
          </p:grpSpPr>
          <p:sp>
            <p:nvSpPr>
              <p:cNvPr id="329" name="Rectangle 9"/>
              <p:cNvSpPr/>
              <p:nvPr/>
            </p:nvSpPr>
            <p:spPr>
              <a:xfrm>
                <a:off x="5521320" y="774720"/>
                <a:ext cx="2457360" cy="540072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10"/>
              <p:cNvSpPr/>
              <p:nvPr/>
            </p:nvSpPr>
            <p:spPr>
              <a:xfrm>
                <a:off x="5340240" y="192240"/>
                <a:ext cx="24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Other studi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" name="Picture 17" descr=""/>
            <p:cNvPicPr/>
            <p:nvPr/>
          </p:nvPicPr>
          <p:blipFill>
            <a:blip r:embed="rId2"/>
            <a:stretch/>
          </p:blipFill>
          <p:spPr>
            <a:xfrm>
              <a:off x="303120" y="803160"/>
              <a:ext cx="5216760" cy="53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Rectangle 18"/>
            <p:cNvSpPr/>
            <p:nvPr/>
          </p:nvSpPr>
          <p:spPr>
            <a:xfrm>
              <a:off x="3759120" y="774720"/>
              <a:ext cx="628560" cy="54018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6477120" y="6180120"/>
              <a:ext cx="726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Color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(8-19 y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23"/>
            <p:cNvSpPr/>
            <p:nvPr/>
          </p:nvSpPr>
          <p:spPr>
            <a:xfrm>
              <a:off x="7238880" y="6180120"/>
              <a:ext cx="727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Ge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(&lt;14 y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4"/>
            <p:cNvSpPr/>
            <p:nvPr/>
          </p:nvSpPr>
          <p:spPr>
            <a:xfrm>
              <a:off x="5607000" y="6180120"/>
              <a:ext cx="78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Color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(8-19 y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733920" y="1522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1fb714"/>
                </a:solidFill>
                <a:latin typeface="Verdana"/>
              </a:rPr>
              <a:t>No IQ = 0.00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18"/>
          <p:cNvCxnSpPr/>
          <p:nvPr/>
        </p:nvCxnSpPr>
        <p:spPr>
          <a:xfrm flipH="1">
            <a:off x="4502880" y="622440"/>
            <a:ext cx="97560" cy="11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X1C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768320" y="1581120"/>
          <a:ext cx="6010560" cy="2971800"/>
        </p:xfrm>
        <a:graphic>
          <a:graphicData uri="http://schemas.openxmlformats.org/drawingml/2006/table">
            <a:tbl>
              <a:tblPr/>
              <a:tblGrid>
                <a:gridCol w="1202040"/>
                <a:gridCol w="1201680"/>
                <a:gridCol w="1203120"/>
                <a:gridCol w="1201680"/>
                <a:gridCol w="1202040"/>
              </a:tblGrid>
              <a:tr h="8661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E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685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58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8043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65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6493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6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06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17819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77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3743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776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3743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77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02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8040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858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340" name="Picture 3" descr="migration.png"/>
          <p:cNvPicPr/>
          <p:nvPr/>
        </p:nvPicPr>
        <p:blipFill>
          <a:blip r:embed="rId1"/>
          <a:stretch/>
        </p:blipFill>
        <p:spPr>
          <a:xfrm>
            <a:off x="3821040" y="4808520"/>
            <a:ext cx="3967200" cy="12780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7"/>
          <p:cNvSpPr/>
          <p:nvPr/>
        </p:nvSpPr>
        <p:spPr>
          <a:xfrm>
            <a:off x="297000" y="18702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tation (GLY-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Oval 8"/>
          <p:cNvGrpSpPr/>
          <p:nvPr/>
        </p:nvGrpSpPr>
        <p:grpSpPr>
          <a:xfrm>
            <a:off x="1494000" y="3139920"/>
            <a:ext cx="6527520" cy="524160"/>
            <a:chOff x="1494000" y="3139920"/>
            <a:chExt cx="6527520" cy="524160"/>
          </a:xfrm>
        </p:grpSpPr>
        <p:pic>
          <p:nvPicPr>
            <p:cNvPr id="343" name="Oval 8" descr=""/>
            <p:cNvPicPr/>
            <p:nvPr/>
          </p:nvPicPr>
          <p:blipFill>
            <a:blip r:embed="rId2"/>
            <a:stretch/>
          </p:blipFill>
          <p:spPr>
            <a:xfrm>
              <a:off x="1494000" y="3139920"/>
              <a:ext cx="652752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2503440" y="3244680"/>
              <a:ext cx="4506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5" name="Straight Arrow Connector 10"/>
          <p:cNvCxnSpPr/>
          <p:nvPr/>
        </p:nvCxnSpPr>
        <p:spPr>
          <a:xfrm>
            <a:off x="1456920" y="2633760"/>
            <a:ext cx="824760" cy="576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риятие фо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енцы рождаются способными различать разные звуки речи из люб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способность даёт им потенциальную возможность научиться любому языку в мир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ко, начиная примерно с 7 месяцев младенцы начинают специализироваться, сохраняя способность различать звуки речи, которые они слышат от окружающих и теряя способность распознавать звуки, которые они не слыш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а первого года восприятие речи младенцев совпадает с таковым у их р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51920" y="13716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s from cognitive neuropsychology are reflected in the genetic transmission of difference in ability to acquire whole word and sounding-out forms of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dules appear to depend on early developmental cortical and subcortical neuronal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lexia and normal reading associated with genes for neuronal migration in the cortex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DC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X1C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AA03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cross the midline of the brai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BO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0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871640" cy="255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migration.png"/>
          <p:cNvPicPr/>
          <p:nvPr/>
        </p:nvPicPr>
        <p:blipFill>
          <a:blip r:embed="rId2"/>
          <a:stretch/>
        </p:blipFill>
        <p:spPr>
          <a:xfrm>
            <a:off x="5029200" y="4572000"/>
            <a:ext cx="39672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приятие фон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486000"/>
            <a:ext cx="8839440" cy="61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 «перцептивного магнит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Kuhl, 199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началь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цептивное пространство более-мене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омер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реди языкового материала встречаются наиболее распространённые и типичные фонетические образцы – прототипы, которые фиксируются в памяти младе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Эти прототипы приобретают свойство «притягивать» к себе близкие звуки, он становится для них «магнит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этом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цептивное пространство языковых звуков искажае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нем возникают зоны сгущения и разре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зонах «сгущения» входящие в них образцы становятся трудно различимыми между собой, образуя фонетические категории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япон р 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зультате формируется специфическ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рцептивная карта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еспечивающа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гкое распознавание фон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личных категори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ного язы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о затрудняющая восприятие чуж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увствительность к языковым паттерн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обавок к чувствительности к самим по себе звукам речи, используемым в их родном языке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ладен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ановятся также всё боле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увствитель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 разнообразны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омерностя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дар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 просод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омерности распределения фоне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юбом языке некоторые звуки могут с большей вероятностью встречаться вместе друг с другом, чем с друг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енцы более старшего возраста чувствительны также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тким пауз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появляются в речи между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09680"/>
            <a:ext cx="86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азвитие экспрессив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к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4572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чать младенцы могут с рождения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6 не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рик или плач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пециф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явления неудоволь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зрасте около 6 – 8 недель младенцы начинают произносить долгие гласные звуки (т.н. «гуление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того как репертуар звуков, которые он может произносить возрастает, младенец всё больше осознаё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го голос вызывает отве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других людей и он начинает участвовать в звуков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лога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р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же возрасте возник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ркулярны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т.ч. голосовые) — повторяющиеся проявления одних и тех же дей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ри интуитивно улавливают циркулярность действий малышей. Большинство игр в это время, включают ритмические повторения воздействий на младенцев, вызывающие повторяющиеся ответные реакци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п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6 и 10  месяцами младенцы начин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пета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овторять серии звуков, состоящих из согласной и следующей за ней гла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ой компонент в развитии лепета – пол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тной связ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произносимых зву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ухие от рождения младенцы начинают лепетать позже и лепечут очень мало, если только им не показывают язык жестов. В последнем случае они начинают делать повторы движений рук, которые являются компонентами жестового языка глухих, аналогично звуковому лепету слышащ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ре того как лепет становится разнообразнее, он становится всё больш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хож по звукам, ритму и интонациям на язык, который дети обычно слыш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ладенческое пе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8 и 10  месяцами у младенцев вдобавок к лепету по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ладенческое пение» – произвольные, хотя и неоформленные вокализ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стоящие в том, что малыш производит зву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личной аффективной окра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Младенческое пение» завершает формирование дословесног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муникативного каркас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 у маленьких детей: оказывается сформированн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ность выраз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 конвенциональной форм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и желания в ситуации обще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будить окружающих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к их исполнению, использовать для этог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извольно управляемые голосовые сигнал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Однако сами голосовые сигналы остаются еще неоформленными, «дословесны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несение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963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младенцев произносят первые слова межд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 и 15 месяц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слова обычно включают имена людей, объектов и событий из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иод однословной речи ребёнок пытается выразить целую фразу одним сло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слова в более широком контексте, чем обычно в языке объясняется попыткой общаться несмотря на ограниченный запас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реднем, дети в европейских культурах говорят первое слово около 13 месяцев, резко увеличивают запас слов (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 spur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зрасте окол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яцев и начинают произносить первые предложения примерно в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ый возраст этих достижений может  очень различаться у разных детей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пс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962520" y="1197000"/>
            <a:ext cx="5181480" cy="4809960"/>
            <a:chOff x="3962520" y="1197000"/>
            <a:chExt cx="5181480" cy="480996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067280" y="1197000"/>
              <a:ext cx="49165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16200000">
              <a:off x="2788200" y="3384360"/>
              <a:ext cx="2716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зраст (в месяцах)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0600" y="5638680"/>
              <a:ext cx="2122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витие речи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48320" y="5334120"/>
              <a:ext cx="1371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ервые сло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48720" y="5334120"/>
              <a:ext cx="12952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едлож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9920" y="5334120"/>
              <a:ext cx="18288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«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ocabulary spurt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8320" y="5334120"/>
              <a:ext cx="4343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тие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ужно чтобы обучиться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обучения языку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оисходит обучение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хевиористские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ивистские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нтивистские те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5629-9DB7-468D-9B04-0E1B50E2A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ас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91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ий рост запаса слов обычно происходит в возрасте око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 месяц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о индивидуальные вариации могут быть очень велик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рост запаса слов зависит 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бсолютно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ичества разговор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е ребёнок слыш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, ухаживающие за ребёнком играют важную роль в обучении словам, уделяя особое внимание новым словам, произнося их последними в предложении, называя те объекты, которые уже находятся в фокусе внимания ребёнка и играя в игры по называнию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ение слов также помогает детям их усва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е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детей начинают складывать слова в простые предложения к концу второго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е предложения обычно представляют собой двусложные фразы и называются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графной реч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потому что несущественные элементы в ней пропускаются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ма уа (ушла); папа бай-бай (спит); ещё моко (молока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ядок слов (в аналит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ах) или согласование слов меж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ой (в синтетических язык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нних предложениях обыч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 правильные, что говорит о т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дети понимают синтаксис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дети становятся способ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знести четырёхсло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ожение (обычно 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а), они начинают строить сложносочинённые и сложноподчинённые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505320" cy="2629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учение грам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ейшим свидетельством того, что маленьк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непроизвольно обучаются грамматическим правил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ое употреб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нч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м важным свидетельством является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хправи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детского языка – ошибки связанные с употреблением исключений как если бы они склонялись/ спрягались и т.п. правиль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оты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мест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т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ье свидетельство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ские неологиз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рос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то, что брошено)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т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действие катания)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ргинк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частицы пурги),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гибчива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ва) [Ушакова, 1979; Чуковский, 1966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грают важную роль в обучении грамматике, объясняя как правильно говорить и завершая неоконченные ф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ако родители обычно более склонны исправлять фактически неверные предложения, чем грамматически неправи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959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и обучения языку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Бихевиорист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иннер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195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у науча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языку происходит путём обусловливания и подкреп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важны слушание и ответы на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объяснённые 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ы запомина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ави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 без специального обучени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е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ел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се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е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рхправильность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ищета стимула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1197000"/>
            <a:ext cx="883944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 Хомский (1950-е год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ование языка требу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личи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бора высокоабстрактных правил – универсальной грамма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является врождённой и общей для всех язы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верждается что когнитивные способности, поддерживающие обучение языку очень специализиров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9720" indent="-34380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льным утверждением (в смысле, ведущим к множеству однозначных проверяемых следствий) в рамках этого подхода является так называемая модулярная гипотеза о том, что человеческий мозг содержит врождённый языковой модуль, отделённый от остальных аспектов когнитивн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52280"/>
            <a:ext cx="799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и обучения языку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тивист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240" y="1523520"/>
            <a:ext cx="8604360" cy="44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идетельствами в пользу этой теории являются универсальный и видоспецифичный характер человеческого языка, и зафиксированные факты создания знаковых языков группами глухих детей, когда грамматической структурой обладал уже набор простых зн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подход критикуется за фокусирование почти исключительно на синтаксисе и игнорировании коммуникативной роли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52280"/>
            <a:ext cx="799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и обучения язык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Нативист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бые места натив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приходится так долго учиться языку если он «врождённый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разные языки могут весьма сильно друг от друга отличаться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грамматико-синтаксичес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если в их основе лежат общие универсальные граммат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7010280" cy="6222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617220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Чему вы тут удивляетесь? Все новейшие лингвистические теории говорят о том, что мы рождаемся с врождённой способностью строить предложения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ия социальных взаимоотношени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 Snow, 197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языка определяется ег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муникативной функ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енцы и маленькие дети чувствительны к ключевым прагматическим признакам и способны использовать даже весьма тонкие аспекты социального контекста для интерпретации смысла фр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ль «материнской реч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52280"/>
            <a:ext cx="799596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и обучения языку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нструктивист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обучения языку необходим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ть звуки языка, сочетания этих звуков, слова и способы их комбинирования, дозволяемые язы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962520"/>
            <a:ext cx="8381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неч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набор слов языка можно состави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сконечно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множество предложений для выражения бесконечного множества мыслей. Это явление наз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дуктивностью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ель распределённого обучения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 Braine, 197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обращают внимание на шаблоны изменений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ют (неосознанно) какие слова ведут себя похожим образо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ш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шк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чк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УЩЕСТВИТЕЛЬНЫЕ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                 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шком много возможных шаблонов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inker, 198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некционистские модели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. Rumelhart &amp; McClelland, 198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0"/>
            <a:ext cx="7996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и обучения языку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нструктивист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тие речи: вы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зык является сложной способностью, которой ребёнку нужно обуча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овательность обучения стабиль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происходит обучение остаётся под вопросом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па теорий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хевиорист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ивист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труктивист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286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волюция языковых способностей и коммуникацион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" y="304920"/>
            <a:ext cx="8686800" cy="614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ах животных сигналы видоспецифичны: в общих чертах о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аковы у всех особей данного ви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х особенности определены генетически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набор практически не подлежит расшир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ожденные видовые сигналы непосредствен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к текущему моменту времени и к текущей ситу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но связаны с эмоциями и мотивац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 и сигналы опасности, голод и выпрашивание пищи, родительский инстинкт и забота о потомстве, половое влечение и брачное поведение и т.п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ы этого уровня коммуникации передаются и принимаю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намеренно и бессознате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ц жи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89640" cy="5551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48320" y="93600"/>
            <a:ext cx="431640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и не способны понимать человеческую речь, а лишь воспринимают отдельные слова, которые приобрели для них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ных стиму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х имя, а также набор основных команд и некоторые другие сл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ы говорим собака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Джинджер! Мне это надоело! Держись подальше от мусорного бака! Понял, Джинджер? Держись подальше от мусорного бака, а не то я теб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они слыш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 бла ДЖИНДЖЕР бла бла бла бла бла бла бла бла ДЖИНДЖЕР бла бла бла бла бла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228600"/>
            <a:ext cx="884232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свойства человеческого язы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 Ч. Хоккет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йстве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еловеческий язык обладает одновременно и фонологической (звуковой), и грамматической (смысловой) организацией, что позволяет строить конструкции из символо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ант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исвоение определенного значения некоторому абстрактному символ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уктивн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способность создавать и понимать бесконечное число сообщений, используя ограниченный запас символов; владеющий языком может сказать нечто, что он никогда не говорил и не слышал ранее, и при этом он будет поня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ль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ообщения слагаются из единиц, не имеющих очевидной связи с их смыслом  (т.е. смыслом наделяются произвольно взятые символы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 способен шифровать, кодировать свои сообщения как ему угодно; если есть предварительная договоренность, код будет понят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380880"/>
            <a:ext cx="88394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заимозаменяем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любой организм, способный посылать сообщения, должен быть способен и принимать их, т.е. отправитель и получатель сообщения могут поменяться рол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отсутствие прямых физических следствий полученного сообщения, т.к. передается лишь информация с помощью специализированных символов; ответное поведение не связано непосредственно с физическими следствиями полученного сообщен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еремещаем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предмет сообщения и его результаты могут быть удалены во времени и пространстве от источника со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ультурная преемственн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способность передавать информацию о смысле сигналов из поколения в поколение посредством обучения и подражания, а не генетической преем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0"/>
            <a:ext cx="81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медоносных пч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53352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: двойственностью, семантичностью, взаимо-заменяемостью, специализацией и перемещаем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ладает: продуктивностью и культурной преем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227320" cy="441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400080" y="63244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чела-ро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3156120" cy="4619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76720" y="213372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ляющий танец медоносной пчелы. Угол между осью танца и вертикалью соответствует угловому расстоянию между источником пищи и сол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рыжих лесных муравьё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838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: двойственностью, семантичностью, специализацией, перемещаемостью, произвольностью и (отчасти) продуктив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ладает: культурной преемственностью и взаимозаменяемостью (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3048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ы Ж.И. Резни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нарный лабири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чёт и модификация систем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334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од: языковые функции могут быть реализованы на сравнительно «маленькой» нерв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особности, необходимые для обучения язы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ологическ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он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элементарных звуковых единиц языка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быть точным, достаточно умения различать фон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мантическ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мание смысла, начиная с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рф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именьших смысловых единиц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н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нтакси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есть правил комбинирования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гматическ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опление знаний о реальном использовании языка, которые включают понимание разнообразн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го приме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79440" y="428760"/>
            <a:ext cx="8424720" cy="579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три основных подхода к исследованию  зачатков второй сигнальной системы у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элементарного мыш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рассудочной деятельности) животных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 изучение некоторых процессов мышления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ных (категоризация, обобщение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бстрагирование, тесты на сходство и различие, тест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перенос, тесты на транзитивные заключения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 проведение тестов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имволизац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 обычны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абораторных эксперимент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математической лингвис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ение живот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обым языкам — так называемы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зыкам-посредни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920"/>
            <a:ext cx="86868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имв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процесс установления тождества (эквивалентности) между нейтральными знаками  (символами) – и соответствующими предметами, действиями, а также обобщениями разного уровня, включая довербальные понят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352680"/>
            <a:ext cx="8763120" cy="29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ы к изучению символизации у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мена реальных стимулов условными метками (например, карточками различных цветов), с последующим решением задач выбора на основе этих стиму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дели, основанные на операции обобщения, в том числе «счет»  - способность к оценке числовых и количественных параметров  (numerical compe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4876920"/>
            <a:ext cx="8839440" cy="18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ие способности к символизации у ворон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арабских цифр для обозначения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точки в центре — образцы, справа и слева — карточки для выбора. А — установление соответствия между цифрами и множествами; Б — тест на «сложение»; В — контрольная с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551" r="0" b="2007"/>
          <a:stretch/>
        </p:blipFill>
        <p:spPr>
          <a:xfrm>
            <a:off x="1752480" y="152280"/>
            <a:ext cx="5545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ческая лингв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914400"/>
            <a:ext cx="87631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ы дельфинов состоят из коротких ультразвуковых тонов, щелчков и коротких «пакетов» щелчков.  Эти сигналы сгруппированы в «слова», которые в свою очередь группируются в «предло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из «слов» повторяются в «реч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частоты встречаемости «слов» показал что её связь с длиной «слов» описывается законом, подобным выявленному для человеческих яз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положен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ельфины обладают полноценным (или почти полноценным)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4750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учение животных языкам-посред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154160"/>
            <a:ext cx="86868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ХХ в. - неудачные попытки научить антропоидов подражать челове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ильям Фурнесс обучил самку орангутана произносить слова «папа» и «чаш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 супругов Хейс: воспитывали самку шимпанзе Вики с 3-дневного до 7-летнего возраста (могла произносить всего три слова – «мама», «папа» и «чашк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979560"/>
            <a:ext cx="830592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1960-х годов думали, что шимпанзе не способны к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68 г. Ноам Хомский писал "Любой, кто связан с изучением человеческой природы и человеческих способностей неизбежно должен придти к выводу, что все нормальные люди осваивают разговорный язык, тогда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ение даже простейших речевых навыков лежит за пределами интеллекта обезья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ну из «говорящих» обезьян даже назвали Ним Чимпски, «передразнивая» английское написание имени Хомского*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оследствии Н. Хомский был вынужден изменить свою концепцию, признав языковые возможности антропо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17220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 - Тут двойная игра слов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am Chimpsky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хоже н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am Chomsky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о кроме того, шимпанзе – chimpanzee в англоязычном научном жаргоне часто сокращается д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i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0680" y="114480"/>
            <a:ext cx="873288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4343400"/>
            <a:ext cx="8763120" cy="22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хематическое изображение (сагиттальное сечение) головы и шеи взрослого человека (А) и взрослого шимпанзе (Б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зьяны не могут управл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о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лосовым аппара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ак, чтобы произносить слов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ение их горт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ее расположение в верхней части голосового аппара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озволя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м, в отличие от человека, с помощью язы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нять конфигурацию глотки и осуществлять модуляцию зву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789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752480"/>
            <a:ext cx="84247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зыки-посредн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ют собой упрощенные аналоги речи человека; языки-посредники в основном воспроизводят его структуру, 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ализованы с помощью более доступных для животных средст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жестов, выбора жетонов, нажатий на клавиши компьютера и др. —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требуют тонкой артикуля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00160" y="5873760"/>
            <a:ext cx="8796240" cy="88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области мозга, участвующие в речи (латеральная сторона левого полушар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monet et al. Renewal of the Neurophysiology of Language: Functional Neuroimaging. Physiol Rev 85:49-95, 2005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7680" y="27000"/>
            <a:ext cx="8674200" cy="5819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2590920"/>
            <a:ext cx="1143000" cy="144756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84600">
            <a:off x="3580920" y="745920"/>
            <a:ext cx="533520" cy="24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9349400">
            <a:off x="3990960" y="2857320"/>
            <a:ext cx="1447920" cy="80460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349400">
            <a:off x="5334120" y="1904760"/>
            <a:ext cx="1218960" cy="990360"/>
          </a:xfrm>
          <a:prstGeom prst="ellipse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349400">
            <a:off x="6445080" y="3185640"/>
            <a:ext cx="1213200" cy="106704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455760"/>
            <a:ext cx="8763120" cy="56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языков-посре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С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американский жестовый язык –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MErican Sign LANguage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и Б. Гарднер (1969). Шимпанзе Уош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ЗЫК» Д. Премака - пластиковые жет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слова», объединенные в фиксированные фразы  на магнитной доске (1970). Шимпанзе С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РКИ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язык значков - лексиграмм на  клавиатуре компьютера. Д. Рамбо (1973). Шимпанзе Л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РКИШ  + понимание устной  реч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эведж-Рамбо (1993) - бонобо Канзи. П. Паттерсон - горилла К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57240" y="600120"/>
          <a:ext cx="7201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600120"/>
                    <a:ext cx="7201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990720" y="586728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атрикс и Алан Гарднеры с Уошо (Washo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Roger Fouts and Washo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060800" y="33336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55640" y="1197000"/>
            <a:ext cx="2851200" cy="309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5280" y="5589720"/>
            <a:ext cx="842472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ошо – первый в мире представитель другого вида, освоивший человеческую речь.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жер Футс работает с Уош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0440" y="301680"/>
            <a:ext cx="3589200" cy="5740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229280" y="3351240"/>
            <a:ext cx="460692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ошо родилась в 196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6.1967 – начал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8 г.-30 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9 г.- 85 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 г. – 130 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398520"/>
            <a:ext cx="8643960" cy="59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начального этапа  обуч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сле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ожет ли шимпанзе запоминать и адекватно использовать же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олько знаков может входить в “лексикон” обезья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ожет ли обезьяна понимать вопросительные и отрицательные предложения  (эти способности подвергались сомнению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удет ли она понимать значение порядка слов в предло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5867280"/>
            <a:ext cx="784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ы знаков амслена, усвоенных Уош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сладость и конфета", "пить", "веревка", "книг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76360" y="225360"/>
            <a:ext cx="6120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950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щение шимпанзе на языке жестов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 - «фрукт»; 2 - «слушать»; 3 - «мяч»; 4 - «шляпа»; 5 - «бэби» (ребенок); 6 - «ещ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68320" y="189000"/>
            <a:ext cx="7304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304920"/>
            <a:ext cx="8610480" cy="63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оварь Уошо и других «говорящих» на амслене шимпанзе входят следующие обо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звания предметов оби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мена людей и клички других обезь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глаг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уществительные, обозначающие действия (чистка, пить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пределения цвета, размера, вкуса, материала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бозначения эмоциональных состояний (больно, смешно, страш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ценки (жаль, хорошо, плох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речия (скорее, ещ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трицание (н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естоимения и указательные частицы (я, ты, мой, твой, этот, то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бозначения времени (сейчас и пот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Moja and Roger"/>
          <p:cNvPicPr/>
          <p:nvPr/>
        </p:nvPicPr>
        <p:blipFill>
          <a:blip r:embed="rId1"/>
          <a:stretch/>
        </p:blipFill>
        <p:spPr>
          <a:xfrm>
            <a:off x="826920" y="365040"/>
            <a:ext cx="7561440" cy="5056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05040" y="5540400"/>
            <a:ext cx="739440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сихологии Роджер Фут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ger Fou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-director of The Chimpanzee and Human Communication Institu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ует с шимпанзе Moja на амсл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58720" y="376200"/>
            <a:ext cx="7898040" cy="566892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34648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85920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29920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73884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34648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85920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37048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681048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835200" y="437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2346480" y="437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3859200" y="437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5370480" y="4370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026120" y="1922400"/>
            <a:ext cx="936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Time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7760" y="3794040"/>
            <a:ext cx="122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Mother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06840" y="1922400"/>
            <a:ext cx="93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Eat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5200" y="1922400"/>
            <a:ext cx="93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Drink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6480" y="1922400"/>
            <a:ext cx="100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Good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5200" y="566568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Because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8840" y="3794040"/>
            <a:ext cx="122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Ask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43560" y="3794040"/>
            <a:ext cx="122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Baby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0120" y="5665680"/>
            <a:ext cx="106812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Gorilla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46120" y="5665680"/>
            <a:ext cx="96588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Polite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43560" y="5665680"/>
            <a:ext cx="122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Sorry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30480" y="3794040"/>
            <a:ext cx="122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"Lov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835200" y="554040"/>
            <a:ext cx="1382400" cy="1382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4"/>
          <a:stretch/>
        </p:blipFill>
        <p:spPr>
          <a:xfrm>
            <a:off x="835200" y="2496960"/>
            <a:ext cx="1382400" cy="13827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193760" y="3794040"/>
            <a:ext cx="86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"Bird"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7760" y="1849320"/>
            <a:ext cx="108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"Kok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из знаков амслена, используемых гориллой К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ические пери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 чтобы обучиться язык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ёнок должен общаться с другими людь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спользующими язык – в его звуковой или знаковой форме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г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какого-то момента между 5 годами и половым созреванием обучение языку становится гораздо более трудным и значительно менее успеш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сти в освоении языка подростками, воспитывавшимися в детстве животными («Маугли») или родителями, не использовавшими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ение последствий повреждений мозга, произошедших в разном возр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мость языковых способностей взрослых, говорящих на двух языках от возраста, когда они обучились второму язы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показано что понимание тонких особенностей английской грамматики зависит от возраста, в котором человек познакомился с английским языком, а не от общего времени использования англий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1731960"/>
            <a:ext cx="853416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лова» обезьян в языках-посредни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 простой условно-рефлекторный навык, который воспроизводится в присутствии единичного экземпляра соответствующего предмет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 обобщ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формирования в мозгу  отвлеченного представления обо всей совокупности  сходных предметов, которое может  широко употребляться  в новых ситу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228600"/>
            <a:ext cx="8458200" cy="62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й сема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ы амслена – это действитель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нованные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вербальных понят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ЭБ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ой ребе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ые детеныш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живые, и кук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на карти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БАКА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ые пор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живые, и кук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на картинка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ай невидимого  пса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мпанзе одинаково хорошо понимали и жесты тренера, и их изображения на фотограф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04920" y="1960560"/>
            <a:ext cx="85341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лова» могут использоваться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носном смыс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гательства у разных обезьян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грязный», «орех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вищ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птичка», «крокоди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2265480"/>
            <a:ext cx="8458200" cy="367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мые «слова» могут использоваться в  новых ситуац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ошо: «Собака, уход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ана: 32 раза просила пощекот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ко: наименование карт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0080" y="77760"/>
            <a:ext cx="6783480" cy="6600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095880" y="4343400"/>
            <a:ext cx="28735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лла Коко делает жес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monkey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гда видит в книге  обезьян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1252440"/>
            <a:ext cx="853416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ность семантической памя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ошо назвала Гарднеров по имени после 11-летнего переры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ангутан Чантек не забыл амслен за 10 лет жизни в одиночной кле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емья» Уошо общается на амслене друг с другом и с людьми более 3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97000" y="1192320"/>
            <a:ext cx="8559720" cy="46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перемещае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именование отсутствующего объект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ередача информации о прошлых и будущих событиях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, ПО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ередача информации, которая может стать известной только в результате употребления знаков.  (Канзи, Панбэниша, Кок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1604880"/>
            <a:ext cx="838224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наки перемещае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Люси разлучили с заболевшей собакой – ее любимицей, она постоянно ее вспоминала, называла  по имени и объясняла, что той бо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. Паттерсон описала случай, когда Коко рассказал о Майкле, который безобразничал в отсутствие  Паттерсон несколько дней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920" y="152280"/>
            <a:ext cx="8494560" cy="65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й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ение собственных зна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гру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мбинация знакомых знаков для наименования новых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тка – птица +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гурец – банан + зел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шка – стекло + пить +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ис – боль + пла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стки бамбука – дерево + с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бинация знакомых знаков для наименования новых более сложных явлений – названия праздни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ждество – конфета +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нь благодарения – птичье мя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944440" y="3255120"/>
            <a:ext cx="245520" cy="349560"/>
          </a:xfrm>
          <a:custGeom>
            <a:avLst/>
            <a:gdLst>
              <a:gd name="textAreaLeft" fmla="*/ 360 w 245520"/>
              <a:gd name="textAreaRight" fmla="*/ 245160 w 245520"/>
              <a:gd name="textAreaTop" fmla="*/ 360 h 349560"/>
              <a:gd name="textAreaBottom" fmla="*/ 349200 h 349560"/>
            </a:gdLst>
            <a:ahLst/>
            <a:rect l="textAreaLeft" t="textAreaTop" r="textAreaRight" b="textAreaBottom"/>
            <a:pathLst>
              <a:path w="21600" h="30740">
                <a:moveTo>
                  <a:pt x="138" y="0"/>
                </a:moveTo>
                <a:arcTo wR="138" hR="138" stAng="16200000" swAng="-5400000"/>
                <a:lnTo>
                  <a:pt x="0" y="30602"/>
                </a:lnTo>
                <a:arcTo wR="138" hR="138" stAng="10800000" swAng="-5400000"/>
                <a:lnTo>
                  <a:pt x="21462" y="30740"/>
                </a:lnTo>
                <a:arcTo wR="138" hR="138" stAng="5400000" swAng="-5400000"/>
                <a:lnTo>
                  <a:pt x="21600" y="138"/>
                </a:lnTo>
                <a:arcTo wR="138" hR="13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246400"/>
            <a:ext cx="85341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й «преднамеренности коммуник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Тест с куклой У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ожь Лю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альное подтверждение существования критического пери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3962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пешность в тесте на английскую грамматику у взрослых, приехавших из Кореи или Китая прямо зависело от возраста, когда они приехали в США и впервые услышали англ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взрослых, приехавших до 7 лет были неотличимы от результатов носителей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886200" y="1676520"/>
            <a:ext cx="5257080" cy="4559040"/>
            <a:chOff x="3886200" y="1676520"/>
            <a:chExt cx="5257080" cy="455904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3962520" y="1676520"/>
              <a:ext cx="5072040" cy="45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712040" y="5867280"/>
              <a:ext cx="4431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озраст (в годах) в момент иммигра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2000880" y="3561480"/>
              <a:ext cx="41385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редний балл в тесте на граммати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152280"/>
            <a:ext cx="7848720" cy="65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с куклой (якобы случайно наступали на кукл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ош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 PLEAS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MME BA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SHO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SAN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M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P PLE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BY 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BY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MOR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4572000"/>
            <a:ext cx="8424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знаков амслен в общении шимпанзе Бруно и Буи между собой. Буи изображает знак «щекотать», возможно, для того, чтобы отвлечь Бруно от лакомства и самому его съесть (рисунок Т. Никити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26920" y="395280"/>
            <a:ext cx="74170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304920"/>
            <a:ext cx="87026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ние роли порядка слов («синтаксиса») у амслен-говорящих шимпан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случаев порядок слов в используемых обезьянами фразах соответствовал принятому в английском языке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лежащее-сказуемое-допол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отражал все основные отнош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бъект-действие, действие-объект, указательная частица-объ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обезьяны понимали и передавали информацию о направленности действия, принадлежности предмета и о его местонахождении. Они четко различали смысл фраз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жер щекотать Лю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и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си щекотать Родж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;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дай м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ам теб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0880" y="804960"/>
            <a:ext cx="8458200" cy="45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наиболее сложных комбинациях Уошо соблюдала правила синтакси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 она приставала к Р.Футсу с просьбой дать ей сигарету, которую тот кур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sho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VE ME SMOKE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OKE WASHO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RRY GIVE SMO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ger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K POLI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shoe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GIVE ME ТHAT HOT SMO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Loulis"/>
          <p:cNvPicPr/>
          <p:nvPr/>
        </p:nvPicPr>
        <p:blipFill>
          <a:blip r:embed="rId1"/>
          <a:stretch/>
        </p:blipFill>
        <p:spPr>
          <a:xfrm>
            <a:off x="4495680" y="685800"/>
            <a:ext cx="3810240" cy="2565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3200400"/>
            <a:ext cx="87631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лис, приемный сын Уошо, перенял от нее и других обезьян 55 знаков (никто из персонала не показывал ему знаков, и в его присутствии люди старались не использовать жес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йкл легче обучался новым знакам, подражая Коко, а не когда его специально  обучал тре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й «культурной преемствен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1371600"/>
            <a:ext cx="868680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ьезным возражением против результатов работ с обучением обезьян языку жестов явилось то, ч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йствия обезьян могли оказаться слепым подражанием жестам экспериментат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язи с этим вскоре были проведены аналогичные эксперименты с другими языками-посредниками – более искусственными, но позволяющими снять ряд возра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4800600"/>
            <a:ext cx="8785440" cy="18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ЗЫК» Д. Прем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астиковые жетоны. Пример вопроса, который задавали шимпанзе Саре посредством пластмассовых жетонов. Сара могла отвечать, выбирая один из изображенных внизу вариантов ответ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Premack, 1976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4465800"/>
            <a:ext cx="8701200" cy="234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ка обучения Сары понятию «называется». А. Символ «называется» помещают между символом яблока и настоящим яблоком. Б. Символ «называется» помещают между символом банана и настоящим бананом. В. Между символом банана и яблоком помещают символ «называется», а перед ним  - символ «нет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Premack, Premack, 197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97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1960" y="1057320"/>
            <a:ext cx="3711600" cy="4317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419720" y="1143000"/>
            <a:ext cx="457200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. Дэвид Рамбо  (D.Rumbaugh), автор языка  “yerkish”, “Lana Project” (1973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ое  изучение когнитивных способностей примат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учение йеркиш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становки на обуч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сч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4952880"/>
            <a:ext cx="3581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на и ее клавиатура с лекси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54160" y="260280"/>
            <a:ext cx="6860880" cy="3773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64040" y="2682720"/>
            <a:ext cx="39769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2209680"/>
            <a:ext cx="86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тие импрессив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914400" y="125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57200"/>
            <a:ext cx="8437320" cy="59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 projec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проверить, действительно ли шимпанзе способ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нтанно понимать 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ловече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енные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MACHINE GIVE PIECE OF OR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MACHINE MAKE MU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нтанные новые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MACHINE TICKLE LANA  (32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TIM GIVE ME NAME THIS (about unnamed obj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2286000"/>
            <a:ext cx="85341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в начале 1970-х гг. было показано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иды способны усва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ные формы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вуков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огов человеческого я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зыков-посредников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нимают их 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3520" y="1371600"/>
            <a:ext cx="78483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 Сэвидж-Рамбо (S. Savage-Rumbaugh) – «Проект Канзи» (199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YERKISH  + понимание устной ре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проекта – выяснить, могут ли шимпанз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нтан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аивать  йеркиш и  понимать устную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savage-rumbaugh's photo"/>
          <p:cNvPicPr/>
          <p:nvPr/>
        </p:nvPicPr>
        <p:blipFill>
          <a:blip r:embed="rId1"/>
          <a:stretch/>
        </p:blipFill>
        <p:spPr>
          <a:xfrm>
            <a:off x="4500720" y="476280"/>
            <a:ext cx="4246560" cy="5713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3965400"/>
            <a:ext cx="4114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зи родился 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10.198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 возрасте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яцев был усыновлен самкой шимпанзе-бонобо по имени Ма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0" t="1566" r="0" b="1566"/>
          <a:stretch/>
        </p:blipFill>
        <p:spPr>
          <a:xfrm>
            <a:off x="1008000" y="152280"/>
            <a:ext cx="6937560" cy="4876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80880" y="5029200"/>
            <a:ext cx="8220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з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нта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воил «йеркиш», которому обучали его приемную мать Матату, и в возрасте 2,5 года пользовался лексиграммами без всякого дополните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95280" y="1224000"/>
            <a:ext cx="3814920" cy="298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356000" y="1224000"/>
            <a:ext cx="4530960" cy="3106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39720" y="5079960"/>
            <a:ext cx="780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зи спонтанно манипулирует с новой клавиатурой, усваивая лексиграммы и звучащи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0880" y="152280"/>
            <a:ext cx="83822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нтанное понимание звучащ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расте 2.5 лет Канзи начал понимать не только отдельные слова, но и целые фразы устной речи окруж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2819520"/>
            <a:ext cx="8610480" cy="32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 на понимание синтаксиса устной речи включал более 600 зад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ТИПЫ СТРУКТУРЫ ТЕСТОВЫХ Ф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ительное – глагол – объек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   –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ие  – объ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ельное местоимение –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4038480"/>
            <a:ext cx="883944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устной речи у шимпанзе (рисунок Н. Рябчиковой). По команде "Сделай собаке укол" Канзи приносит плюшевого щенка, потом находит шприц, снимает с него колпачок и колет им собаку. В другой раз в ответ на просьбу "Пусть собака укусит змею" он находит среди прочих предметов игрушечную змею, открывает рот собаке и изображает у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561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25400" y="2936880"/>
            <a:ext cx="784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зи понимает устную речь разных людей без ситуационных под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1465200"/>
            <a:ext cx="8686800" cy="369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ивность  (по Хоккет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anzi придумал несколько собственных зна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TATA + указательный жест” – зайти к Матате в комн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TATA  GROUPROOM” – приглашение Матате зайти в общую комн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ASS” – выбрал неиспользовавшуюся ранее лексиграмму для обозначения любимого ста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чь, обращённая к ребёнку («материнская реч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ое произношение, которое используют взрослые, разговаривая с младен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4840" indent="-347400" algn="just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чень широко распространено в мире, хотя и не является универсальны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44840" indent="-347400" algn="just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арактеризуется тёплыми и нежными интонациями, более высоким тоном голоса, повышенным интонированием и медленным произношением, сопровождающимися усиленной мими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аденцы предпочитают «материнскую речь» речи, обращённой к взросл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039760"/>
            <a:ext cx="4114800" cy="3054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195640"/>
            <a:ext cx="8610480" cy="37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намеренность коммуник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перемещаем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баниша сообщил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чёска приходившей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чер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женщины была как гри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ерман и Остин дралис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шлой ночь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rcRect l="0" t="13234" r="0" b="0"/>
          <a:stretch/>
        </p:blipFill>
        <p:spPr>
          <a:xfrm>
            <a:off x="1523880" y="0"/>
            <a:ext cx="6172200" cy="49528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52280" y="4952880"/>
            <a:ext cx="8839440" cy="16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ремещаемость»  – способность передавать информацию о том, что было «ТАМ, ПРЕЖДЕ, ПОТ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Канзи и Д-р Сэвидж-Рамбо общаются на смотровой площадке в ноябре, когда начало становиться довольно холодно. Канзи только что сообщил, что он хочет пойти во Флэтрок и поискать там конфеты и мя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1143000"/>
            <a:ext cx="87631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урная преемственнос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зи, Панбаниша и ее сын Ньёта освоили йеркиш и устный английский спонтанно – без специального обучения, но лишь благодаря тому, что они слышали речь и наблюдали использование лексиграмм людьми и другими обезья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лла Майкл подражал горилле Коко и использовал усвоенные от нее знаки более часто, чем усвоенные от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Loulis"/>
          <p:cNvPicPr/>
          <p:nvPr/>
        </p:nvPicPr>
        <p:blipFill>
          <a:blip r:embed="rId1"/>
          <a:stretch/>
        </p:blipFill>
        <p:spPr>
          <a:xfrm>
            <a:off x="846000" y="1185840"/>
            <a:ext cx="3810240" cy="2565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665680" y="557280"/>
            <a:ext cx="2571840" cy="39146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627120" y="644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3440" y="5000760"/>
            <a:ext cx="780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за первый год Лулис, приемный сын Уошо, спонтанно освоил 30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4360" y="2001960"/>
            <a:ext cx="78483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мпанзе оказались не только способными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нятийн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понятийном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ю обобщения,  но уже на этом уровне проявили способность к символизации, т. е. умению связывать нейтральный знак с  предметом, явлением или понятием, и далее использовать этот знак в н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5280" y="250920"/>
          <a:ext cx="8996400" cy="6168960"/>
        </p:xfrm>
        <a:graphic>
          <a:graphicData uri="http://schemas.openxmlformats.org/drawingml/2006/table">
            <a:tbl>
              <a:tblPr/>
              <a:tblGrid>
                <a:gridCol w="2855880"/>
                <a:gridCol w="2432160"/>
                <a:gridCol w="2386080"/>
                <a:gridCol w="1322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ТОРЫЕ КРИТЕ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ИКАЦИИ ЖИВО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ЛОВЕЧЕ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S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K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 И.П.ПАВЛОВ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я СИГН. СИСТЕМ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ОЖД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ОСПЕЦИФИ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ГН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я СИГН. СИСТЕМ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-я СИГН. СИСТ. ЗНАКОВ-СИМВО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омежут. сиг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УН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УНИКАЦИ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ЫШ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ЕРЕДАЧА ИНФРО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ЛЬНА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НАМЕРЕ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РОДА СООБЩ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НАМЕРЕННО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РАЖЕНИЕ ВНУТРЕННЕГО СОСТОЯ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ДАЧА ЛЮБОЙ ИНФОРМАЦИИ С ПОМОЩЬЮ ЗНАКОВ-СИМВО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7040"/>
                          <a:tab algn="ctr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ВЫГОТСКОМУ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=ОБОБ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 ЯЗЫКА ПО Ч. ХОККЕТ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СЕМАНТ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МЕЩАЕ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Ь МЕЖДУ СОБЫ-ТИЕМ И СООБЩЕНИЕМ ВО ВРЕМЕНИ И В ПРОСТРАН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ЕСЬ и СЕЙЧА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ЖДЕ, ПОТО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КУЛЬТУРНАЯ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Д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ОБЛАД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е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ЗАИМОЗАМЕНЯЕ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332840" y="6531120"/>
            <a:ext cx="1672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З.А.Зор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539640" y="5881680"/>
            <a:ext cx="8280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ыты И. Пепперберг по символизации с попугаем Алек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76480" y="260280"/>
            <a:ext cx="6791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124080" y="380880"/>
            <a:ext cx="5715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Из всех человеческих способностей разум, несомненно, ставится на первое место, но лишь немногие могут отрицать, чт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ница между психикой человека и высших животны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как бы она ни была велика, эт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ница в степени, а не в качеств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. Дар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4480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152280"/>
            <a:ext cx="883944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зык и речь. Ит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Языковые способности не являются уникальным человеческим свойством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х наличие доказано у человекообразных обезьян; имеются свидетельства в пользу существования развитого языка у дельфинов; показано наличие «языков» (хотя и узко специализированных) у общественных насеком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19:17Z</dcterms:created>
  <dc:creator>lea</dc:creator>
  <dc:description/>
  <dc:language>en-US</dc:language>
  <cp:lastModifiedBy>Neurosoft</cp:lastModifiedBy>
  <dcterms:modified xsi:type="dcterms:W3CDTF">2009-10-31T05:58:47Z</dcterms:modified>
  <cp:revision>48</cp:revision>
  <dc:subject/>
  <dc:title>Слайд 1</dc:title>
</cp:coreProperties>
</file>