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2.jpeg" ContentType="image/jpeg"/>
  <Override PartName="/ppt/media/image25.wmf" ContentType="image/x-wmf"/>
  <Override PartName="/ppt/media/image10.png" ContentType="image/png"/>
  <Override PartName="/ppt/media/image27.wmf" ContentType="image/x-wmf"/>
  <Override PartName="/ppt/media/image16.png" ContentType="image/png"/>
  <Override PartName="/ppt/media/image26.jpeg" ContentType="image/jpeg"/>
  <Override PartName="/ppt/media/image24.wmf" ContentType="image/x-wmf"/>
  <Override PartName="/ppt/media/image21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ABF-E2E0-415B-B387-5DEAEB2E7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кращенный список из моих лекций по В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 Блу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Блу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кст отчасти по Блу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C6E-2EBC-4746-BBF9-7B12AE3A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DC7-10A4-4EDE-9538-52329BB3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424-887B-493F-845A-585F4D6BE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D36-298B-40DC-83AF-9E09B3D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0A7-0B30-4534-BAC9-B2D2EBD9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35E-1DFA-48BE-9C79-5C54FB2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F8C-A98D-4C85-B3F2-00D7A1E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628-50A7-4F46-A7E5-A7753887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0FA-A595-460F-970E-77A81207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101-26AD-4574-9436-376B73AD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CD8F-64E9-4FA2-B892-CFBA447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091-B141-4E42-856F-51B5964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2BB4-CC8D-42C1-8ACE-5EF873BB0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39120" y="6324480"/>
            <a:ext cx="59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пользованы лекции Бориса Чернышева и другие материал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80960" y="5553000"/>
            <a:ext cx="827892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огласие в суждениях об эмоциях у представителей различных культур (испытуемым предъявляли фотографии и просили угадать эмоцию человека на снимке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403280" y="539640"/>
            <a:ext cx="7561440" cy="169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72" name=""/>
          <p:cNvGraphicFramePr/>
          <p:nvPr/>
        </p:nvGraphicFramePr>
        <p:xfrm>
          <a:off x="179280" y="2492280"/>
          <a:ext cx="8785440" cy="2808360"/>
        </p:xfrm>
        <a:graphic>
          <a:graphicData uri="http://schemas.openxmlformats.org/drawingml/2006/table">
            <a:tbl>
              <a:tblPr/>
              <a:tblGrid>
                <a:gridCol w="1224000"/>
                <a:gridCol w="1152720"/>
                <a:gridCol w="1368360"/>
                <a:gridCol w="1224000"/>
                <a:gridCol w="1295280"/>
                <a:gridCol w="129708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д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ращ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и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чаль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нев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аз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или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гент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80880"/>
            <a:ext cx="8686800" cy="63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е условие существования организма – поддерж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еост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остоянства внутренней среды организма (состава крови, температуры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еальном или прогнозируемом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арушении гомеоста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ое может быть предотвращено с помощью целенаправленного поведения возникает соответствующа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 потребность в пищ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озникновение потреб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порожд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тиваци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стояние, направляющее поведение на удовлетворение  потреб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 ощущение гол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остояния мотив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опровождают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мо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убъективными реакциями, проявляющимися в виде удовольствия или неудовольствия, страха, гнева, тоски, радости, надежды, грусти и т. 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имер: неудовольствие, раздражение при гол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440" y="-39600"/>
            <a:ext cx="89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«Откуда» возникают и зачем нужны эмо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762120"/>
            <a:ext cx="8534160" cy="56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отив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редставляют собой древнейший механизм, направляющий поведение для обеспечения выживания особи. Мотивации могут базировать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древних врожденных безусловнорефлекторных механизма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не связанных с когнитивными процессами, хотя у  высших животных и человека мотивации тесно переплетаются с когнитивным уровн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мо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 этом же уровне выражают оценк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пеш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ансов на успе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в реализации данной мотив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71680" y="1098720"/>
            <a:ext cx="79340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онно-потребностная теория эмоций П.В. Симон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форму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=П*(Ис - И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 – эмоция, её степень и знак, П – сила потребности, Ин – информация о необходимых для удовлетворения потребности средствах, Ис – информация о средствах, существующих и индиви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680" y="1098720"/>
            <a:ext cx="793404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ологическая теория эмоций П.К. Анох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моции – спосо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строй обобщенной оценки текуще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рганизмом. Эмоция сама по себе является сильным подкрепляющим фактором и тем самым существенно ускоряет обучение: и человек, и животное стремятся повторять те действия которые ведут к положительным эмоциям, и избегать тех, которые ведут к отрицательным эмоц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71680" y="1098720"/>
            <a:ext cx="7934040" cy="36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иферическая теория эмоций Джеймса-Лан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Чувствуем печаль потому что плачем, боимся потому что дрожи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ее поздние работы показали, что висцеральные и поведенческие компоненты эмоций вторичны  по отношению к мозговым реак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49116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иамские близнец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натомическая основа эмоций – лимбическ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5943600" cy="5135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6320" y="609480"/>
            <a:ext cx="33526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ейшие структуры лимбической сист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д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бито-фронтальная к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ппок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Мамилляр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Обонятельные луковицы и обонятельный буг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ерегоро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Таламус (передняя группа яд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Поясная изви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(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63868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видеть, что компоненты лимбической системы располагаются вдоль краев больших полушарий, как бы “окаймляют” их изну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2280" y="304920"/>
            <a:ext cx="4876920" cy="61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ит центры, соответствующие большинству физиологически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требностей и мотивац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еда, питье, сон, поддержание температуры тела и др.). Обычно имеется два центра с противоположными функциями, наприме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гол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 насыщ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лектрической стимуляции гипоталамуса можно спровоцировать или остановить агрессивное поведение, вызвать ощущения удовольствия или неудоволь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075280" y="533520"/>
            <a:ext cx="4068720" cy="5508360"/>
            <a:chOff x="5075280" y="533520"/>
            <a:chExt cx="4068720" cy="550836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075280" y="533520"/>
              <a:ext cx="1714680" cy="21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6370560" y="1676520"/>
              <a:ext cx="2773440" cy="43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913360" y="198108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26920" y="5516640"/>
            <a:ext cx="7560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лияние повреждения центра голода (слева) и центра насыщения (справа) ядер гипоталамуса на пищевое поведение кош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4872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90600" y="122400"/>
            <a:ext cx="6562800" cy="50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5105520"/>
            <a:ext cx="73468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са с электродом в участк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алам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получившем название 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а удовольст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нажимает на рычаг, подвергая собственный мозг электростим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67000" y="189000"/>
            <a:ext cx="6264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16040" y="1566720"/>
            <a:ext cx="769140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мином «эмоции» обозначается широкий спектр состояний, общей характеристикой которых являются висцеральные и соматические реакции и сильные субъективные пережи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355680"/>
            <a:ext cx="9144000" cy="38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4292640"/>
            <a:ext cx="7559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грессивное поведение кошки, вызванное стимуляцие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аламу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- кошка, воспитанная в "дружбе" с крысо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 - кошка с яростью набрасывается на крысу при электрической стимуляции гипоталам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382680"/>
            <a:ext cx="883944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28480"/>
            <a:ext cx="9144000" cy="353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4419720"/>
            <a:ext cx="6983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се Дельгадо останавливает атаку разъяренного быка, посылая ток в электрод, вживленны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поталаму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живот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4840" y="692280"/>
            <a:ext cx="4294080" cy="318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321440" cy="31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5029200" cy="41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ндал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еспечивает восприятие объектов как имеющих то или ино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тивационно-эмоциона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значение (страшный/опасный, съедобный и т.п.), причем она обеспечивает как врожденные реакции (например, врожденный страх перед змеями), так и приобретенные в ходе собственного опыта индив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51360" y="152280"/>
            <a:ext cx="2676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609480"/>
            <a:ext cx="8381880" cy="161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бито-фронтальная к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расположена на самой нижней передней стороне лобной доли) обеспечивае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амоконтроль над эмо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сложные проявления мотиваций и эмоций в псих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514600"/>
            <a:ext cx="6354720" cy="4038480"/>
            <a:chOff x="533520" y="2514600"/>
            <a:chExt cx="6354720" cy="40384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828800" y="2874960"/>
              <a:ext cx="5059440" cy="36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33520" y="3962520"/>
              <a:ext cx="1616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рбито-фронтальная к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6880" y="2514600"/>
              <a:ext cx="16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инда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352680" y="5334120"/>
            <a:ext cx="56772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«Больной очень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мпульсивен и нерешителе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хотя остался весьма упрямым, как и прежде... Стал очень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ру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чего никогда не было раньше.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2120" y="0"/>
            <a:ext cx="4176720" cy="3238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76320"/>
            <a:ext cx="3944880" cy="31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3886200"/>
            <a:ext cx="4243320" cy="10494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0" y="3809880"/>
            <a:ext cx="3395520" cy="2919240"/>
            <a:chOff x="0" y="3809880"/>
            <a:chExt cx="3395520" cy="2919240"/>
          </a:xfrm>
        </p:grpSpPr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82440" y="3809880"/>
              <a:ext cx="331308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7736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5773680"/>
              <a:ext cx="1311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Орбито-фронтальная кор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52280" y="3200400"/>
            <a:ext cx="42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чай с Финеасом Гейджем, произошедший 13 сентября 1848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320040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мертная маска и череп Финеаса Гейд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24720" y="4800600"/>
            <a:ext cx="52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лезный инструмент, пробивший ему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2365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большой эксперим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429000"/>
            <a:ext cx="841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начала в середине экрана появится маленький круг, нужно смотреть прямо на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том на короткое время будет показано схематическое изображение лица, эмоциональное выражение которого надо будет оценить (не вслу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этого снова будет показан круг и потом ещё одно 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86200" y="3124080"/>
            <a:ext cx="609480" cy="6098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343400" cy="5333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133720" y="533520"/>
            <a:ext cx="4343400" cy="55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86200" y="3124080"/>
            <a:ext cx="609480" cy="60984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34340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33720" y="533520"/>
            <a:ext cx="4343400" cy="556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52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е из лиц показалось вам более весёлым – первое или втор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72276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72240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92520" y="579132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но пер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40120" y="579132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но втор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1430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70120" y="640080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Зеркальные отражения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жполушарная асимметрия и 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066680"/>
            <a:ext cx="84740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сприятие и экспрессию эмоц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твечает главным образ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е полушар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озга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гда ка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вое полушар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большей степени 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ловесно-логическ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этом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авое полушар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большей степени контролируе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рицательные эмо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вое – положите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ольные с повреждениями левой лобной области склонны к депрессиям, а с повреждениями правой лобной области – к излишне приподнятому настро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685800"/>
            <a:ext cx="7691400" cy="344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деляют 6 основных эмоциональных «осей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час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ра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4719600"/>
            <a:ext cx="8686800" cy="189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562932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28600"/>
            <a:ext cx="8305920" cy="63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челове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моции тесно связаны с когнитивными процесс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Знак и даже категория эмоции в значительной мере зависит от интерпретации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испытуемым вводили в кров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дрена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ормон, выделяющийся при эмоциональных переживаниях). Лишь у трети испытуемых это вызывало смутное эмоциональное ощущение, будто должно произойти что-то важное. Однако когда после инъекции с ними заводили разговор о значимых событиях их жизни, под действием инъекции у них возникали подлинные эмоции, знак которых зависел от обсуждавшегося события (печаль или радост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ариньон,  19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7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8600"/>
            <a:ext cx="83059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Эмоциональные состояния влияют на работу памяти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ловек лучше запоминает и лучше вспоминает события, соответствующие текущему эмоциональному ф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1909800"/>
            <a:ext cx="8799480" cy="4849920"/>
            <a:chOff x="228600" y="1909800"/>
            <a:chExt cx="8799480" cy="4849920"/>
          </a:xfrm>
        </p:grpSpPr>
        <p:graphicFrame>
          <p:nvGraphicFramePr>
            <p:cNvPr id="140" name=""/>
            <p:cNvGraphicFramePr/>
            <p:nvPr/>
          </p:nvGraphicFramePr>
          <p:xfrm>
            <a:off x="466560" y="1909800"/>
            <a:ext cx="8561520" cy="484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6560" y="1909800"/>
                      <a:ext cx="8561520" cy="484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"/>
            <p:cNvSpPr/>
            <p:nvPr/>
          </p:nvSpPr>
          <p:spPr>
            <a:xfrm rot="16200000">
              <a:off x="-1169280" y="3839040"/>
              <a:ext cx="31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ободное вспоминание,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2590920"/>
              <a:ext cx="2057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строение во время вспоминания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475680" y="6521400"/>
            <a:ext cx="26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.Harber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764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228600"/>
            <a:ext cx="83059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б). Эмоциональные состояния влияют на работу памяти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Запоминание и вспоминание событий, зависит не только от знака, но и от интенсивности эмоциональных пережив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4520" y="1676520"/>
            <a:ext cx="8799480" cy="4949640"/>
            <a:chOff x="344520" y="1676520"/>
            <a:chExt cx="8799480" cy="4949640"/>
          </a:xfrm>
        </p:grpSpPr>
        <p:graphicFrame>
          <p:nvGraphicFramePr>
            <p:cNvPr id="148" name=""/>
            <p:cNvGraphicFramePr/>
            <p:nvPr/>
          </p:nvGraphicFramePr>
          <p:xfrm>
            <a:off x="582480" y="1676520"/>
            <a:ext cx="8561520" cy="484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2480" y="1676520"/>
                      <a:ext cx="8561520" cy="48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 rot="16200000">
              <a:off x="-1053360" y="3606120"/>
              <a:ext cx="316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вободное вспоминание,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1640" y="27385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споминаемый эпизод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9440" y="6257880"/>
              <a:ext cx="64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интенсивность переживаний во время вспоминан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6475680" y="6521400"/>
            <a:ext cx="26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.Harber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152280"/>
            <a:ext cx="8686800" cy="26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Интерпретация событий зависит от предварительного эмоционального отношения к н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(б). «Низкоуровневые» механизмы восприятия также подвержены влиянию эмоц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Например, сильные эмоциональные переживания (как правило отрицательные) вызывают эффект «туннельного зрения» с неспособностью охватить «сцену» целиком и преобладанием фокального в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048120"/>
            <a:ext cx="70106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ыт Д. Навона (197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F F F F F 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T T T T T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F F F F 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T T T T 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12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Эмоциональный интеллек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838080"/>
            <a:ext cx="8153280" cy="329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распознавать эмоции других люд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распознавать собственные эмо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правильно выражать свои эмо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управлять своими эмоциям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пособность влиять на эмоциональное состояние других люд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952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Способность отслеживать ощущения и эмоции – свои и других людей и различать эмоции между собой, а также умение использовать эту информацию для принятия соответствующих решений.»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alovey&amp;Meyer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72200" y="1981080"/>
            <a:ext cx="297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«пункта» опросника на эмоциональный интелле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28600" y="2057400"/>
            <a:ext cx="8766000" cy="4665960"/>
            <a:chOff x="228600" y="2057400"/>
            <a:chExt cx="8766000" cy="4665960"/>
          </a:xfrm>
        </p:grpSpPr>
        <p:graphicFrame>
          <p:nvGraphicFramePr>
            <p:cNvPr id="162" name=""/>
            <p:cNvGraphicFramePr/>
            <p:nvPr/>
          </p:nvGraphicFramePr>
          <p:xfrm>
            <a:off x="228600" y="2057400"/>
            <a:ext cx="876600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057400"/>
                      <a:ext cx="876600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6629400" y="327672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амооценка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95280" y="6324480"/>
              <a:ext cx="541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эмоциональная реакция на пла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2280" y="0"/>
            <a:ext cx="8839440" cy="22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ель эмоционального интеллекта зависит не только от вышеуказанных способностей, но и от того, в какой мере человек склонен использовать собственные эмоциональные сигналы при интерпретации ситуаций и принятии решен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имер: влияние собственной эмоциональной реакции на оценку плача ребёнка зависит от самооценки женщ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75680" y="6521400"/>
            <a:ext cx="26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.Harber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76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моции. Ит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609480"/>
            <a:ext cx="8839440" cy="61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сихологическом уровне эмоции можно определить как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убъективные состоян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зависящие о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бобщённого восприятия текущей ситуации и прогно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её развит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(как правило) стимулирующие поведение, направленное на удовлетворение доминирующей потреб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физиологическом уровне эмоциональные переживания обеспечиваются активностью соответствующих отделов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имбической системы мозг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они также сопровождаются выбросом в кров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мо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изменениями в работ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овеносной, дыха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угих систем организ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ы выражения основных эмоций имею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ологические корн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практичес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отличаются у разных народ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моции тесн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вязаны с когнитивными процессам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При этом, как когнитивная оценка события может влиять на эмоциональную реакцию на него, так и наоборот, эмоциональное состояние может сильно воздействовать на восприятие и интерпретацию ситу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16040" y="1566720"/>
            <a:ext cx="7691400" cy="435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классификации И.П.Павлова выражение эмоций и их восприятие другими индивидуумами представляет собой коммуникацию на уров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ой сигнальной систем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муникация животных друг с другом происходит практически только на этом уровне: крик опасности, поза дружелюбия, поза агрессии, песня ухаживания 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38360" y="1357200"/>
            <a:ext cx="7691400" cy="478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человека этот вид коммуникации протекает преимуществен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подсознательном уро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и плохо поддается сознательному управл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щении людей друг с другом выражение эмоций по-прежнему играет огромную роль, и в речи также всегда присутствует значительный эмоциональный компонент (в бытовой речи эмоциональный компонент часто выступает на первый пла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5400" y="1954080"/>
            <a:ext cx="76914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ажение эмоций являет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м и единственным способом коммуникации для новорожденного ребе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практически сразу после рождения ребенок может сообщить плачем о голоде и ином дискомфорте. На втором месяце появляется «внутренняя» улыбка, а на третьем – «социальная улыб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5400" y="1009800"/>
            <a:ext cx="769140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лог Н.Тинберген называл выражение эмоций «интенциональными движениями»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рагментами подготовки животного к действ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мере развития социальности у животных эти выразительные движения приобретали самостоятельную роль. Они сделали возможным создание системы социальной коммуникации. Животное могло тепер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ировать других членов со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 своем состоянии или о каких-либо внешних событиях. Это позволило все более усложнять организацию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292720" y="142920"/>
            <a:ext cx="2724120" cy="406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7920" y="3886200"/>
            <a:ext cx="472608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люстрации из книги  Ч.Дарвина «Выражение эмоций у человека и животных» (1872 г.): Дарвин показал, что эмоций человека имеют биологическую природу, 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ражение эмоций представляет собой сохранившиеся остатки действий, связанных с нападением и защи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410080" y="0"/>
            <a:ext cx="2497320" cy="39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5520" y="76320"/>
            <a:ext cx="4157640" cy="66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304920"/>
            <a:ext cx="2766960" cy="61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 эмоций у человека происходит практически одинаково у всех людей, что говорит об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стинктивной врожденной природе выражения эмо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фотографиях: выражения лица аборигена из изолированного племени, проживающего в удаленном районе Новой Гвинеи, в ответ на следующие сообщ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124080" y="0"/>
            <a:ext cx="6265800" cy="6859080"/>
            <a:chOff x="3124080" y="0"/>
            <a:chExt cx="6265800" cy="685908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3124080" y="0"/>
              <a:ext cx="6095880" cy="31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3124080" y="3429000"/>
              <a:ext cx="6095880" cy="31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221160" y="2708280"/>
              <a:ext cx="2952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«Ваш ребенок умер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24080" y="2708280"/>
              <a:ext cx="28810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Пришел ваш друг, и Вы ему очень рады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24080" y="6216480"/>
              <a:ext cx="30258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«Вы сильно разозлены и готовы подратьс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49880" y="6216480"/>
              <a:ext cx="32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«Вы видите дохлую свинью, которая сдохла уже давно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22:44:58Z</dcterms:created>
  <dc:creator>lea</dc:creator>
  <dc:description/>
  <dc:language>en-US</dc:language>
  <cp:lastModifiedBy>Neurosoft</cp:lastModifiedBy>
  <dcterms:modified xsi:type="dcterms:W3CDTF">2009-12-11T23:12:17Z</dcterms:modified>
  <cp:revision>12</cp:revision>
  <dc:subject/>
  <dc:title>Слайд 1</dc:title>
</cp:coreProperties>
</file>