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49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20.jpeg" ContentType="image/jpeg"/>
  <Override PartName="/ppt/media/image33.jpeg" ContentType="image/jpeg"/>
  <Override PartName="/ppt/media/image6.jpeg" ContentType="image/jpeg"/>
  <Override PartName="/ppt/media/image36.jpeg" ContentType="image/jpeg"/>
  <Override PartName="/ppt/media/image11.jpeg" ContentType="image/jpeg"/>
  <Override PartName="/ppt/media/image48.png" ContentType="image/png"/>
  <Override PartName="/ppt/media/image9.jpeg" ContentType="image/jpeg"/>
  <Override PartName="/ppt/media/image31.jpeg" ContentType="image/jpeg"/>
  <Override PartName="/ppt/media/image41.png" ContentType="image/png"/>
  <Override PartName="/ppt/media/image43.jpeg" ContentType="image/jpeg"/>
  <Override PartName="/ppt/media/image37.png" ContentType="image/png"/>
  <Override PartName="/ppt/media/image45.png" ContentType="image/png"/>
  <Override PartName="/ppt/media/image44.jpeg" ContentType="image/jpeg"/>
  <Override PartName="/ppt/media/image12.jpeg" ContentType="image/jpeg"/>
  <Override PartName="/ppt/media/image34.png" ContentType="image/png"/>
  <Override PartName="/ppt/media/image46.png" ContentType="image/png"/>
  <Override PartName="/ppt/media/image32.jpeg" ContentType="image/jpeg"/>
  <Override PartName="/ppt/media/image51.png" ContentType="image/png"/>
  <Override PartName="/ppt/media/image10.png" ContentType="image/png"/>
  <Override PartName="/ppt/media/image47.png" ContentType="image/png"/>
  <Override PartName="/ppt/media/image35.jpeg" ContentType="image/jpeg"/>
  <Override PartName="/ppt/media/image38.png" ContentType="image/png"/>
  <Override PartName="/ppt/media/image8.jpeg" ContentType="image/jpeg"/>
  <Override PartName="/ppt/media/image28.png" ContentType="image/png"/>
  <Override PartName="/ppt/media/image29.jpeg" ContentType="image/jpeg"/>
  <Override PartName="/ppt/media/image27.jpeg" ContentType="image/jpeg"/>
  <Override PartName="/ppt/media/image52.png" ContentType="image/png"/>
  <Override PartName="/ppt/media/image7.wmf" ContentType="image/x-wmf"/>
  <Override PartName="/ppt/media/image30.jpeg" ContentType="image/jpeg"/>
  <Override PartName="/ppt/media/image40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59E6-836A-4B5E-8633-02D1C98357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Я + ? +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рина с из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рина Yazik2006Phy.ppt (по Byrne,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7EB8-515A-4C0C-A982-9ED7B15657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E0CC-DBCD-448D-B99A-1C7EE8E98A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7295-9F82-4789-91B1-386AC843D5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6966-6176-4B0C-8758-00B5C1FB7B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орина Yazik2006Ph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7D45-3174-49C6-B31B-1A81B2BF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677E-B3D6-40F2-8232-C3F86179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777E-5091-4EE8-AB7B-A09475C2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8455-D598-44F0-AFDE-7A7C705B6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25E5-E283-4A2D-9E19-2BFE11F3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7273-9A77-4739-BE61-AD36CB2E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7327-B9F6-4A9B-A8D6-409DAE31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C261-31D0-4825-A3F1-909EBE0F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1FA6-454F-44C0-A3A5-FE4F86E1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E07A-AA03-4707-8A0B-B8E5F5E5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7FEE-FC5A-4984-884D-571E09FF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2BC8-342D-4693-BEE4-670C9764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1977-4F21-4442-BB0B-7B54ADC2B1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google.ru/imgres?imgurl=http://www.primatesworld.com/images/WashoeSm3.JPG&amp;imgrefurl=http://www.primatesworld.com/&amp;h=218&amp;w=201&amp;sz=9&amp;tbnid=UrEcTjHhN0EJ:&amp;tbnh=102&amp;tbnw=94&amp;hl=ru&amp;start=1&amp;prev=/images%3Fq%3Dchimpanzee%2Bgardner%26hl%3Dru%26lr%3D%26sa%3D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25.jpeg"/><Relationship Id="rId13" Type="http://schemas.openxmlformats.org/officeDocument/2006/relationships/image" Target="../media/image26.jpeg"/><Relationship Id="rId14" Type="http://schemas.openxmlformats.org/officeDocument/2006/relationships/image" Target="../media/image27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2860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волюция языковых способностей и коммуникационные системы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4876920"/>
            <a:ext cx="8839440" cy="186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следование способности к символизации у ворон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ьзование арабских цифр для обозначения чисе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рточки в центре — образцы, справа и слева — карточки для выбора. А — установление соответствия между цифрами и множествами; Б — тест на «сложение»; В — контрольная с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1551" r="0" b="2007"/>
          <a:stretch/>
        </p:blipFill>
        <p:spPr>
          <a:xfrm>
            <a:off x="1752480" y="152280"/>
            <a:ext cx="55450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матическая лингви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914400"/>
            <a:ext cx="876312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гналы дельфинов состоят из коротких ультразвуковых тонов, щелчков и коротких «пакетов» щелчков.  Эти сигналы сгруппированы в «слова», которые в свою очередь группируются в «предложе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огие из «слов» повторяются в «реч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из частоты встречаемости «слов» показал что её связь с длиной «слов» описывается законом, подобным выявленному для человеческих яз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Предположение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дельфины обладают полноценным (или почти полноценным) язы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2280" y="247500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учение животных языкам-посредник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8600" y="1154160"/>
            <a:ext cx="8686800" cy="47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ало ХХ в. - неудачные попытки научить антропоидов подражать человеческ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ильям Фурнесс обучил самку орангутана произносить слова «папа» и «чаш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 супругов Хейс: воспитывали самку шимпанзе Вики с 3-дневного до 7-летнего возраста (могла произносить всего три слова – «мама», «папа» и «чашка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979560"/>
            <a:ext cx="8305920" cy="484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ачале 1960-х годов думали, что шимпанзе не способны к ре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68 г. Ноам Хомский писал "Любой, кто связан с изучением человеческой природы и человеческих способностей неизбежно должен придти к выводу, что все нормальные люди осваивают разговорный язык, тогда ка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обретение даже простейших речевых навыков лежит за пределами интеллекта обезья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дну из «говорящих» обезьян даже назвали Ним Чимпски, «передразнивая» английское написание имени Хомского*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оследствии Н. Хомский был вынужден изменить свою концепцию, признав языковые возможности антропои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6172200"/>
            <a:ext cx="883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* - Тут двойная игра слов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eam Chimpsky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хоже на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oam Chomsky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о кроме того, шимпанзе – chimpanzee в англоязычном научном жаргоне часто сокращается до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him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0680" y="114480"/>
            <a:ext cx="8732880" cy="66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2280" y="4343400"/>
            <a:ext cx="8763120" cy="228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хематическое изображение (сагиттальное сечение) головы и шеи взрослого человека (А) и взрослого шимпанзе (Б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езьяны не могут управля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вои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лосовым аппара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так, чтобы произносить слова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роение их горта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ее расположение в верхней части голосового аппарат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позволя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м, в отличие от человека, с помощью язык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нять конфигурацию глотки и осуществлять модуляцию звук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27892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1752480"/>
            <a:ext cx="842472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зыки-посредни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едставляют собой упрощенные аналоги речи человека; языки-посредники в основном воспроизводят его структуру, н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ализованы с помощью более доступных для животных средст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— жестов, выбора жетонов, нажатий на клавиши компьютера и др. — 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 требуют тонкой артикуля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455760"/>
            <a:ext cx="8763120" cy="568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языков-посре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МСЛЕ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- американский жестовый язык –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AMErican Sign LANguage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. и Б. Гарднер (1969). Шимпанзе Уош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ЯЗЫК» Д. Премака - пластиковые жето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«слова», объединенные в фиксированные фразы  на магнитной доске (1970). Шимпанзе С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ЕРКИШ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язык значков - лексиграмм на  клавиатуре компьютера. Д. Рамбо (1973). Шимпанзе Л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ЙЕРКИШ  + понимание устной  реч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эведж-Рамбо (1993) - бонобо Канзи. П. Паттерсон - горилла Ко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957240" y="600120"/>
          <a:ext cx="7201080" cy="47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7240" y="600120"/>
                    <a:ext cx="7201080" cy="47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990720" y="5867280"/>
            <a:ext cx="7238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атрикс и Алан Гарднеры с Уошо (Washo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304920"/>
            <a:ext cx="8686800" cy="614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языках животных сигналы видоспецифичны: в общих чертах он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инаковы у всех особей данного ви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х особенности определены генетически, 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х набор практически не подлежит расшире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ожденные видовые сигналы непосредственн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носятся к текущему моменту времени и к текущей ситу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но связаны с эмоциями и мотивация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х и сигналы опасности, голод и выпрашивание пищи, родительский инстинкт и забота о потомстве, половое влечение и брачное поведение и т.п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1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гналы этого уровня коммуникации передаются и принимаю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намеренно и бессознатель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оц жи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Roger Fouts and Washoe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060800" y="333360"/>
            <a:ext cx="4521240" cy="5040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2"/>
          </p:cNvPr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755640" y="1197000"/>
            <a:ext cx="2851200" cy="3095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95280" y="5589720"/>
            <a:ext cx="842472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ошо – первый в мире представитель другого вида, освоивший человеческую речь.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джер Футс работает с Уош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0440" y="301680"/>
            <a:ext cx="3589200" cy="5740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229280" y="3351240"/>
            <a:ext cx="460692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ошо родилась в 196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06.1967 – начал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8 г.-30 зн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9 г.- 85 зна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0 г. – 130 зна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398520"/>
            <a:ext cx="8643960" cy="596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 начального этапа  обучени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мслен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может ли шимпанзе запоминать и адекватно использовать жес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колько знаков может входить в “лексикон” обезья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может ли обезьяна понимать вопросительные и отрицательные предложения  (эти способности подвергались сомнению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будет ли она понимать значение порядка слов в предлож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5867280"/>
            <a:ext cx="7848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ы знаков амслена, усвоенных Уош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сладость и конфета", "пить", "веревка", "книга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76360" y="225360"/>
            <a:ext cx="6120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5950080"/>
            <a:ext cx="9144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щение шимпанзе на языке жестов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1 - «фрукт»; 2 - «слушать»; 3 - «мяч»; 4 - «шляпа»; 5 - «бэби» (ребенок); 6 - «еще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68320" y="189000"/>
            <a:ext cx="730404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304920"/>
            <a:ext cx="8610480" cy="63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ловарь Уошо и других «говорящих» на амслене шимпанзе входят следующие обозна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названия предметов обих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имена людей и клички других обезья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глагол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существительные, обозначающие действия (чистка, пить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определения цвета, размера, вкуса, материала объек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обозначения эмоциональных состояний (больно, смешно, страшно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оценки (жаль, хорошо, плох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наречия (скорее, ещ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отрицание (не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местоимения и указательные частицы (я, ты, мой, твой, этот, то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обозначения времени (сейчас и пот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Moja and Roger"/>
          <p:cNvPicPr/>
          <p:nvPr/>
        </p:nvPicPr>
        <p:blipFill>
          <a:blip r:embed="rId1"/>
          <a:stretch/>
        </p:blipFill>
        <p:spPr>
          <a:xfrm>
            <a:off x="826920" y="365040"/>
            <a:ext cx="7561440" cy="5056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05040" y="5540400"/>
            <a:ext cx="7394400" cy="113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ор психологии Роджер Фут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ger Fout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-director of The Chimpanzee and Human Communication Institut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едует с шимпанзе Moja на амсл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58720" y="376200"/>
            <a:ext cx="7898040" cy="566892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346480" y="5540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859200" y="5540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299200" y="5540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738840" y="55404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2346480" y="249696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3859200" y="249696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5370480" y="249696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6810480" y="249696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835200" y="4370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2346480" y="4370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3859200" y="4370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2"/>
          <a:stretch/>
        </p:blipFill>
        <p:spPr>
          <a:xfrm>
            <a:off x="5370480" y="43704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026120" y="1922400"/>
            <a:ext cx="936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333333"/>
                </a:solidFill>
                <a:latin typeface="Arial"/>
              </a:rPr>
              <a:t>Time</a:t>
            </a: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7760" y="3794040"/>
            <a:ext cx="1225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333333"/>
                </a:solidFill>
                <a:latin typeface="Arial"/>
              </a:rPr>
              <a:t>Mother</a:t>
            </a: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6840" y="1922400"/>
            <a:ext cx="936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333333"/>
                </a:solidFill>
                <a:latin typeface="Arial"/>
              </a:rPr>
              <a:t>Eat</a:t>
            </a: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75200" y="1922400"/>
            <a:ext cx="936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333333"/>
                </a:solidFill>
                <a:latin typeface="Arial"/>
              </a:rPr>
              <a:t>Drink</a:t>
            </a: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86480" y="1922400"/>
            <a:ext cx="1008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333333"/>
                </a:solidFill>
                <a:latin typeface="Arial"/>
              </a:rPr>
              <a:t>Good</a:t>
            </a: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5200" y="5665680"/>
            <a:ext cx="1295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333333"/>
                </a:solidFill>
                <a:latin typeface="Arial"/>
              </a:rPr>
              <a:t>Because</a:t>
            </a: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38840" y="3794040"/>
            <a:ext cx="122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333333"/>
                </a:solidFill>
                <a:latin typeface="Arial"/>
              </a:rPr>
              <a:t>Ask</a:t>
            </a: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43560" y="3794040"/>
            <a:ext cx="1225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333333"/>
                </a:solidFill>
                <a:latin typeface="Arial"/>
              </a:rPr>
              <a:t>Baby</a:t>
            </a: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90120" y="5665680"/>
            <a:ext cx="1068120" cy="34956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333333"/>
                </a:solidFill>
                <a:latin typeface="Arial"/>
              </a:rPr>
              <a:t>Gorilla</a:t>
            </a: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46120" y="5665680"/>
            <a:ext cx="965880" cy="349560"/>
          </a:xfrm>
          <a:prstGeom prst="roundRect">
            <a:avLst>
              <a:gd name="adj" fmla="val 4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333333"/>
                </a:solidFill>
                <a:latin typeface="Arial"/>
              </a:rPr>
              <a:t>Polite</a:t>
            </a: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43560" y="5665680"/>
            <a:ext cx="1225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r>
              <a:rPr b="1" i="1" lang="en-GB" sz="1800" spc="-1" strike="noStrike">
                <a:solidFill>
                  <a:srgbClr val="333333"/>
                </a:solidFill>
                <a:latin typeface="Arial"/>
              </a:rPr>
              <a:t>Sorry</a:t>
            </a:r>
            <a:r>
              <a:rPr b="0" i="1" lang="en-GB" sz="1800" spc="-1" strike="noStrike">
                <a:solidFill>
                  <a:srgbClr val="333333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30480" y="3794040"/>
            <a:ext cx="122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"Lov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3"/>
          <a:stretch/>
        </p:blipFill>
        <p:spPr>
          <a:xfrm>
            <a:off x="835200" y="554040"/>
            <a:ext cx="1382400" cy="1382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4"/>
          <a:stretch/>
        </p:blipFill>
        <p:spPr>
          <a:xfrm>
            <a:off x="835200" y="2496960"/>
            <a:ext cx="1382400" cy="13827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93760" y="3794040"/>
            <a:ext cx="865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"Bird"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7760" y="1849320"/>
            <a:ext cx="1081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"Koko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которые из знаков амслена, используемых гориллой К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1731960"/>
            <a:ext cx="8534160" cy="39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Слова» обезьян в языках-посредника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не простой условно-рефлекторный навык, который воспроизводится в присутствии единичного экземпляра соответствующего предмета, 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зультат обобщ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формирования в мозгу  отвлеченного представления обо всей совокупности  сходных предметов, которое может  широко употребляться  в новых ситуац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228600"/>
            <a:ext cx="8458200" cy="62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терий семант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сты амслена – это действитель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мво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снованные 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вербальных поняти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ЭБИ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юбой ребено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юбые детеныш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 живые, и кукл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 на картин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БАКА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юбые пород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 живые, и кукл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 на картинках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ай невидимого  пса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мпанзе одинаково хорошо понимали и жесты тренера, и их изображения на фотограф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4589640" cy="5551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48320" y="93600"/>
            <a:ext cx="4316400" cy="65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аки не способны понимать человеческую речь, а лишь воспринимают отдельные слова, которые приобрели для них зна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ных стиму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их имя, а также набор основных команд и некоторые другие слов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мы говорим собакам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, Джинджер! Мне это надоело! Держись подальше от мусорного бака! Понял, Джинджер? Держись подальше от мусорного бака, а не то я теб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они слыш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 бла ДЖИНДЖЕР бла бла бла бла бла бла бла бла ДЖИНДЖЕР бла бла бла бла бла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1960560"/>
            <a:ext cx="853416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Слова» могут использоваться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носном смыс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угательства у разных обезьян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грязный», «орех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звища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«птичка», «крокоди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20" y="2265480"/>
            <a:ext cx="8458200" cy="367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комые «слова» могут использоваться в  новых ситуация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ошо: «Собака, уходи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Лана: 32 раза просила пощекота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око: наименование карти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0080" y="77760"/>
            <a:ext cx="6783480" cy="6600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095880" y="4343400"/>
            <a:ext cx="28735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илла Коко делает жес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monkey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гда видит в книге  обезьян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1252440"/>
            <a:ext cx="8534160" cy="435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чность семантической памя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ошо назвала Гарднеров по имени после 11-летнего переры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ангутан Чантек не забыл амслен за 10 лет жизни в одиночной клет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емья» Уошо общается на амслене друг с другом и с людьми более 3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97000" y="1192320"/>
            <a:ext cx="8559720" cy="46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итерии перемещаем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аименование отсутствующего объекта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А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ередача информации о прошлых и будущих событиях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ЖДЕ, ПОТ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ередача информации, которая может стать известной только в результате употребления знаков.  (Канзи, Панбэниша, Кок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880" y="1604880"/>
            <a:ext cx="8382240" cy="435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знаки перемещаем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гда Люси разлучили с заболевшей собакой – ее любимицей, она постоянно ее вспоминала, называла  по имени и объясняла, что той боль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. Паттерсон описала случай, когда Коко рассказал о Майкле, который безобразничал в отсутствие  Паттерсон несколько дней наз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152280"/>
            <a:ext cx="8494560" cy="65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итерий проду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обретение собственных знак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я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груд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комбинация знакомых знаков для наименования новых объек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тка – птица + 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гурец – банан + зеле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чашка – стекло + пить + кра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едис – боль + плак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остки бамбука – дерево + сал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бинация знакомых знаков для наименования новых более сложных явлений – названия праздник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ождество – конфета + дер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день благодарения – птичье мяс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944440" y="3255120"/>
            <a:ext cx="245520" cy="349560"/>
          </a:xfrm>
          <a:custGeom>
            <a:avLst/>
            <a:gdLst>
              <a:gd name="textAreaLeft" fmla="*/ 360 w 245520"/>
              <a:gd name="textAreaRight" fmla="*/ 245160 w 245520"/>
              <a:gd name="textAreaTop" fmla="*/ 360 h 349560"/>
              <a:gd name="textAreaBottom" fmla="*/ 349200 h 349560"/>
            </a:gdLst>
            <a:ahLst/>
            <a:rect l="textAreaLeft" t="textAreaTop" r="textAreaRight" b="textAreaBottom"/>
            <a:pathLst>
              <a:path w="21600" h="30740">
                <a:moveTo>
                  <a:pt x="138" y="0"/>
                </a:moveTo>
                <a:arcTo wR="138" hR="138" stAng="16200000" swAng="-5400000"/>
                <a:lnTo>
                  <a:pt x="0" y="30602"/>
                </a:lnTo>
                <a:arcTo wR="138" hR="138" stAng="10800000" swAng="-5400000"/>
                <a:lnTo>
                  <a:pt x="21462" y="30740"/>
                </a:lnTo>
                <a:arcTo wR="138" hR="138" stAng="5400000" swAng="-5400000"/>
                <a:lnTo>
                  <a:pt x="21600" y="138"/>
                </a:lnTo>
                <a:arcTo wR="138" hR="138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2246400"/>
            <a:ext cx="853416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итерий «преднамеренности коммуника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Тест с куклой Уош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Ложь Лю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09480" y="152280"/>
            <a:ext cx="7848720" cy="655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с куклой (якобы случайно наступали на кукл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ош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NE PLEASE UP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IMME BAB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EASE SHO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SAN UP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 MIN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P PLEA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EASE UP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 UP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BY DOW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E UP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BY UP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EASE MORE UP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4572000"/>
            <a:ext cx="84247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ование знаков амслен в общении шимпанзе Бруно и Буи между собой. Буи изображает знак «щекотать», возможно, для того, чтобы отвлечь Бруно от лакомства и самому его съесть (рисунок Т. Никитино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26920" y="395280"/>
            <a:ext cx="741708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228600"/>
            <a:ext cx="8842320" cy="674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ючевые свойства человеческого язык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о Ч. Хоккету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войствен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человеческий язык обладает одновременно и фонологической (звуковой), и грамматической (смысловой) организацией, что позволяет строить конструкции из символов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емантич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присвоение определенного значения некоторому абстрактному символ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дуктивнос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способность создавать и понимать бесконечное число сообщений, используя ограниченный запас символов; владеющий языком может сказать нечто, что он никогда не говорил и не слышал ранее, и при этом он будет поня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извольность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сообщения слагаются из единиц, не имеющих очевидной связи с их смыслом  (т.е. смыслом наделяются произвольно взятые символы)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еловек способен шифровать, кодировать свои сообщения как ему угодно; если есть предварительная договоренность, код будет понят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920" y="304920"/>
            <a:ext cx="8702640" cy="63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имание роли порядка слов («синтаксиса») у амслен-говорящих шимпан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ольшинстве случаев порядок слов в используемых обезьянами фразах соответствовал принятому в английском языке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лежащее-сказуемое-дополн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отражал все основные отношения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бъект-действие, действие-объект, указательная частица-объе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е. обезьяны понимали и передавали информацию о направленности действия, принадлежности предмета и о его местонахождении. Они четко различали смысл фраз: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жер щекотать Люс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, и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си щекотать Родж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;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ы дай м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и 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дам теб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0880" y="804960"/>
            <a:ext cx="8458200" cy="45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же в наиболее сложных комбинациях Уошо соблюдала правила синтакси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ажды она приставала к Р.Футсу с просьбой дать ей сигарету, которую тот кури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sho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IVE ME SMOKE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MOKE WASHO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URRY GIVE SMOK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oger: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K POLITE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shoe: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EASE GIVE ME ТHAT HOT SMOK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Loulis"/>
          <p:cNvPicPr/>
          <p:nvPr/>
        </p:nvPicPr>
        <p:blipFill>
          <a:blip r:embed="rId1"/>
          <a:stretch/>
        </p:blipFill>
        <p:spPr>
          <a:xfrm>
            <a:off x="4495680" y="685800"/>
            <a:ext cx="3810240" cy="2565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28600" y="3200400"/>
            <a:ext cx="876312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лис, приемный сын Уошо, перенял от нее и других обезьян 55 знаков (никто из персонала не показывал ему знаков, и в его присутствии люди старались не использовать жест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йкл легче обучался новым знакам, подражая Коко, а не когда его специально  обучал трен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ритерий «культурной преемственно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8600" y="1371600"/>
            <a:ext cx="8686800" cy="435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рьезным возражением против результатов работ с обучением обезьян языку жестов явилось то, чт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йствия обезьян могли оказаться слепым подражанием жестам экспериментатор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связи с этим вскоре были проведены аналогичные эксперименты с другими языками-посредниками – более искусственными, но позволяющими снять ряд возра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280" y="4800600"/>
            <a:ext cx="8785440" cy="18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ЯЗЫК» Д. Према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ластиковые жетоны. Пример вопроса, который задавали шимпанзе Саре посредством пластмассовых жетонов. Сара могла отвечать, выбирая один из изображенных внизу вариантов ответа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Premack, 1976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25780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4465800"/>
            <a:ext cx="8701200" cy="234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ка обучения Сары понятию «называется». А. Символ «называется» помещают между символом яблока и настоящим яблоком. Б. Символ «называется» помещают между символом банана и настоящим бананом. В. Между символом банана и яблоком помещают символ «называется», а перед ним  - символ «нет»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Premack, Premack, 197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64976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61960" y="1057320"/>
            <a:ext cx="3711600" cy="4317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419720" y="1143000"/>
            <a:ext cx="457200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. Дэвид Рамбо  (D.Rumbaugh), автор языка  “yerkish”, “Lana Project” (1973)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льное  изучение когнитивных способностей приматов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бучение йеркишу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формирование установки на обучение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«сч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9480" y="4952880"/>
            <a:ext cx="3581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ана и ее клавиатура с лексиграм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4160" y="260280"/>
            <a:ext cx="6860880" cy="37735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964040" y="2682720"/>
            <a:ext cx="3976920" cy="40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14400" y="1258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457200"/>
            <a:ext cx="8437320" cy="599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ая задача 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a projec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– проверить, действительно ли шимпанзе способн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нтанно понимать синтакси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человеческого язы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ученные предлож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EASE MACHINE GIVE PIECE OF OR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EASE MACHINE MAKE MU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нтанные новые предлож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EASE MACHINE TICKLE LANA  (32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EASE TIM GIVE ME NAME THIS (about unnamed obj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04920" y="2286000"/>
            <a:ext cx="853416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м образом, в начале 1970-х гг. было показано, чт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тропоиды способны усваива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ные формы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звуков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огов человеческого язы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языков-посредников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понимают их синтакси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380880"/>
            <a:ext cx="883944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заимозаменяемост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любой организм, способный посылать сообщения, должен быть способен и принимать их, т.е. отправитель и получатель сообщения могут поменяться роля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пециализац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отсутствие прямых физических следствий полученного сообщения, т.к. передается лишь информация с помощью специализированных символов; ответное поведение не связано непосредственно с физическими следствиями полученного сообщени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еремещаемост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предмет сообщения и его результаты могут быть удалены во времени и пространстве от источника сообщ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Культурная преемственност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способность передавать информацию о смысле сигналов из поколения в поколение посредством обучения и подражания, а не генетической преемстве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371600"/>
            <a:ext cx="784836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 Сэвидж-Рамбо (S. Savage-Rumbaugh) – «Проект Канзи» (1993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YERKISH  + понимание устной ре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авная задача проекта – выяснить, могут ли шимпанз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нтанн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ваивать  йеркиш и  понимать устную реч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savage-rumbaugh's photo"/>
          <p:cNvPicPr/>
          <p:nvPr/>
        </p:nvPicPr>
        <p:blipFill>
          <a:blip r:embed="rId1"/>
          <a:stretch/>
        </p:blipFill>
        <p:spPr>
          <a:xfrm>
            <a:off x="4500720" y="476280"/>
            <a:ext cx="4246560" cy="5713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28600" y="3965400"/>
            <a:ext cx="41148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зи родился 2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10.198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в возрасте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яцев был усыновлен самкой шимпанзе-бонобо по имени Ма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0" t="1566" r="0" b="1566"/>
          <a:stretch/>
        </p:blipFill>
        <p:spPr>
          <a:xfrm>
            <a:off x="1008000" y="152280"/>
            <a:ext cx="6937560" cy="48769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0880" y="5029200"/>
            <a:ext cx="822024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з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нтан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своил «йеркиш», которому обучали его приемную мать Матату, и в возрасте 2,5 года пользовался лексиграммами без всякого дополнитель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5280" y="1224000"/>
            <a:ext cx="3814920" cy="2986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356000" y="1224000"/>
            <a:ext cx="4530960" cy="3106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39720" y="5079960"/>
            <a:ext cx="7800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зи спонтанно манипулирует с новой клавиатурой, усваивая лексиграммы и звучащи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0880" y="152280"/>
            <a:ext cx="838224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нтанное понимание звучаще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возрасте 2.5 лет Канзи начал понимать не только отдельные слова, но и целые фразы устной речи окружающ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2819520"/>
            <a:ext cx="8610480" cy="32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ст на понимание синтаксиса устной речи включал более 600 зад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НЫЕ ТИПЫ СТРУКТУРЫ ТЕСТОВЫХ ФРА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ительное – глагол – объек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бъект   – действ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йствие  – объек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казательное местоимение – объе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52280" y="4038480"/>
            <a:ext cx="883944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имание устной речи у шимпанзе (рисунок Н. Рябчиковой). По команде "Сделай собаке укол" Канзи приносит плюшевого щенка, потом находит шприц, снимает с него колпачок и колет им собаку. В другой раз в ответ на просьбу "Пусть собака укусит змею" он находит среди прочих предметов игрушечную змею, открывает рот собаке и изображает уку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5614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25400" y="2936880"/>
            <a:ext cx="7848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нзи понимает устную речь разных людей без ситуационных подска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8600" y="1465200"/>
            <a:ext cx="8686800" cy="369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ивность  (по Хоккету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Kanzi придумал несколько собственных знак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MATATA + указательный жест” – зайти к Матате в комна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MATATA  GROUPROOM” – приглашение Матате зайти в общую комна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GLASS” – выбрал неиспользовавшуюся ранее лексиграмму для обозначения любимого стак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4920" y="2195640"/>
            <a:ext cx="8610480" cy="37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намеренность коммуника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перемещаем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нбаниша сообщил ч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чёска приходившей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чер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женщины была как гриб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ерман и Остин дрались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[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ошлой ночь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0" t="13234" r="0" b="0"/>
          <a:stretch/>
        </p:blipFill>
        <p:spPr>
          <a:xfrm>
            <a:off x="1523880" y="0"/>
            <a:ext cx="6172200" cy="4952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280" y="4952880"/>
            <a:ext cx="8839440" cy="164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еремещаемость»  – способность передавать информацию о том, что было «ТАМ, ПРЕЖДЕ, ПОТО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Канзи и Д-р Сэвидж-Рамбо общаются на смотровой площадке в ноябре, когда начало становиться довольно холодно. Канзи только что сообщил, что он хочет пойти во Флэтрок и поискать там конфеты и мяч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0"/>
            <a:ext cx="816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зык медоносных пчё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53352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дает: двойственностью, семантичностью, взаимо-заменяемостью, специализацией и перемещаем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ладает: продуктивностью и культурной преемствен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227320" cy="4419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400080" y="6324480"/>
            <a:ext cx="17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чела-ро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3156120" cy="4619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276720" y="2133720"/>
            <a:ext cx="274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ляющий танец медоносной пчелы. Угол между осью танца и вертикалью соответствует угловому расстоянию между источником пищи и солнц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52280" y="1143000"/>
            <a:ext cx="8763120" cy="47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льтурная преемственност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нзи, Панбаниша и ее сын Ньёта освоили йеркиш и устный английский спонтанно – без специального обучения, но лишь благодаря тому, что они слышали речь и наблюдали использование лексиграмм людьми и другими обезья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илла Майкл подражал горилле Коко и использовал усвоенные от нее знаки более часто, чем усвоенные от лю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Loulis"/>
          <p:cNvPicPr/>
          <p:nvPr/>
        </p:nvPicPr>
        <p:blipFill>
          <a:blip r:embed="rId1"/>
          <a:stretch/>
        </p:blipFill>
        <p:spPr>
          <a:xfrm>
            <a:off x="846000" y="1185840"/>
            <a:ext cx="3810240" cy="2565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665680" y="557280"/>
            <a:ext cx="2571840" cy="39146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27120" y="6442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3440" y="5000760"/>
            <a:ext cx="7800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е за первый год Лулис, приемный сын Уошо, спонтанно освоил 30 зна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4360" y="2001960"/>
            <a:ext cx="784836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мпанзе оказались не только способными к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понятийном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топонятийном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вню обобщения,  но уже на этом уровне проявили способность к символизации, т. е. умению связывать нейтральный знак с  предметом, явлением или понятием, и далее использовать этот знак в новых ситуац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125280" y="250920"/>
          <a:ext cx="8996400" cy="6168960"/>
        </p:xfrm>
        <a:graphic>
          <a:graphicData uri="http://schemas.openxmlformats.org/drawingml/2006/table">
            <a:tbl>
              <a:tblPr/>
              <a:tblGrid>
                <a:gridCol w="2855880"/>
                <a:gridCol w="2432160"/>
                <a:gridCol w="2386080"/>
                <a:gridCol w="132228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ТОРЫЕ КРИТЕ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ЗЫ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МУНИКАЦИИ ЖИВОТ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ЛОВЕЧЕСКИЙ ЯЗЫ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SL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RKI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О И.П.ПАВЛОВУ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я СИГН. СИСТЕМ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РОЖД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ОСПЕЦИФИЧ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ГНА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я СИГН. СИСТЕМ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-я СИГН. СИСТ. ЗНАКОВ-СИМВО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Промежут. сиг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ЛЬ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УНИК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УНИКАЦИЯ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ЫШ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ЕРЕДАЧА ИНФРО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ИЗВО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ИЗВОЛЬНАЯ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НАМЕРЕН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РОДА СООБЩ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РЕДНАМЕРЕННОЕ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РАЖЕНИЕ ВНУТРЕННЕГО СОСТОЯ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ДАЧА ЛЮБОЙ ИНФОРМАЦИИ С ПОМОЩЬЮ ЗНАКОВ-СИМВО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57040"/>
                          <a:tab algn="ctr" pos="414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 ВЫГОТСКОМУ: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ОВО=ОБОБЩ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ИТЕРИИ ЯЗЫКА ПО Ч. ХОККЕТУ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СЕМАНТИЧ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МЕЩАЕМ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ВЯЗЬ МЕЖДУ СОБЫ-ТИЕМ И СООБЩЕНИЕМ ВО ВРЕМЕНИ И В ПРОСТРАНСТВ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ДЕСЬ и СЕЙЧА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А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ЖДЕ, ПОТО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ДУКТИВ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КУЛЬТУРНАЯ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ЕДАЧ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ОБЛАДА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е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ВЗАИМОЗАМЕНЯЕМ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7332840" y="6531120"/>
            <a:ext cx="1672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 З.А.Зорин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39640" y="5881680"/>
            <a:ext cx="828036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ыты И. Пепперберг по символизации с попугаем Алекс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76480" y="260280"/>
            <a:ext cx="67910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124080" y="380880"/>
            <a:ext cx="5715000" cy="619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«Из всех человеческих способностей разум, несомненно, ставится на первое место, но лишь немногие могут отрицать, что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зница между психикой человека и высших животных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 как бы она ни была велика, это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разница в степени, а не в качестве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. Дарв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244800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04920" y="239868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енетические основы языковых способ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genes influence rea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they influence develop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genes used in other abilities, like language, or face recogni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eriod is neural growth influen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recognition, if neural growth can be affec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51"/>
          <p:cNvGrpSpPr/>
          <p:nvPr/>
        </p:nvGrpSpPr>
        <p:grpSpPr>
          <a:xfrm>
            <a:off x="0" y="1698480"/>
            <a:ext cx="8772480" cy="4402440"/>
            <a:chOff x="0" y="1698480"/>
            <a:chExt cx="8772480" cy="4402440"/>
          </a:xfrm>
        </p:grpSpPr>
        <p:grpSp>
          <p:nvGrpSpPr>
            <p:cNvPr id="192" name="Group 47"/>
            <p:cNvGrpSpPr/>
            <p:nvPr/>
          </p:nvGrpSpPr>
          <p:grpSpPr>
            <a:xfrm>
              <a:off x="0" y="1698480"/>
              <a:ext cx="8572680" cy="4402440"/>
              <a:chOff x="0" y="1698480"/>
              <a:chExt cx="8572680" cy="4402440"/>
            </a:xfrm>
          </p:grpSpPr>
          <p:pic>
            <p:nvPicPr>
              <p:cNvPr id="193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1698480"/>
                <a:ext cx="8572680" cy="440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Rectangle 7"/>
              <p:cNvSpPr/>
              <p:nvPr/>
            </p:nvSpPr>
            <p:spPr>
              <a:xfrm>
                <a:off x="170280" y="1794600"/>
                <a:ext cx="986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808080"/>
                    </a:solidFill>
                    <a:latin typeface="Arial"/>
                    <a:ea typeface="ＭＳ Ｐゴシック"/>
                  </a:rPr>
                  <a:t>(p34-p36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8"/>
              <p:cNvSpPr/>
              <p:nvPr/>
            </p:nvSpPr>
            <p:spPr>
              <a:xfrm>
                <a:off x="1016640" y="2131200"/>
                <a:ext cx="631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808080"/>
                    </a:solidFill>
                    <a:latin typeface="Arial"/>
                    <a:ea typeface="ＭＳ Ｐゴシック"/>
                  </a:rPr>
                  <a:t>(p11-p16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9"/>
              <p:cNvSpPr/>
              <p:nvPr/>
            </p:nvSpPr>
            <p:spPr>
              <a:xfrm>
                <a:off x="1072080" y="2267640"/>
                <a:ext cx="0" cy="23868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10"/>
              <p:cNvSpPr/>
              <p:nvPr/>
            </p:nvSpPr>
            <p:spPr>
              <a:xfrm>
                <a:off x="1746000" y="2707920"/>
                <a:ext cx="0" cy="24048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1"/>
              <p:cNvSpPr/>
              <p:nvPr/>
            </p:nvSpPr>
            <p:spPr>
              <a:xfrm>
                <a:off x="399600" y="1938960"/>
                <a:ext cx="0" cy="25848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2"/>
              <p:cNvSpPr/>
              <p:nvPr/>
            </p:nvSpPr>
            <p:spPr>
              <a:xfrm>
                <a:off x="1680840" y="2575800"/>
                <a:ext cx="631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808080"/>
                    </a:solidFill>
                    <a:latin typeface="Arial"/>
                    <a:ea typeface="ＭＳ Ｐゴシック"/>
                  </a:rPr>
                  <a:t>(p12-q13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343080" y="1927800"/>
                <a:ext cx="579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YX8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1028160" y="2248920"/>
                <a:ext cx="579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YX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1700640" y="2692440"/>
                <a:ext cx="579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YX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6"/>
              <p:cNvSpPr/>
              <p:nvPr/>
            </p:nvSpPr>
            <p:spPr>
              <a:xfrm>
                <a:off x="3501360" y="2379240"/>
                <a:ext cx="986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808080"/>
                    </a:solidFill>
                    <a:latin typeface="Arial"/>
                    <a:ea typeface="ＭＳ Ｐゴシック"/>
                  </a:rPr>
                  <a:t>(p21.3-p22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17"/>
              <p:cNvSpPr/>
              <p:nvPr/>
            </p:nvSpPr>
            <p:spPr>
              <a:xfrm>
                <a:off x="3652560" y="2984040"/>
                <a:ext cx="631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808080"/>
                    </a:solidFill>
                    <a:latin typeface="Arial"/>
                    <a:ea typeface="ＭＳ Ｐゴシック"/>
                  </a:rPr>
                  <a:t>(q13-q16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18"/>
              <p:cNvSpPr/>
              <p:nvPr/>
            </p:nvSpPr>
            <p:spPr>
              <a:xfrm>
                <a:off x="7060680" y="2535840"/>
                <a:ext cx="423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808080"/>
                    </a:solidFill>
                    <a:latin typeface="Arial"/>
                    <a:ea typeface="ＭＳ Ｐゴシック"/>
                  </a:rPr>
                  <a:t>(p15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9"/>
              <p:cNvSpPr/>
              <p:nvPr/>
            </p:nvSpPr>
            <p:spPr>
              <a:xfrm>
                <a:off x="802440" y="5275800"/>
                <a:ext cx="986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808080"/>
                    </a:solidFill>
                    <a:latin typeface="Arial"/>
                    <a:ea typeface="ＭＳ Ｐゴシック"/>
                  </a:rPr>
                  <a:t>(q15-q21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20"/>
              <p:cNvSpPr/>
              <p:nvPr/>
            </p:nvSpPr>
            <p:spPr>
              <a:xfrm>
                <a:off x="3064320" y="4847760"/>
                <a:ext cx="423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808080"/>
                    </a:solidFill>
                    <a:latin typeface="Arial"/>
                    <a:ea typeface="ＭＳ Ｐゴシック"/>
                  </a:rPr>
                  <a:t>(p11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21"/>
              <p:cNvSpPr/>
              <p:nvPr/>
            </p:nvSpPr>
            <p:spPr>
              <a:xfrm>
                <a:off x="6377760" y="5517720"/>
                <a:ext cx="508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800" spc="-1" strike="noStrike">
                    <a:solidFill>
                      <a:srgbClr val="808080"/>
                    </a:solidFill>
                    <a:latin typeface="Arial"/>
                    <a:ea typeface="ＭＳ Ｐゴシック"/>
                  </a:rPr>
                  <a:t>(q27.3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22"/>
              <p:cNvSpPr/>
              <p:nvPr/>
            </p:nvSpPr>
            <p:spPr>
              <a:xfrm>
                <a:off x="3745440" y="2540520"/>
                <a:ext cx="0" cy="18720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23"/>
              <p:cNvSpPr/>
              <p:nvPr/>
            </p:nvSpPr>
            <p:spPr>
              <a:xfrm>
                <a:off x="3690360" y="2504520"/>
                <a:ext cx="579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YX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24"/>
              <p:cNvSpPr/>
              <p:nvPr/>
            </p:nvSpPr>
            <p:spPr>
              <a:xfrm>
                <a:off x="3737880" y="2847600"/>
                <a:ext cx="0" cy="1875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25"/>
              <p:cNvSpPr/>
              <p:nvPr/>
            </p:nvSpPr>
            <p:spPr>
              <a:xfrm>
                <a:off x="3682080" y="2811960"/>
                <a:ext cx="579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YX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28"/>
              <p:cNvSpPr/>
              <p:nvPr/>
            </p:nvSpPr>
            <p:spPr>
              <a:xfrm>
                <a:off x="7056720" y="2678400"/>
                <a:ext cx="0" cy="1875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29"/>
              <p:cNvSpPr/>
              <p:nvPr/>
            </p:nvSpPr>
            <p:spPr>
              <a:xfrm>
                <a:off x="7002000" y="2642760"/>
                <a:ext cx="579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YX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30"/>
              <p:cNvSpPr/>
              <p:nvPr/>
            </p:nvSpPr>
            <p:spPr>
              <a:xfrm>
                <a:off x="1067760" y="5122080"/>
                <a:ext cx="0" cy="18756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31"/>
              <p:cNvSpPr/>
              <p:nvPr/>
            </p:nvSpPr>
            <p:spPr>
              <a:xfrm>
                <a:off x="1012680" y="5086800"/>
                <a:ext cx="579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YX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33"/>
              <p:cNvSpPr/>
              <p:nvPr/>
            </p:nvSpPr>
            <p:spPr>
              <a:xfrm>
                <a:off x="3008160" y="4940640"/>
                <a:ext cx="579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YX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36"/>
              <p:cNvSpPr/>
              <p:nvPr/>
            </p:nvSpPr>
            <p:spPr>
              <a:xfrm>
                <a:off x="6400800" y="5449320"/>
                <a:ext cx="0" cy="6984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Rectangle 37"/>
              <p:cNvSpPr/>
              <p:nvPr/>
            </p:nvSpPr>
            <p:spPr>
              <a:xfrm>
                <a:off x="6344640" y="5364000"/>
                <a:ext cx="579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DYX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38"/>
              <p:cNvSpPr/>
              <p:nvPr/>
            </p:nvSpPr>
            <p:spPr>
              <a:xfrm>
                <a:off x="3050280" y="5044680"/>
                <a:ext cx="0" cy="69480"/>
              </a:xfrm>
              <a:prstGeom prst="line">
                <a:avLst/>
              </a:prstGeom>
              <a:ln w="44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Line 49"/>
            <p:cNvSpPr/>
            <p:nvPr/>
          </p:nvSpPr>
          <p:spPr>
            <a:xfrm>
              <a:off x="8391600" y="3000240"/>
              <a:ext cx="0" cy="108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50"/>
            <p:cNvSpPr/>
            <p:nvPr/>
          </p:nvSpPr>
          <p:spPr>
            <a:xfrm>
              <a:off x="8344080" y="2952720"/>
              <a:ext cx="428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800" spc="-1" strike="noStrike">
                  <a:solidFill>
                    <a:srgbClr val="808080"/>
                  </a:solidFill>
                  <a:latin typeface="Arial"/>
                  <a:ea typeface="ＭＳ Ｐゴシック"/>
                </a:rPr>
                <a:t>q1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Linkage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Dyslexia Susceptibility Lo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5"/>
          <p:cNvSpPr/>
          <p:nvPr/>
        </p:nvSpPr>
        <p:spPr>
          <a:xfrm flipV="1">
            <a:off x="3889440" y="1817640"/>
            <a:ext cx="258840" cy="517680"/>
          </a:xfrm>
          <a:prstGeom prst="line">
            <a:avLst/>
          </a:prstGeom>
          <a:ln w="31680">
            <a:solidFill>
              <a:srgbClr val="0000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6"/>
          <p:cNvSpPr/>
          <p:nvPr/>
        </p:nvSpPr>
        <p:spPr>
          <a:xfrm flipV="1">
            <a:off x="1892160" y="1607760"/>
            <a:ext cx="322560" cy="957240"/>
          </a:xfrm>
          <a:prstGeom prst="line">
            <a:avLst/>
          </a:prstGeom>
          <a:ln w="31680">
            <a:solidFill>
              <a:srgbClr val="0000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8"/>
          <p:cNvSpPr/>
          <p:nvPr/>
        </p:nvSpPr>
        <p:spPr>
          <a:xfrm flipV="1">
            <a:off x="1236600" y="4766760"/>
            <a:ext cx="46080" cy="279720"/>
          </a:xfrm>
          <a:prstGeom prst="line">
            <a:avLst/>
          </a:prstGeom>
          <a:ln w="31680">
            <a:solidFill>
              <a:srgbClr val="0000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1"/>
          <p:cNvSpPr/>
          <p:nvPr/>
        </p:nvSpPr>
        <p:spPr>
          <a:xfrm>
            <a:off x="833400" y="4129200"/>
            <a:ext cx="66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DYX1C1 </a:t>
            </a:r>
            <a:r>
              <a:rPr b="0" lang="en-AU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Dyslexia susceptibility 1 candidat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2"/>
          <p:cNvSpPr/>
          <p:nvPr/>
        </p:nvSpPr>
        <p:spPr>
          <a:xfrm>
            <a:off x="4071960" y="161928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DCDC2 </a:t>
            </a:r>
            <a:r>
              <a:rPr b="0" lang="en-AU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Doublecortin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KIAA03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3"/>
          <p:cNvSpPr/>
          <p:nvPr/>
        </p:nvSpPr>
        <p:spPr>
          <a:xfrm>
            <a:off x="1836720" y="11685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ROBO1 </a:t>
            </a:r>
            <a:r>
              <a:rPr b="0" lang="en-AU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Round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0"/>
            <a:ext cx="81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зык рыжих лесных муравьё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83808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дает: двойственностью, семантичностью, специализацией, перемещаемостью, произвольностью и (отчасти) продуктив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обладает: культурной преемственностью и взаимозаменяемостью (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304812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перименты Ж.И. Резник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инарный лабири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чёт и модификация систем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53341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вод: языковые функции могут быть реализованы на сравнительно «маленькой» нервной сис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ven Genes fo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p34-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rigorenko et al., 2001; Rabin et al., 1993; Tzenova et al., 2004 ; Bates et al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p15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hapman et al., 2004; Fagerheim, 1999; Francks et al., 2002; Kaminen et al., 2003; Petryshen, et al., 2002 ; Bates et al, 2007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q22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askind et al. 2005 ; Bates et al, 2007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p12-q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pola-Hemmi et al., 2001; Taipale et al., 2003 ; Bates et al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p23-2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rdon et al., 1994; Fisher et al., 1999; Gayan et al., 1999; Grigorenko et al., 1997; Kaplan et al., 2002a; Chapman et al., 2004; Turic et al., 2003; Luciano, et al. 2007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q1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etryshen et al., 2001 ; Bates et al, 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q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Kaminen et al., 2003 ; Bates et al, 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p15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Hsiung, Kaplan, Petryshen, Lu, &amp; Field, 200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q2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Grigorenko et al., 1997; Morris et al., 2000; Nopola-Hemmi et al., 2000; Nothen et al., 1999; Schulte-Körne et al., 1998 ; Bates et al, 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p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hapman et al., 2004; Fisher et al., 2002; Marlow et al., 2003; Bates et al, 2007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q27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e Kovel et al., 2004; Fisher et al., 2002 ; Bates et al, 2007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X1C1 and DCD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Content Placeholder 42" descr="Picture 1.png"/>
          <p:cNvPicPr/>
          <p:nvPr/>
        </p:nvPicPr>
        <p:blipFill>
          <a:blip r:embed="rId1"/>
          <a:stretch/>
        </p:blipFill>
        <p:spPr>
          <a:xfrm>
            <a:off x="414360" y="5040360"/>
            <a:ext cx="7556400" cy="1252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3" descr="Picture 2.png"/>
          <p:cNvPicPr/>
          <p:nvPr/>
        </p:nvPicPr>
        <p:blipFill>
          <a:blip r:embed="rId2"/>
          <a:stretch/>
        </p:blipFill>
        <p:spPr>
          <a:xfrm>
            <a:off x="457200" y="1417680"/>
            <a:ext cx="5524560" cy="33782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44"/>
          <p:cNvSpPr/>
          <p:nvPr/>
        </p:nvSpPr>
        <p:spPr>
          <a:xfrm>
            <a:off x="5981760" y="1811160"/>
            <a:ext cx="186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cchini and Monaco,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a brain that ca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ing the growth of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nal Proliferation/conne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CDC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ope et al. 2005; Bates et al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IAA031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ope et al. 2005, Luciano et al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YX1C1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Bates et al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es Crossing the mid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OBO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Hanula-Jouppi,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IAA0319; DCDC2; DYX1C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4665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Linked to neuronal mig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oTurco 2007; Wang et al, 2006; Schumacher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migration.png"/>
          <p:cNvPicPr/>
          <p:nvPr/>
        </p:nvPicPr>
        <p:blipFill>
          <a:blip r:embed="rId1"/>
          <a:stretch/>
        </p:blipFill>
        <p:spPr>
          <a:xfrm>
            <a:off x="576360" y="3271680"/>
            <a:ext cx="7651800" cy="24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for Normal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839 twins, siblings and parents (768 famil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7.1% male; 98% Caucasian (~82% Anglo-Cel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 Reading Examination (C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 reading and spelling tests of regular, irregular (e.g., yacht) and non-word (e.g., torlep) stimu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es et al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or association of normal reading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CDC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YX1C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AA03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6"/>
          <p:cNvGrpSpPr/>
          <p:nvPr/>
        </p:nvGrpSpPr>
        <p:grpSpPr>
          <a:xfrm>
            <a:off x="299880" y="192240"/>
            <a:ext cx="7691400" cy="6353280"/>
            <a:chOff x="299880" y="192240"/>
            <a:chExt cx="7691400" cy="6353280"/>
          </a:xfrm>
        </p:grpSpPr>
        <p:pic>
          <p:nvPicPr>
            <p:cNvPr id="245" name="Picture 4" descr=""/>
            <p:cNvPicPr/>
            <p:nvPr/>
          </p:nvPicPr>
          <p:blipFill>
            <a:blip r:embed="rId1"/>
            <a:stretch/>
          </p:blipFill>
          <p:spPr>
            <a:xfrm>
              <a:off x="299880" y="793800"/>
              <a:ext cx="7691400" cy="53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Rectangle 7"/>
            <p:cNvSpPr/>
            <p:nvPr/>
          </p:nvSpPr>
          <p:spPr>
            <a:xfrm>
              <a:off x="3759120" y="774720"/>
              <a:ext cx="628560" cy="5401800"/>
            </a:xfrm>
            <a:prstGeom prst="rect">
              <a:avLst/>
            </a:pr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Group 8"/>
            <p:cNvGrpSpPr/>
            <p:nvPr/>
          </p:nvGrpSpPr>
          <p:grpSpPr>
            <a:xfrm>
              <a:off x="5340240" y="192240"/>
              <a:ext cx="2638440" cy="5983200"/>
              <a:chOff x="5340240" y="192240"/>
              <a:chExt cx="2638440" cy="5983200"/>
            </a:xfrm>
          </p:grpSpPr>
          <p:sp>
            <p:nvSpPr>
              <p:cNvPr id="248" name="Rectangle 9"/>
              <p:cNvSpPr/>
              <p:nvPr/>
            </p:nvSpPr>
            <p:spPr>
              <a:xfrm>
                <a:off x="5521320" y="774720"/>
                <a:ext cx="2457360" cy="5400720"/>
              </a:xfrm>
              <a:prstGeom prst="rect">
                <a:avLst/>
              </a:prstGeom>
              <a:noFill/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10"/>
              <p:cNvSpPr/>
              <p:nvPr/>
            </p:nvSpPr>
            <p:spPr>
              <a:xfrm>
                <a:off x="5340240" y="192240"/>
                <a:ext cx="248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2400" spc="-1" strike="noStrike">
                    <a:solidFill>
                      <a:srgbClr val="0000ff"/>
                    </a:solidFill>
                    <a:latin typeface="Arial"/>
                    <a:ea typeface="ＭＳ Ｐゴシック"/>
                  </a:rPr>
                  <a:t>Other studi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0" name="Picture 17" descr=""/>
            <p:cNvPicPr/>
            <p:nvPr/>
          </p:nvPicPr>
          <p:blipFill>
            <a:blip r:embed="rId2"/>
            <a:stretch/>
          </p:blipFill>
          <p:spPr>
            <a:xfrm>
              <a:off x="303120" y="803160"/>
              <a:ext cx="5216760" cy="53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Rectangle 18"/>
            <p:cNvSpPr/>
            <p:nvPr/>
          </p:nvSpPr>
          <p:spPr>
            <a:xfrm>
              <a:off x="3759120" y="774720"/>
              <a:ext cx="628560" cy="54018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21"/>
            <p:cNvSpPr/>
            <p:nvPr/>
          </p:nvSpPr>
          <p:spPr>
            <a:xfrm>
              <a:off x="6477120" y="6180120"/>
              <a:ext cx="7268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Color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(8-19 yr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23"/>
            <p:cNvSpPr/>
            <p:nvPr/>
          </p:nvSpPr>
          <p:spPr>
            <a:xfrm>
              <a:off x="7238880" y="6180120"/>
              <a:ext cx="727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Germ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(&lt;14 yr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4"/>
            <p:cNvSpPr/>
            <p:nvPr/>
          </p:nvSpPr>
          <p:spPr>
            <a:xfrm>
              <a:off x="5607000" y="6180120"/>
              <a:ext cx="781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Colora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0000ff"/>
                  </a:solidFill>
                  <a:latin typeface="Arial"/>
                  <a:ea typeface="ＭＳ Ｐゴシック"/>
                </a:rPr>
                <a:t>(8-19 yr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3733920" y="152280"/>
            <a:ext cx="19047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1fb714"/>
                </a:solidFill>
                <a:latin typeface="Verdana"/>
              </a:rPr>
              <a:t>No IQ = 0.00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Straight Arrow Connector 18"/>
          <p:cNvCxnSpPr/>
          <p:nvPr/>
        </p:nvCxnSpPr>
        <p:spPr>
          <a:xfrm flipH="1">
            <a:off x="4502880" y="622440"/>
            <a:ext cx="97560" cy="114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X1C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768320" y="1581120"/>
          <a:ext cx="6010560" cy="2971800"/>
        </p:xfrm>
        <a:graphic>
          <a:graphicData uri="http://schemas.openxmlformats.org/drawingml/2006/table">
            <a:tbl>
              <a:tblPr/>
              <a:tblGrid>
                <a:gridCol w="1202040"/>
                <a:gridCol w="1201680"/>
                <a:gridCol w="1203120"/>
                <a:gridCol w="1201680"/>
                <a:gridCol w="1202040"/>
              </a:tblGrid>
              <a:tr h="86616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k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s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NW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RRE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n Co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096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s6859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3.5582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096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s80430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3.565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096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s64937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3.568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06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s178191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3.5772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1fb714"/>
                          </a:solidFill>
                          <a:latin typeface="Verdana"/>
                        </a:rPr>
                        <a:t>0.0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1fb714"/>
                          </a:solidFill>
                          <a:latin typeface="Verdana"/>
                        </a:rPr>
                        <a:t>0.00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1fb714"/>
                          </a:solidFill>
                          <a:latin typeface="Verdana"/>
                        </a:rPr>
                        <a:t>0.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096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s37432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3.5776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1fb714"/>
                          </a:solidFill>
                          <a:latin typeface="Verdana"/>
                        </a:rPr>
                        <a:t>0.00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096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s37432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3.5778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024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s80407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3.5858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59" name="Picture 3" descr="migration.png"/>
          <p:cNvPicPr/>
          <p:nvPr/>
        </p:nvPicPr>
        <p:blipFill>
          <a:blip r:embed="rId1"/>
          <a:stretch/>
        </p:blipFill>
        <p:spPr>
          <a:xfrm>
            <a:off x="3821040" y="4808520"/>
            <a:ext cx="3967200" cy="1278000"/>
          </a:xfrm>
          <a:prstGeom prst="rect">
            <a:avLst/>
          </a:prstGeom>
          <a:ln w="0">
            <a:noFill/>
          </a:ln>
        </p:spPr>
      </p:pic>
      <p:sp>
        <p:nvSpPr>
          <p:cNvPr id="260" name="TextBox 7"/>
          <p:cNvSpPr/>
          <p:nvPr/>
        </p:nvSpPr>
        <p:spPr>
          <a:xfrm>
            <a:off x="297000" y="187020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tation (GLY-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Oval 8"/>
          <p:cNvGrpSpPr/>
          <p:nvPr/>
        </p:nvGrpSpPr>
        <p:grpSpPr>
          <a:xfrm>
            <a:off x="1494000" y="3139920"/>
            <a:ext cx="6527520" cy="524160"/>
            <a:chOff x="1494000" y="3139920"/>
            <a:chExt cx="6527520" cy="524160"/>
          </a:xfrm>
        </p:grpSpPr>
        <p:pic>
          <p:nvPicPr>
            <p:cNvPr id="262" name="Oval 8" descr=""/>
            <p:cNvPicPr/>
            <p:nvPr/>
          </p:nvPicPr>
          <p:blipFill>
            <a:blip r:embed="rId2"/>
            <a:stretch/>
          </p:blipFill>
          <p:spPr>
            <a:xfrm>
              <a:off x="1494000" y="3139920"/>
              <a:ext cx="6527520" cy="5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2503440" y="3244680"/>
              <a:ext cx="4506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4" name="Straight Arrow Connector 10"/>
          <p:cNvCxnSpPr/>
          <p:nvPr/>
        </p:nvCxnSpPr>
        <p:spPr>
          <a:xfrm>
            <a:off x="1456920" y="2633760"/>
            <a:ext cx="824760" cy="5763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for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1920" y="1371600"/>
            <a:ext cx="4953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dels from cognitive neuropsychology are reflected in the genetic transmission of difference in ability to acquire whole word and sounding-out forms of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modules appear to depend on early developmental cortical and subcortical neuronal 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slexia and normal reading associated with genes for neuronal migration in the cortex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CDC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YX1C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AA03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across the midline of the brain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BO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0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1871640" cy="25574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migration.png"/>
          <p:cNvPicPr/>
          <p:nvPr/>
        </p:nvPicPr>
        <p:blipFill>
          <a:blip r:embed="rId2"/>
          <a:stretch/>
        </p:blipFill>
        <p:spPr>
          <a:xfrm>
            <a:off x="5029200" y="4572000"/>
            <a:ext cx="396720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79440" y="428760"/>
            <a:ext cx="8424720" cy="579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три основных подхода к исследованию  зачатков второй сигнальной системы у животн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учение элементарного мышл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рассудочной деятельности) животных, в том чис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 изучение некоторых процессов мышления у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животных (категоризация, обобщение 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бстрагирование, тесты на сходство и различие, тесты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 перенос, тесты на транзитивные заключения и др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 проведение тестов на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имволизацию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в обычных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лабораторных эксперимента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ы математической лингвисти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учение животны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собым языкам — так называемы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зыкам-посредник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304920"/>
            <a:ext cx="868680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Cимволиз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- процесс установления тождества (эквивалентности) между нейтральными знаками  (символами) – и соответствующими предметами, действиями, а также обобщениями разного уровня, включая довербальные понятия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3352680"/>
            <a:ext cx="8763120" cy="29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ходы к изучению символизации у животн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мена реальных стимулов условными метками (например, карточками различных цветов), с последующим решением задач выбора на основе этих стиму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одели, основанные на операции обобщения, в том числе «счет»  - способность к оценке числовых и количественных параметров  (numerical compet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6:19:17Z</dcterms:created>
  <dc:creator>lea</dc:creator>
  <dc:description/>
  <dc:language>en-US</dc:language>
  <cp:lastModifiedBy>Neurosoft</cp:lastModifiedBy>
  <dcterms:modified xsi:type="dcterms:W3CDTF">2009-11-07T06:01:56Z</dcterms:modified>
  <cp:revision>49</cp:revision>
  <dc:subject/>
  <dc:title>Слайд 1</dc:title>
</cp:coreProperties>
</file>