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97F4-B66E-4CA4-A6CC-AAB760E9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809-3001-4293-9E97-E7F20A72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7FF-A018-4D40-8DDF-14DDA297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9DA3-C61A-4CF0-A6EE-1465C5FD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567-3398-4E5F-881D-540EBA79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ECB-6774-4B0C-939B-89544D1D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670F-615F-4A4F-85C7-15C8F176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D29-8A6D-468C-9F75-92178253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A89-AC54-42DC-B8B7-DCE9800B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1F6-B5BC-430B-B1F6-42C712E1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FE9B-7A21-42F0-BD54-DE2B5357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482-F69D-4771-B97A-5EB1B387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22ED-80F0-4919-B2CF-D1C62103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ГНИТИВНАЯ ПСИХ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558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вин Евгений Андре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.б.н., н.с. НИИ физиологии СО РА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1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a.levin@gmail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13-942-2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480" y="762120"/>
            <a:ext cx="891540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5. Искусственный интеллек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 проблемы. Тест Тьюринга, «китайская комната». Сравнение человеческого мозга и компьютера с архитектурой фон-Неймановского типа. Использование искусственного интеллекта для понимания механизмов естественного. Прикладные системы «искусственного интеллек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6. Современные аспекты когнитивной психоло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ская деятельность и взаимодействие в системе «человек-машина». Теории принятия решений в рамках когнитивной психологии. Роль контекста в формировании операторской деятельности. Монотония. Средства массовой информации и их влияние на «картину мира». Сетевое общ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7. Когнитивная нейронау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рофизиологические и нейропсихологические методы, роль информационных технологий в их развитии. Проблема локализации психических функций. Биологическая обратная связь, интерфейс «мозг-компьют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8. Обобщение прочитанного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440" y="758520"/>
            <a:ext cx="876312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личковский Б.М. Когнитивная наука: Основы психологии позн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в 2 т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: Смыс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200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448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гнитивная психология. Учебник для вуз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 Под ред. В. Н.Дружинина, Д. В. Ушакова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.: ПЕР СЭ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00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со Р. Когнитивная психолог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6-е изд. — СПб.: Пит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00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589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личковский Б.М. Современная когнитивная психолог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М.: МГУ, 198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юченок Р.Ю. Память хорошая, память плоха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овосибирск, 198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атанен Р. Внимание и функции мозг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М.: МГУ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уз С. Устройство памяти: от молекул к сознани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М.: Мир,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востьянов А.Н. Психофизиологическая проблема в русской нау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овосибирск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ингер С., Дейч Г. Левый мозг, правый моз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М.: Мир, 198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веткова Л.С. Мозг и интеллек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М.: Просвещение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коменд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-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 курсу будет зачёт (недифференцированны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447200"/>
            <a:ext cx="82296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ормула «автомата»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- посещение занят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- контрольные работы в семест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+25% - тестовые и открытые вопросы в итоговой контрольной рабо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 получившие «автомат» сдают зачёт во время контрольной нед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883840"/>
            <a:ext cx="83818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приветствуются также интересные вопросы и комментарии по ходу ле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00" y="839880"/>
            <a:ext cx="8926560" cy="25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евнегреческая 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лини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тон и Аристо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различий их концепций в том, что считать движущей силой человеческих поступков: Платон – внешние стимулы, Аристотель – внутренняя ц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некотором роде это «вопрос про курицу и яйцо»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ровоззренческие тради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440" y="3655800"/>
            <a:ext cx="87631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флекторная дуг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еханистическая концепция рефлек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ализм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душа» - самостоятельная сущность, воздействующая на тело через шишковидную желез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gito ergo s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777600"/>
            <a:ext cx="8926560" cy="57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пириз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XVIII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Локк (1632-170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«в интеллекте нет ничего, чего бы не было ранее в наших ощущени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йбниц (1646-17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ад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в интеллекте нет ничего, чего бы не было ранее в наших ощущениях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оме сам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эвид Юм (1711-1776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следование о человеческом познан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одологический солипс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облема Юм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гомункулу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884160"/>
            <a:ext cx="8926560" cy="560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лизм XIX ве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иния Плато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ознания как структур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льмгольц (1821-18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распространения нервного импуль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хнер (1801-188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физи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расск. чуть позж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ундт (1832-19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ая в мире психологическая лаборатория. Теория двух уровней сознания: перцепция и апперцепция. Перцепция – «примитивна», ассоциации по смежности и сходству; апперцепция – творческий синтез, зависимость части от целого. Ограниченность объёма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писал 53000 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1291680"/>
            <a:ext cx="8926560" cy="38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онализ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линия Аристо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ать не структуру, а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затор – б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рвин (1809-18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ченов (1829-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ефлексы головного мозг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нтральное физиологическое торм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1056240"/>
            <a:ext cx="8926560" cy="509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штальтпсихолог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 сложного к простому» – на восприятие деталей влияет целостный об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 Вертхаймер (1880-19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«прегнантности»: группы объектов обладающих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ости, сходства, замкнутости, симметрии, «хорошего продолжения», «общей судьбы» =&gt; воспринимаются как единая фиг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льфганг Кёлер (1886-19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сай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1257840"/>
            <a:ext cx="8926560" cy="46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хевиориз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 англ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havior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стимулы и есть поведение, а между ними – «чёрный ящик», который невозможно изучать объективно, а значит не надо изучать вооб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жон Уотсон (1878-19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пробуйте доказать мне, что вы обладаете зрительными представлениями, слуховыми представлениями или какими-либо другими видами психических (бестелесных) процессов. До сих пор у меня есть лишь ваши невероятные и решительно ничем не подкрепленные заявления, что вы обладаете всем этим. Наука же нуждается в объективных доказательствах, которые только и могут служить надежной основой для ее теор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П.Павлов (1849-1936) (мето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ы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863640"/>
            <a:ext cx="8926560" cy="548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обихевиор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двард Торндай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акона нау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эфф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реакции на некоторую ситуацию («стимул»), которые получают положительное подкрепление, постепенно закрепляются и становятся привычными ответами на эту ситу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готов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серия последовательно подкрепляемых реакций постепенно образует цепной рефлек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 упраж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ассоциативные связи между стимулами и реакциями укрепляются при повторении и ослабевают при его отсутств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нджамин Скиннер (1904-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щик Скинн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361240"/>
            <a:ext cx="883944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ка, изучающая процессы приобретения, преобразования, пред-ставления, хранения и извлечения из памяти знаний, а также то, как эти знания направляют наше внимание и управляют нашими реакц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6765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гнитивная психология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199999995529652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Истор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8000" y="1614240"/>
            <a:ext cx="8926560" cy="317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еокогнитивная революция»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-е год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собственно, это революция только в понимании американцев т.к. до этого там господствовал бихевиориз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неё повлияли новые успехи в теории коммуникации, лингвистике, исследованиях памяти и компьютерной техн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собственно когнитивной психоло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912960"/>
            <a:ext cx="8926560" cy="173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сихофизическ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ги ощущ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абсолю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дифференци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743200"/>
            <a:ext cx="8839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Вебер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ψ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Фехнера: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де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интенсивность «психического» ощущения,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физическая интенсивность стимула, а </a:t>
            </a:r>
            <a:r>
              <a:rPr b="1" i="1" lang="el-GR" sz="18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минимальная воспринимаемая интенсивность стимула (абсолютный порог ощущени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8000" y="1292760"/>
            <a:ext cx="8926560" cy="33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ение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ремя реакции вы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лияние ш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ефрактерны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еле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8000" y="1294200"/>
            <a:ext cx="8926560" cy="335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блюдения за детьм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научная школа Пиаж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равнительный анализ яз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ксперименты с человекообразными обезья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dgi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8000" y="1659960"/>
            <a:ext cx="8926560" cy="262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памяти и на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сты на эксплицинтно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мплицитное запоми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 объёма краткосрочной памя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8000" y="1826280"/>
            <a:ext cx="8926560" cy="271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дел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ная идея: если построенная модель варьировании входных данных даёт результаты аналогичные получаемым на реальном объекте, то можно считать её хорошо описывающей то, что «происходит на самом дел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1643400"/>
            <a:ext cx="8926560" cy="30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учение межличностных различ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сновная идея: если различия между людьми по какому-либо показателю статистически достоверно связаны с различиями по какому-либо другому показателю, то можно предполагать, что оба эти показателя отражают некоторую общую характерист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2132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оды когнитивной псих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1199520"/>
            <a:ext cx="8883720" cy="50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нейро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зволяют проверять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или как минимум приблизиться к пониманию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«как оно на самом деле работае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омографические методы (фМРТ, П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инвазивные электрофизиологические методы (ЭЭГ, МЭ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вазивная электрофизиология (запись активности единичных нейронов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FP, VSD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охимические метод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на живот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048120" y="1981080"/>
            <a:ext cx="3047760" cy="2895840"/>
            <a:chOff x="3048120" y="1981080"/>
            <a:chExt cx="3047760" cy="2895840"/>
          </a:xfrm>
        </p:grpSpPr>
        <p:sp>
          <p:nvSpPr>
            <p:cNvPr id="47" name=""/>
            <p:cNvSpPr/>
            <p:nvPr/>
          </p:nvSpPr>
          <p:spPr>
            <a:xfrm>
              <a:off x="3124080" y="1981080"/>
              <a:ext cx="2895840" cy="28958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48120" y="2895480"/>
              <a:ext cx="304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Когнитивн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сихолог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5105520" y="990720"/>
            <a:ext cx="2592720" cy="1066680"/>
            <a:chOff x="5105520" y="990720"/>
            <a:chExt cx="2592720" cy="1066680"/>
          </a:xfrm>
        </p:grpSpPr>
        <p:sp>
          <p:nvSpPr>
            <p:cNvPr id="50" name=""/>
            <p:cNvSpPr/>
            <p:nvPr/>
          </p:nvSpPr>
          <p:spPr>
            <a:xfrm>
              <a:off x="5565240" y="990720"/>
              <a:ext cx="213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осприят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105520" y="1371600"/>
              <a:ext cx="45720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790960" y="1752480"/>
            <a:ext cx="3260880" cy="947160"/>
            <a:chOff x="5790960" y="1752480"/>
            <a:chExt cx="3260880" cy="947160"/>
          </a:xfrm>
        </p:grpSpPr>
        <p:sp>
          <p:nvSpPr>
            <p:cNvPr id="53" name=""/>
            <p:cNvSpPr/>
            <p:nvPr/>
          </p:nvSpPr>
          <p:spPr>
            <a:xfrm>
              <a:off x="6172200" y="1752480"/>
              <a:ext cx="2879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Распознавание образ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5790960" y="2133720"/>
              <a:ext cx="5331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962520" y="4876920"/>
            <a:ext cx="2971800" cy="1632960"/>
            <a:chOff x="3962520" y="4876920"/>
            <a:chExt cx="2971800" cy="1632960"/>
          </a:xfrm>
        </p:grpSpPr>
        <p:sp>
          <p:nvSpPr>
            <p:cNvPr id="56" name=""/>
            <p:cNvSpPr/>
            <p:nvPr/>
          </p:nvSpPr>
          <p:spPr>
            <a:xfrm>
              <a:off x="3962520" y="5562720"/>
              <a:ext cx="2971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едставление знан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4724280" y="4876920"/>
              <a:ext cx="152640" cy="7617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756440" y="4723920"/>
            <a:ext cx="2053440" cy="1206720"/>
            <a:chOff x="1756440" y="4723920"/>
            <a:chExt cx="2053440" cy="1206720"/>
          </a:xfrm>
        </p:grpSpPr>
        <p:sp>
          <p:nvSpPr>
            <p:cNvPr id="59" name=""/>
            <p:cNvSpPr/>
            <p:nvPr/>
          </p:nvSpPr>
          <p:spPr>
            <a:xfrm>
              <a:off x="1756440" y="5410080"/>
              <a:ext cx="201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Мышл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29000" y="4723920"/>
              <a:ext cx="380880" cy="685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908000" y="4343400"/>
            <a:ext cx="1444680" cy="901440"/>
            <a:chOff x="1908000" y="4343400"/>
            <a:chExt cx="1444680" cy="901440"/>
          </a:xfrm>
        </p:grpSpPr>
        <p:sp>
          <p:nvSpPr>
            <p:cNvPr id="62" name=""/>
            <p:cNvSpPr/>
            <p:nvPr/>
          </p:nvSpPr>
          <p:spPr>
            <a:xfrm>
              <a:off x="1908000" y="47242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Язы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819520" y="4343400"/>
              <a:ext cx="533160" cy="4572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55880" y="3885840"/>
            <a:ext cx="2968200" cy="597240"/>
            <a:chOff x="155880" y="3885840"/>
            <a:chExt cx="2968200" cy="597240"/>
          </a:xfrm>
        </p:grpSpPr>
        <p:sp>
          <p:nvSpPr>
            <p:cNvPr id="65" name=""/>
            <p:cNvSpPr/>
            <p:nvPr/>
          </p:nvSpPr>
          <p:spPr>
            <a:xfrm>
              <a:off x="155880" y="3962520"/>
              <a:ext cx="244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оображ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2514600" y="3885840"/>
              <a:ext cx="60948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0" y="2666880"/>
            <a:ext cx="3124080" cy="947160"/>
            <a:chOff x="0" y="2666880"/>
            <a:chExt cx="3124080" cy="947160"/>
          </a:xfrm>
        </p:grpSpPr>
        <p:sp>
          <p:nvSpPr>
            <p:cNvPr id="68" name=""/>
            <p:cNvSpPr/>
            <p:nvPr/>
          </p:nvSpPr>
          <p:spPr>
            <a:xfrm>
              <a:off x="0" y="2666880"/>
              <a:ext cx="2514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сихология разви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09680" y="3200400"/>
              <a:ext cx="914400" cy="763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88320" y="1447920"/>
            <a:ext cx="2740680" cy="1066680"/>
            <a:chOff x="688320" y="1447920"/>
            <a:chExt cx="2740680" cy="1066680"/>
          </a:xfrm>
        </p:grpSpPr>
        <p:sp>
          <p:nvSpPr>
            <p:cNvPr id="71" name=""/>
            <p:cNvSpPr/>
            <p:nvPr/>
          </p:nvSpPr>
          <p:spPr>
            <a:xfrm>
              <a:off x="688320" y="1447920"/>
              <a:ext cx="2247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Когнитивна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нейронау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19520" y="1981080"/>
              <a:ext cx="609480" cy="533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299240" y="304920"/>
            <a:ext cx="4251240" cy="1752480"/>
            <a:chOff x="1299240" y="304920"/>
            <a:chExt cx="4251240" cy="1752480"/>
          </a:xfrm>
        </p:grpSpPr>
        <p:sp>
          <p:nvSpPr>
            <p:cNvPr id="74" name=""/>
            <p:cNvSpPr/>
            <p:nvPr/>
          </p:nvSpPr>
          <p:spPr>
            <a:xfrm>
              <a:off x="1299240" y="304920"/>
              <a:ext cx="4251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Человеческий 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куственный интеллек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200" y="1295280"/>
              <a:ext cx="304920" cy="762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562360" y="4495680"/>
            <a:ext cx="2106360" cy="749160"/>
            <a:chOff x="5562360" y="4495680"/>
            <a:chExt cx="2106360" cy="749160"/>
          </a:xfrm>
        </p:grpSpPr>
        <p:sp>
          <p:nvSpPr>
            <p:cNvPr id="77" name=""/>
            <p:cNvSpPr/>
            <p:nvPr/>
          </p:nvSpPr>
          <p:spPr>
            <a:xfrm>
              <a:off x="6252120" y="4724280"/>
              <a:ext cx="1416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амя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5562360" y="4495680"/>
              <a:ext cx="685800" cy="5335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943240" y="3962520"/>
            <a:ext cx="2551320" cy="520560"/>
            <a:chOff x="5943240" y="3962520"/>
            <a:chExt cx="2551320" cy="520560"/>
          </a:xfrm>
        </p:grpSpPr>
        <p:sp>
          <p:nvSpPr>
            <p:cNvPr id="80" name=""/>
            <p:cNvSpPr/>
            <p:nvPr/>
          </p:nvSpPr>
          <p:spPr>
            <a:xfrm>
              <a:off x="6708960" y="3962520"/>
              <a:ext cx="178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Созн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5943240" y="3962520"/>
              <a:ext cx="762120" cy="304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19920" y="3048120"/>
            <a:ext cx="2611080" cy="520560"/>
            <a:chOff x="6019920" y="3048120"/>
            <a:chExt cx="2611080" cy="520560"/>
          </a:xfrm>
        </p:grpSpPr>
        <p:sp>
          <p:nvSpPr>
            <p:cNvPr id="83" name=""/>
            <p:cNvSpPr/>
            <p:nvPr/>
          </p:nvSpPr>
          <p:spPr>
            <a:xfrm>
              <a:off x="6784560" y="3048120"/>
              <a:ext cx="1846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ним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019920" y="3276720"/>
              <a:ext cx="761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352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понятное пользователю представление информа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чем когнитивная психология 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990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Т создаются человеком и (в большинстве случаев) для работы с человеком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" y="2650680"/>
            <a:ext cx="638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запрос информации в «естественной» форм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61280" y="1676520"/>
            <a:ext cx="2682720" cy="1904760"/>
            <a:chOff x="6461280" y="1676520"/>
            <a:chExt cx="2682720" cy="1904760"/>
          </a:xfrm>
        </p:grpSpPr>
        <p:sp>
          <p:nvSpPr>
            <p:cNvPr id="90" name=""/>
            <p:cNvSpPr/>
            <p:nvPr/>
          </p:nvSpPr>
          <p:spPr>
            <a:xfrm>
              <a:off x="6553080" y="1676520"/>
              <a:ext cx="228600" cy="1904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61280" y="1934640"/>
              <a:ext cx="268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«дружест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нный интерфейс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733560"/>
            <a:ext cx="638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эффективные способы обработки информации, создание  систем 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5972760"/>
            <a:ext cx="6381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в жизни пригодит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интерес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830840"/>
            <a:ext cx="638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использование ИТ необходимо для развития когнитивной психологи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896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Компьютерная метафор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«алгоритмическая метафора», модель Тьюринг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102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торически первая модель обработк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гнитивной психологии (1950-е – 1960-е год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3048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полагает, что обработка информации происходит в форме последовательности этапов, на каждом из которых выполняется уникальная функц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 обработ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7880" y="6490440"/>
            <a:ext cx="828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к происходит обработка информации в многопроцессорных систем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6796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овременное представ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ном параллельная обработ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регулирующиеся систе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«обратным входом»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entr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5337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курсивный механизм, уже на уровне «хард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ногоуровневые «вложенные» рекур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дели обработк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5520" y="4952160"/>
            <a:ext cx="8718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одробнее – на  следующих лекция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609480"/>
            <a:ext cx="883944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. Введение. Цели и задачи кур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ческие этапы развития когнитивной психологии. Современные методы когнитивной психоло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Сенсорные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ие принципы работы сенсорных систем. Последовательная и параллельная обработка Кодирование информации. Психофизические законы. Зрение, слух, соматосенсорная система. «Ранняя» обработк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ы «что» и «где». Перцептивная сегрегация и интеграция. Распознавание образов. Нейрофизиологические механизмы формирования целостного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4. Вним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ы внимания. Основные теории внимания: теория фильтра, «прожектор внимания», внимание как синтез и предвосхищение. Произвольное и непроизвольное внимание. Угашение внимания. Принципы доминанты и установки. Нейрофизиологические механизмы вним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5. Со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физиологическая проблема. «Лёгкие» и «трудные» проблемы при изучении феномена сознания. Концепции «информационного синтеза», «зеркальных систем мозга», «связывания». Проблема «зомби». Сознательное и бессознательное в концепциях Фрейда и Юн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685800"/>
            <a:ext cx="883944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6.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овременная и долговременная память. Физиологические основы обучения, гипотеза Хебба. Принцип обратной связи и память. Избирательное нарушение запоминания. Амнез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7. Язык и речь 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и речи. Ключевые свойства человеческого языка. Модели порождения и понимания речи. Физиологические основы речи. Афа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8. Язык и речь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речи в онтогенезе. Критические периоды для обучения речи. Обучение грамматике, особенности детской речи. Теории обучения языку. Эволюция языковых способностей и коммуникационные системы живот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9. Мышление (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репрезентации знаний. Семантическая организация информации. Логика и умозаключения – системы Аристотеля и Буля, индуктивные и дедуктивные умозаключения, вероятностные с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0. Мышление (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когнитивных способностей в онтогенезе. Стадии интеллектуального развития, концепции Пиаже и Выготского. Развитие когнитивных способностей в филогенезе. Элементарная рассудочная деятельность животных – способности к экстраполяции, обобщению и абстрагированию, использование оруд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440" y="809640"/>
            <a:ext cx="8763120" cy="59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1. Индивидуальные раз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метрические модели личности, связь личностных свойств с особенностями восприятия, внимания и мышления. Измерение интеллекта. Половые различия в стилях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2. Творческая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и и цели творческой деятельности, критерии творческого продукта. Помехи для творчества – когнитивные, эмоциональные, социальные. Роль внимания, сознательного контроля и памяти в творческой деятельности. Инсайт. Методы увеличения творческого потенц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3. Целенаправленное пове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ия условных рефлексов И.П. Павлова и рефлекторная модель работы мозга. Принцип доминанты. Теория функциональных систем П.К. Анохина и функциональная модель работы мозга. Целенаправленные системы. Понятие мотивации. Принцип иерархии ц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4. Эмо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эмоции. Классификации эмоций. Функции эмоционального восприятия реальности. Основные подходы к изучению эмоций. Теории эмоций. Информационная теория восприятия сигнала. Эмоциональные и когнитивные оценки, их взаимодействие. Роль мотиваций в распознавании и оценке образа. Информационно-потребностная теория эмо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а кур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urosoft</cp:lastModifiedBy>
  <dcterms:modified xsi:type="dcterms:W3CDTF">2009-10-24T01:21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