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476-296A-40BB-BD69-EA1A0601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57D3-1313-407F-B0A5-CF5870EE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A19-47AE-4649-A627-07912E93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C68-41DE-41B2-A422-495830D7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F94-E93D-4565-BCC8-DE9D7983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651-A77B-410A-8B3E-183FB9E5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504-CAFE-4C84-AD0D-2D32D188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158-5D01-492B-A11B-2FF7EBF0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39D-DB44-4585-B4C4-71755C5B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973-D678-4EF5-A0E9-AA68BE3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3DE2-8A80-4823-9007-4B9457C7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C0C-11D4-4F60-A1E9-8AE71ABB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34D6-EEE1-4EAE-829D-37343C0931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0937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ец запол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2917800"/>
            <a:ext cx="2701800" cy="3940200"/>
            <a:chOff x="1143000" y="2917800"/>
            <a:chExt cx="2701800" cy="39402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143000" y="2917800"/>
              <a:ext cx="2701800" cy="39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218960" y="2917800"/>
              <a:ext cx="6091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721320" y="2082960"/>
            <a:ext cx="404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Фамилия Имя Отчест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номер групп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д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143000" y="205704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8077320" y="205704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05740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853920"/>
            <a:ext cx="8153280" cy="52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. Многословная быстрая речь с не всегда верным употреблением слов и затруднённое понимание речи других людей являются симптомам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Афазии Б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. Афазии Верни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. Повреждения правой височн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. Повреждения левой височной обла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2. При повреждении левой ангулярной (угловой) извилины (височно-затылочная область) нарушае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Понимание устной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. Понимание письменной реч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. Устная реч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. Пись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415080"/>
            <a:ext cx="81532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3. Различие фонем друг от друга в европейских языках определяе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Различием в общей высоте зву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. Различием в соотношениях между частотами пиков интенс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. Индивидуальными особенностями люд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4. Ключевыми свойствами языка по Хоккету являю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Двойственн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. Семантичн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. Продуктивн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. Произвольн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. Взаимозаменяем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. Специализац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. Перемещаем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. Культурная преемствен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метьте те из них, которые присутствуют в «языке танца» у пчё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79000"/>
            <a:ext cx="8534520" cy="64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5. Высказывание типа «Каждый человек смертен, Сократ – человек, следовательно Сократ смертен» называе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Правдоподоб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. Силлогизм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. Тривиаль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. Индуктив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. Дедуктивн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. Фатализм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6. Ключевыми свойствами языка по Хоккету являю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Двойственн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. Семантичн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. Продуктивн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. Произвольн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. Взаимозаменяем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. Специализац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. Перемещаемость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. Культурная преемствен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метьте те из них, которых лишены естественные коммуникационные системы живот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880920"/>
            <a:ext cx="8534520" cy="52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7. При передаче в мозг информация об интенсивности стимула кодируется с помощью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Интенсивности нервных импуль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. Частоты импульс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. Количества задействованных канал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8. Выражение «Клетка моей бабушки» используют для образного обозначени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Гностических нейр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. Наследственной предопределённости поведенческих особен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. Уменьшения «подвижности» мышления сопутствующего старческому возрас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. Детекторов образов высшего поряд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3120"/>
            <a:ext cx="8534520" cy="61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. В первой половине XX века не удалось научить обезьян (даже человекообразных) человеческому языку потому ч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. Мозг обезьян недостаточно развит для развития языковых способ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. Строение гортани не позволяет обезьянам членораздельно говор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. Методика обучения была несовершен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. Исследователи пытались обучать уже взрослых обезья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. Никто и не пробов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. Для определения направления на источник звука в пространстве используе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. Сдвиг фазы приходящих низкочастотных звуков (в левом по сравнению с правым ухо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. Сдвиг фазы приходящих высокочастотных звуков (в левом по сравнению с правым ухом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. Эффект «звуковой тени» для низкочастотных зву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. Эффект «звуковой тени» для высокочастотных зву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669960"/>
            <a:ext cx="8534520" cy="52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1. Кратковременная пам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Хранится в гиппокам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. Обеспечивается реверберацией нервных импульсов в нейронных сет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. Обеспечивается временным сохранением образов объектов в специально выделенном блоке моз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2. Консолидация памяти эт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Объединение разнородных воспоминаний в единый обр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. «Собирание» в единый образ сигналов разной модаль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. Переход воспоминания из краткосрочной памяти в долгосрочну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1591560"/>
            <a:ext cx="8534520" cy="34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. Сохранение информации в долгосрочной памяти обеспечиваетс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. «Облегчением» проводимости в соответствующих нейронных сет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б. Реверберацией нервных импульсов в нейронных сет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. Кодированием информации в ДНК нейр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г. Кодированием информации во внутриклеточных белках нейрон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. Лобными долями моз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5:45:01Z</dcterms:created>
  <dc:creator>lea</dc:creator>
  <dc:description/>
  <dc:language>en-US</dc:language>
  <cp:lastModifiedBy>Neurosoft</cp:lastModifiedBy>
  <dcterms:modified xsi:type="dcterms:W3CDTF">2009-11-28T06:15:03Z</dcterms:modified>
  <cp:revision>7</cp:revision>
  <dc:subject/>
  <dc:title>Слайд 1</dc:title>
</cp:coreProperties>
</file>