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29.wmf" ContentType="image/x-wmf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14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A7F-7E9C-41A4-93C4-F91C1581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DF2-29F2-45A2-850F-C832BF0A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F28-6CD0-4DC4-835E-9FF5D266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EE46-2DB7-459B-88EE-BC285627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E7FD-E108-4748-9781-277BC3EE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3ABC-A942-4E72-80F0-14B4F458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E23E-04AC-432C-BACE-0447C9A8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C9E9-E049-4695-8694-8B9FAF9A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C1F7-EF71-455F-B90D-B75A4CF1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3AF-3FE8-41BF-8583-236714ED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B4DD-711C-45A8-82C9-023B004A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74D8-2517-4CB5-A451-956ED6EE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4E9C-5EB3-4C96-A719-EE01E3F08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023920"/>
            <a:ext cx="85341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кусственный интеллек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, задачи, проекты, приме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152280"/>
            <a:ext cx="861048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ажнейшие отлич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овательн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ллель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ботки информации и доступа к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нейн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урсив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ботки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делённ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мещё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процессора» и «памя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ограммированн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аптив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озможных реакций на собы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4267080"/>
            <a:ext cx="8610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ое следств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ьютеры превосходят человека только в хорошо формализуемых задачах с жёстким набором правил и чёткими целями (таких как игра в шахматы), но не там где требуется учёт широкого контекста, или выработка новых подходов к решению за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63120" y="65530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Творчество» 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981080"/>
            <a:ext cx="36576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у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разбил мне душ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к веч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ух моих г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 думаю, что я разруш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Я думаю, что я разрушу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р на этом странном зв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лько для меня и для Бо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меня в моем сердц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жизнь пла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-за кровоточащего серд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гибающихся ветв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овы их пу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гибающихся ветв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овы пути бр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ют, что мы были 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4953240" cy="3363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962520" y="129528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исунки робота «Аарон» Гарольда Коуэ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6858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ибернетический поэт Р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рцвейла»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Ray Kurzweil's Cybernetic Poet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RKCP, www.kurzweiltech.com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0880" y="2362320"/>
            <a:ext cx="838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куственного интеллекта для понимания естествен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809880" cy="3189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0" r="0" b="16987"/>
          <a:stretch/>
        </p:blipFill>
        <p:spPr>
          <a:xfrm>
            <a:off x="380880" y="4343400"/>
            <a:ext cx="3810240" cy="2235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rcRect l="0" t="0" r="0" b="21759"/>
          <a:stretch/>
        </p:blipFill>
        <p:spPr>
          <a:xfrm>
            <a:off x="380880" y="1295280"/>
            <a:ext cx="3794400" cy="1752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3636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рысоробот» Горд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45720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ура крысиных нейронов на поверхности мультиэлектродной матр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2971800"/>
            <a:ext cx="39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лектроды улавливают активность нейронов, и сами в свою очередь посылают для них сигна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76212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ст «открытое пол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4572000"/>
            <a:ext cx="3962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го 60 контактов с электродами (но при этом несколько десятков тысяч нейронов в сети) позволяют клеточному «мозгу» воспринимать и посылать информацию, достаточную для адаптивного управления «поведением» роб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0384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ановка матрицы на шасс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60280"/>
            <a:ext cx="85345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AD (Darwin-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моделирование поведения мыши в лабиринте Моррис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264360" cy="4767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04000" y="1922400"/>
            <a:ext cx="210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 нейронных облас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0000 нейрон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6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инап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0560" y="6318360"/>
            <a:ext cx="463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Neuroinformatics, 2005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, Vol.3, No 3, PP. 197-2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1120"/>
            <a:ext cx="910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UE BRAIN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581280"/>
            <a:ext cx="8610480" cy="30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обальная цель: построение работающей модели мозга (в том числе человеческог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кальная цель (достигнута): построение модели колонки коры головного моз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тем: колонки измененяются в соответствии с моделируемой областью и «размножаются» для построения модели всей коры моз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676520" y="762120"/>
          <a:ext cx="5790960" cy="21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790960" cy="21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0" y="28195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т в мае 2005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уется суперкомпьютер «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BlueGene/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20" y="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7772400" cy="5818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141120"/>
            <a:ext cx="910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UE BRAIN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6553080"/>
            <a:ext cx="708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rkram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Nature Reviews Neuroscienc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7, 153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–160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(February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20" y="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280" y="4133880"/>
            <a:ext cx="3048120" cy="2281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" y="-10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32960" y="228600"/>
            <a:ext cx="548280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рый мозг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66"/>
                </a:solidFill>
                <a:latin typeface="Arial"/>
              </a:rPr>
              <a:t>100 миллиард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нейронов в мозгу человека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333366"/>
                </a:solidFill>
                <a:latin typeface="Arial"/>
              </a:rPr>
              <a:t>300 миллион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нейронов в мозгу осьминога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333366"/>
                </a:solidFill>
                <a:latin typeface="Arial"/>
              </a:rPr>
              <a:t>1,300 грам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вес мозга взрослого человека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333366"/>
                </a:solidFill>
                <a:latin typeface="Arial"/>
              </a:rPr>
              <a:t>90 грам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вес мозга взрослой макаки резу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3352680"/>
            <a:ext cx="55627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ий мозг</a:t>
            </a:r>
            <a:br>
              <a:rPr sz="2800"/>
            </a:br>
            <a:r>
              <a:rPr b="1" lang="ru-RU" sz="1800" spc="-1" strike="noStrike">
                <a:solidFill>
                  <a:srgbClr val="333366"/>
                </a:solidFill>
                <a:latin typeface="Arial"/>
              </a:rPr>
              <a:t>22.8 TFLOP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корость работы</a:t>
            </a:r>
            <a:br>
              <a:rPr sz="1800"/>
            </a:br>
            <a:r>
              <a:rPr b="1" lang="ru-RU" sz="1800" spc="-1" strike="noStrike">
                <a:solidFill>
                  <a:srgbClr val="333366"/>
                </a:solidFill>
                <a:latin typeface="Arial"/>
              </a:rPr>
              <a:t>8,096 процессоро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 700 МГц (замедлены для поддержания больших объёмов параллельных вычислений)</a:t>
            </a:r>
            <a:br>
              <a:rPr sz="1800"/>
            </a:br>
            <a:r>
              <a:rPr b="1" lang="ru-RU" sz="1800" spc="-1" strike="noStrike">
                <a:solidFill>
                  <a:srgbClr val="333366"/>
                </a:solidFill>
                <a:latin typeface="Arial"/>
              </a:rPr>
              <a:t>Двухпроцессорные чип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суммарной скоростью 5.6 GFLOPS каждый (операции с плавающей точкой)</a:t>
            </a:r>
            <a:br>
              <a:rPr sz="1800"/>
            </a:br>
            <a:r>
              <a:rPr b="1" lang="ru-RU" sz="1800" spc="-1" strike="noStrike">
                <a:solidFill>
                  <a:srgbClr val="333366"/>
                </a:solidFill>
                <a:latin typeface="Arial"/>
              </a:rPr>
              <a:t>От 256MB до 512M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амяти на процессор</a:t>
            </a:r>
            <a:br>
              <a:rPr sz="1800"/>
            </a:br>
            <a:r>
              <a:rPr b="1" lang="ru-RU" sz="1800" spc="-1" strike="noStrike">
                <a:solidFill>
                  <a:srgbClr val="333366"/>
                </a:solidFill>
                <a:latin typeface="Arial"/>
              </a:rPr>
              <a:t>Linux и C+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/о</a:t>
            </a:r>
            <a:br>
              <a:rPr sz="1800"/>
            </a:br>
            <a:r>
              <a:rPr b="1" lang="ru-RU" sz="1800" spc="-1" strike="noStrike">
                <a:solidFill>
                  <a:srgbClr val="333366"/>
                </a:solidFill>
                <a:latin typeface="Arial"/>
              </a:rPr>
              <a:t>100 кВ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требление электроэнер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880" y="609480"/>
          <a:ext cx="259092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609480"/>
                    <a:ext cx="25909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41120"/>
            <a:ext cx="910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дея построения модели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914400"/>
            <a:ext cx="91440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На основани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анатомических данны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«нейроны» разных тип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располагаются в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«виртуальной колон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20" y="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2209680"/>
          <a:ext cx="276876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27687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flipH="1">
            <a:off x="1371240" y="1295280"/>
            <a:ext cx="1676520" cy="121932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895120" y="1295280"/>
            <a:ext cx="304920" cy="129564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362320" y="2666880"/>
          <a:ext cx="954000" cy="243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666880"/>
                    <a:ext cx="95400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562720" y="2362320"/>
          <a:ext cx="2120760" cy="32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2362320"/>
                    <a:ext cx="21207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352680" y="1828800"/>
          <a:ext cx="2590920" cy="5029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2680" y="1828800"/>
                    <a:ext cx="25909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207200" y="2362320"/>
          <a:ext cx="1936800" cy="322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07200" y="2362320"/>
                    <a:ext cx="1936800" cy="32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629400" y="1295280"/>
            <a:ext cx="228600" cy="121932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1295280"/>
            <a:ext cx="1066680" cy="114300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1752480"/>
            <a:ext cx="75960" cy="381240"/>
          </a:xfrm>
          <a:prstGeom prst="line">
            <a:avLst/>
          </a:prstGeom>
          <a:ln w="3168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141120"/>
            <a:ext cx="910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дея построения модели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91440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На основании известных закономерностей строится алгоритм построения связей («синапсов») между «нейронами». При этом параметры каждой конкретной связи формируются псевдослучай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20" y="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276720" y="2057400"/>
          <a:ext cx="37116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57400"/>
                    <a:ext cx="37116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280" y="685800"/>
            <a:ext cx="883944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евний Египет: первые счётные ма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к: В. Шикард, Б. Паскаль: вычислительные машины (только сложение и вычитание); Г. Лейбниц: вычислительная машина с делением и умно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арльз Бэббидж (1792-1871): «аналитическо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ройство»: выполняло программируем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ерации, содержащие условные следств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77120" y="2133720"/>
            <a:ext cx="1806480" cy="213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2760" y="4684680"/>
            <a:ext cx="870264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956 год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Брунер, Гуднау и Остин опубликовали книгу «Изучение мышления», Хомский — «Три модели описания языка», Миллер — «Магическое число семь плюс-минус два», Ньюэлл и Саймон — «Логическая теория машин».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ервая конференция по искуственному интеллекту в Дортмут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Участники: Джон Мак-Карти, Клод Шеннон, Марвин Минский, Герберт Саймон, Аллен Ньюэл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41120"/>
            <a:ext cx="910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дея построения модели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91440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Моделируется поступление сигналов в «колонку», передача сигнала нейронами колонки друг другу и изменения свойств «синапсов» в результате этого. В итоге должна получиться виртуальная модель колонки коры головного мозга, функционально (в смысле преобразования информации) идентичная реальной коло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20" y="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762120" y="3124080"/>
          <a:ext cx="288756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124080"/>
                    <a:ext cx="28875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095880" y="2971800"/>
          <a:ext cx="2352960" cy="368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2971800"/>
                    <a:ext cx="2352960" cy="36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10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полагаемые практические результаты первой части проекта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ocortical Colum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066680"/>
            <a:ext cx="8610480" cy="56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Aft>
                <a:spcPts val="13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ъединение и проверка массива данных, накопленных за 100 лет исследований в нейронауках (анатомия ЦНС, нейрохимия, нейрофизиология и други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3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сшифровка «нейронного код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3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нимание механизмов обработки информации в колонке коры головного моз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3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овое средство для разработки лекарств от неврологических болезн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3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пользование построенной модели для разработки гипотез и «виртуальных экспериментов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1375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снова для построения модели всего мозга (более «высокоуровневая» модель) и для моделирования работы мозга на молекулярном уровне («низкоуровневая» модель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20" y="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B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кусственный интеллект: резю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457200"/>
            <a:ext cx="8686800" cy="62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Работы по проблеме искуственного интеллекта начались более 50-ти лет назад и ставили целью разработку систем, имитирующих когнитивные функции челов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Полностью эта задача пока не решена: даже тест Тьюринга – необходим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о не достаточный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ризнак такой имитации – до сих пор не пройде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В то же время, в рамках проблемы ИИ получено большое число прикладных практических результатов; сам же термин ИИ сейчас применяется в «облегчённом» варианте и обычно обозначает систем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ак правило, узко специализированные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принимающие решения или помогающие их приня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Одна из основных причин трудностей в моделировании человеческого интеллекта – различие в архитектурах мозга и компьютерных систем: компьютеры осуществляют операции последовательно, а память в них «отделена от процессора»; мозг работает параллельно, память и обработка информации практически не разделе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Пока трудно представить искуственную систему, способную к произвольной постановке целей для самой себ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914400"/>
            <a:ext cx="861048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подборка материалов по системам 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http://dir.yahoo.com/science/computer_science/artificial_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борка русскоязычных материалов по 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gotai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2438280"/>
            <a:ext cx="8610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ournal of Artificial Societies and Social Simul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SS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jasss.soc.surrey.ac.u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3959280"/>
            <a:ext cx="8599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Association for Artificial Intellig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AAI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aaai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4781520"/>
            <a:ext cx="85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Society of Artificial Lif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SAL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alife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5332320"/>
            <a:ext cx="85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Neural Networks Socie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EEE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ieee-nns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5835600"/>
            <a:ext cx="85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 Artificial Intelligence Laborato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ai.mit.ed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22860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формация по искуственному интеллекту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42900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ообщества, посвященные проблемам 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228600"/>
            <a:ext cx="86104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модели и методы, используемые в прикладных системах 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c"/>
                </a:solidFill>
                <a:latin typeface="Arial"/>
              </a:rPr>
              <a:t>1. Нейронные се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2. Эволюционные вычисления и 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e00"/>
                </a:solidFill>
                <a:latin typeface="Arial"/>
              </a:rPr>
              <a:t>генетические алгорит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3. Экспертные сист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4. Системы с нечёткой логи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f2e"/>
                </a:solidFill>
                <a:latin typeface="Arial"/>
              </a:rPr>
              <a:t>5. Инженерия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914400"/>
            <a:ext cx="856908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c"/>
                </a:solidFill>
                <a:uFillTx/>
                <a:latin typeface="Arial"/>
              </a:rPr>
              <a:t>Нейронные се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наиболее популярный аппарат в области ИИ, который может быть применим в любой ситуации где есть связь между входными и выходными перемен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казан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Круглов В.В., Борисов В.В. (2002)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что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любая непрерывная функция может быть равномерно приближена функциями, вычисляемыми нейронными сетями, если функция активации нейрона дважды непрерывно дифференцируема и непрерыв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076720" y="773280"/>
            <a:ext cx="4103640" cy="2871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4140360" cy="2940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280" y="4191120"/>
            <a:ext cx="8856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Биологический нейр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остоит из ядра (тела нейрона), двух видов нервных волокон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ксон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передающих нервные импульсы и принимающих и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ндри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а такж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напс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лияющих на силу сигнала. Нейрон получает импульсы от аксонов других нейронов через дендриты и при этом сила импульса меняется в зависимости от типа синапса. Если суммарный импульс превышает некоторый порог, то нейрон возбуждается, формирует свой собственный импульс и передает его дальше по аксо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c"/>
                </a:solidFill>
                <a:latin typeface="Arial"/>
              </a:rPr>
              <a:t>Н е й р о н ы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35053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c"/>
                </a:solidFill>
                <a:latin typeface="Arial"/>
              </a:rPr>
              <a:t>биологический        и        модельны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2280" y="762120"/>
            <a:ext cx="885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зг человека содержит окол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ейронов, каждый из которых связан 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ругими нейро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2362320"/>
            <a:ext cx="885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того как человек получает новую информацию,  «веса» некоторых синапсов меняются и, соответственно меняется «поведение» нейронов мозга. Таким способом нейронные сети мозга «подстраиваются под поиск решен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4800600"/>
            <a:ext cx="885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ем чаще человек сталкивается с задачами одного класса, тем более устойчивыми становятся «веса» синапсов и меньше времени требуется для поиска реш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c"/>
                </a:solidFill>
                <a:latin typeface="Arial"/>
              </a:rPr>
              <a:t>Нейронная сеть естественного интелл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505600" y="47520"/>
            <a:ext cx="462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c"/>
                </a:solidFill>
                <a:latin typeface="Arial"/>
                <a:ea typeface="Arial"/>
              </a:rPr>
              <a:t>Математическая мод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c"/>
                </a:solidFill>
                <a:latin typeface="Arial"/>
                <a:ea typeface="Arial"/>
              </a:rPr>
              <a:t>искусственного ней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0720" y="1843200"/>
            <a:ext cx="1511280" cy="100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0720" y="3211560"/>
            <a:ext cx="1440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0720" y="3571920"/>
            <a:ext cx="1511280" cy="9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60720" y="2492280"/>
            <a:ext cx="1584360" cy="1440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303640" y="2563920"/>
            <a:ext cx="1295280" cy="1200600"/>
            <a:chOff x="2303640" y="2563920"/>
            <a:chExt cx="1295280" cy="1200600"/>
          </a:xfrm>
        </p:grpSpPr>
        <p:sp>
          <p:nvSpPr>
            <p:cNvPr id="181" name=""/>
            <p:cNvSpPr/>
            <p:nvPr/>
          </p:nvSpPr>
          <p:spPr>
            <a:xfrm flipV="1">
              <a:off x="3022560" y="2563920"/>
              <a:ext cx="0" cy="93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3640" y="349848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22560" y="2850840"/>
              <a:ext cx="57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4" name=""/>
            <p:cNvCxnSpPr/>
            <p:nvPr/>
          </p:nvCxnSpPr>
          <p:spPr>
            <a:xfrm flipV="1" rot="10800000">
              <a:off x="2374200" y="2850480"/>
              <a:ext cx="1153440" cy="648000"/>
            </a:xfrm>
            <a:prstGeom prst="curvedConnector5">
              <a:avLst>
                <a:gd name="adj1" fmla="val 43521"/>
                <a:gd name="adj2" fmla="val 49972"/>
                <a:gd name="adj3" fmla="val 43521"/>
              </a:avLst>
            </a:prstGeom>
            <a:ln w="63360">
              <a:solidFill>
                <a:srgbClr val="99cc00"/>
              </a:solidFill>
              <a:miter/>
            </a:ln>
          </p:spPr>
        </p:cxnSp>
        <p:sp>
          <p:nvSpPr>
            <p:cNvPr id="185" name=""/>
            <p:cNvSpPr/>
            <p:nvPr/>
          </p:nvSpPr>
          <p:spPr>
            <a:xfrm>
              <a:off x="2886120" y="3427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06920" y="2706480"/>
              <a:ext cx="28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orgia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35440" y="1339920"/>
            <a:ext cx="578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4520" y="2851200"/>
            <a:ext cx="578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3440" y="4219560"/>
            <a:ext cx="578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17880" y="1771560"/>
            <a:ext cx="574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eorgia"/>
                <a:ea typeface="Arial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07520" y="3859200"/>
            <a:ext cx="574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eorgia"/>
                <a:ea typeface="Arial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92240" y="2563920"/>
            <a:ext cx="574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eorgia"/>
                <a:ea typeface="Arial"/>
              </a:rPr>
              <a:t>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45080" y="3211560"/>
            <a:ext cx="18349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43440" y="2565360"/>
            <a:ext cx="174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Georgia"/>
                <a:ea typeface="Arial"/>
              </a:rPr>
              <a:t>f(x) = y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1268280"/>
            <a:ext cx="5545080" cy="3745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684360" y="5370480"/>
                <a:ext cx="23032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2858040" y="5589720"/>
            <a:ext cx="64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–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функция активации нейр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(логистическая функция или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сигмоид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39000" y="2421000"/>
            <a:ext cx="25077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3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 – в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синапсов дендри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78440" y="1413000"/>
            <a:ext cx="3183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3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 – сила импуль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поступающих к синапс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20200" y="3213000"/>
            <a:ext cx="30045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eorgia"/>
                <a:ea typeface="Arial"/>
              </a:rPr>
              <a:t>3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суммарный импуль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поступающий к нейр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276720" y="1916280"/>
            <a:ext cx="57456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0040" y="146196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нейр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22360" y="4292640"/>
            <a:ext cx="292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 –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сила выход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  <a:ea typeface="Arial"/>
              </a:rPr>
              <a:t>импуль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67280" y="1268280"/>
            <a:ext cx="311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2246400"/>
            <a:ext cx="31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3225960"/>
            <a:ext cx="31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4203720"/>
            <a:ext cx="31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5013360"/>
            <a:ext cx="311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67280" y="1268280"/>
            <a:ext cx="0" cy="3745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986680" y="1268280"/>
            <a:ext cx="0" cy="3745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1630440" cy="1806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93840" y="1484280"/>
            <a:ext cx="672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жон Мак-Карти. Основатель лаборатории ИИ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TI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чик язы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1539720" cy="178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09680" y="35812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жон фон Нейман. Автор стандартной архитектуры компью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5410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.А. Ляпунов. Руководитель семинара «Автоматы и мышление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начат в 1954 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 М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50920" y="620640"/>
          <a:ext cx="8713800" cy="5977080"/>
        </p:xfrm>
        <a:graphic>
          <a:graphicData uri="http://schemas.openxmlformats.org/drawingml/2006/table">
            <a:tbl>
              <a:tblPr/>
              <a:tblGrid>
                <a:gridCol w="3168720"/>
                <a:gridCol w="2665080"/>
                <a:gridCol w="2880000"/>
              </a:tblGrid>
              <a:tr h="78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рму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асть знач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ней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∞, 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линей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гмои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перболический танген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–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поненциа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вадратич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ков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–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995640" y="1413000"/>
                <a:ext cx="144000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95280" y="47520"/>
            <a:ext cx="84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c"/>
                </a:solidFill>
                <a:latin typeface="Arial"/>
                <a:ea typeface="Arial"/>
              </a:rPr>
              <a:t>Основные функции активации нейр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708360" y="1916280"/>
                <a:ext cx="216072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x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657600" y="2890800"/>
                <a:ext cx="220968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646440" y="3860640"/>
                <a:ext cx="211284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108320" y="4724280"/>
                <a:ext cx="14544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140360" y="5157720"/>
                <a:ext cx="13446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708360" y="5734080"/>
                <a:ext cx="19512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337400" y="47520"/>
            <a:ext cx="62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c"/>
                </a:solidFill>
                <a:latin typeface="Arial"/>
                <a:ea typeface="Arial"/>
              </a:rPr>
              <a:t>Основные виды нейронных се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9280" y="692280"/>
            <a:ext cx="3095280" cy="2807640"/>
            <a:chOff x="179280" y="692280"/>
            <a:chExt cx="3095280" cy="2807640"/>
          </a:xfrm>
        </p:grpSpPr>
        <p:sp>
          <p:nvSpPr>
            <p:cNvPr id="222" name=""/>
            <p:cNvSpPr/>
            <p:nvPr/>
          </p:nvSpPr>
          <p:spPr>
            <a:xfrm>
              <a:off x="1645920" y="692280"/>
              <a:ext cx="244080" cy="227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5720" y="1070280"/>
              <a:ext cx="244080" cy="227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22600" y="1070280"/>
              <a:ext cx="244080" cy="227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9280" y="1981800"/>
              <a:ext cx="2440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30480" y="1981800"/>
              <a:ext cx="24408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5720" y="2967480"/>
              <a:ext cx="244080" cy="227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45920" y="3272760"/>
              <a:ext cx="244080" cy="227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22600" y="2892600"/>
              <a:ext cx="244080" cy="227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1280" y="2133000"/>
              <a:ext cx="325800" cy="9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749160" y="3119760"/>
              <a:ext cx="9766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1807920" y="3045600"/>
              <a:ext cx="896040" cy="37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41280" y="1223280"/>
              <a:ext cx="325800" cy="83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49520" y="766440"/>
              <a:ext cx="1058400" cy="37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08280" y="766800"/>
              <a:ext cx="978120" cy="45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86400" y="1223280"/>
              <a:ext cx="324360" cy="83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786400" y="2132640"/>
              <a:ext cx="324360" cy="9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41280" y="2133000"/>
              <a:ext cx="1384560" cy="121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1280" y="2133000"/>
              <a:ext cx="2444760" cy="9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1280" y="2133000"/>
              <a:ext cx="28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41280" y="1146240"/>
              <a:ext cx="2444760" cy="9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41280" y="843120"/>
              <a:ext cx="1384560" cy="128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9520" y="1223280"/>
              <a:ext cx="0" cy="189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9520" y="1223280"/>
              <a:ext cx="1012680" cy="214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9520" y="1223280"/>
              <a:ext cx="2444760" cy="90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7440" y="1146600"/>
              <a:ext cx="2036880" cy="18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9520" y="1146600"/>
              <a:ext cx="1976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49520" y="766440"/>
              <a:ext cx="1058400" cy="227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1762200" y="758160"/>
              <a:ext cx="0" cy="267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807920" y="842760"/>
              <a:ext cx="896040" cy="220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1807920" y="843120"/>
              <a:ext cx="1302840" cy="128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49520" y="1222920"/>
              <a:ext cx="1954800" cy="182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726200" y="1146240"/>
              <a:ext cx="1059840" cy="227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2786400" y="1222920"/>
              <a:ext cx="0" cy="174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749520" y="2132640"/>
              <a:ext cx="2361600" cy="9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808280" y="2057400"/>
              <a:ext cx="1386000" cy="128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29360" y="3042360"/>
              <a:ext cx="205668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56000" y="836640"/>
            <a:ext cx="4609800" cy="1980720"/>
            <a:chOff x="4356000" y="836640"/>
            <a:chExt cx="4609800" cy="1980720"/>
          </a:xfrm>
        </p:grpSpPr>
        <p:sp>
          <p:nvSpPr>
            <p:cNvPr id="259" name=""/>
            <p:cNvSpPr/>
            <p:nvPr/>
          </p:nvSpPr>
          <p:spPr>
            <a:xfrm>
              <a:off x="4356000" y="979200"/>
              <a:ext cx="122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356000" y="1411200"/>
              <a:ext cx="122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56000" y="2276280"/>
              <a:ext cx="122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56000" y="2707920"/>
              <a:ext cx="122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56000" y="1844640"/>
              <a:ext cx="122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516360" y="836640"/>
              <a:ext cx="255600" cy="252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79640" y="981000"/>
              <a:ext cx="107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79640" y="1412640"/>
              <a:ext cx="107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79640" y="1844640"/>
              <a:ext cx="107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79640" y="2276280"/>
              <a:ext cx="107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9640" y="2709720"/>
              <a:ext cx="107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16360" y="1268280"/>
              <a:ext cx="255600" cy="25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16360" y="1701720"/>
              <a:ext cx="255600" cy="25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16360" y="2133360"/>
              <a:ext cx="255600" cy="25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16360" y="2565360"/>
              <a:ext cx="255600" cy="25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579640" y="2275920"/>
              <a:ext cx="1079640" cy="43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579640" y="1844640"/>
              <a:ext cx="1079640" cy="86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579640" y="1412640"/>
              <a:ext cx="1079640" cy="129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5579640" y="980640"/>
              <a:ext cx="1079640" cy="172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9640" y="2276280"/>
              <a:ext cx="1079640" cy="43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579640" y="1844640"/>
              <a:ext cx="107964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579640" y="1412640"/>
              <a:ext cx="1079640" cy="86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5579640" y="980640"/>
              <a:ext cx="1079640" cy="129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79640" y="1844640"/>
              <a:ext cx="107964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9640" y="1844640"/>
              <a:ext cx="1079640" cy="86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579640" y="1412280"/>
              <a:ext cx="1079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579640" y="981000"/>
              <a:ext cx="1079640" cy="86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79640" y="1412640"/>
              <a:ext cx="107964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79640" y="1412640"/>
              <a:ext cx="1079640" cy="86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79640" y="1412640"/>
              <a:ext cx="1079640" cy="129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579640" y="981000"/>
              <a:ext cx="115272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79640" y="981000"/>
              <a:ext cx="107964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79640" y="981000"/>
              <a:ext cx="1079640" cy="86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79640" y="981000"/>
              <a:ext cx="1079640" cy="129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79640" y="981000"/>
              <a:ext cx="1079640" cy="172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96000" y="1268280"/>
              <a:ext cx="255600" cy="25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96000" y="1701720"/>
              <a:ext cx="255600" cy="25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96000" y="2133360"/>
              <a:ext cx="255600" cy="252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59280" y="1844640"/>
              <a:ext cx="107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9280" y="1844640"/>
              <a:ext cx="108108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659280" y="1412280"/>
              <a:ext cx="108108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59280" y="1412640"/>
              <a:ext cx="107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59280" y="2276280"/>
              <a:ext cx="107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659280" y="1844640"/>
              <a:ext cx="108108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659280" y="1412640"/>
              <a:ext cx="1081080" cy="86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59280" y="1412640"/>
              <a:ext cx="108108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59280" y="1412640"/>
              <a:ext cx="1081080" cy="86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659280" y="2275920"/>
              <a:ext cx="1081080" cy="43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659280" y="1844640"/>
              <a:ext cx="1081080" cy="86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659280" y="1412640"/>
              <a:ext cx="1081080" cy="129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659280" y="981000"/>
              <a:ext cx="108108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59280" y="981000"/>
              <a:ext cx="1081080" cy="86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59280" y="981000"/>
              <a:ext cx="1081080" cy="129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40360" y="1412640"/>
              <a:ext cx="122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740360" y="1844640"/>
              <a:ext cx="122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740360" y="2276280"/>
              <a:ext cx="122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39640" y="4149720"/>
            <a:ext cx="2087640" cy="2016000"/>
            <a:chOff x="539640" y="4149720"/>
            <a:chExt cx="2087640" cy="2016000"/>
          </a:xfrm>
        </p:grpSpPr>
        <p:sp>
          <p:nvSpPr>
            <p:cNvPr id="316" name=""/>
            <p:cNvSpPr/>
            <p:nvPr/>
          </p:nvSpPr>
          <p:spPr>
            <a:xfrm>
              <a:off x="793440" y="4401000"/>
              <a:ext cx="223920" cy="220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87880" y="4401000"/>
              <a:ext cx="224280" cy="220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83760" y="4401000"/>
              <a:ext cx="224280" cy="220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3440" y="5094360"/>
              <a:ext cx="223920" cy="220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3440" y="5787360"/>
              <a:ext cx="223920" cy="220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87880" y="5094360"/>
              <a:ext cx="224280" cy="220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87880" y="5787360"/>
              <a:ext cx="224280" cy="220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83760" y="5094360"/>
              <a:ext cx="224280" cy="220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83760" y="5787360"/>
              <a:ext cx="224280" cy="220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9640" y="5912640"/>
              <a:ext cx="20876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9640" y="5220720"/>
              <a:ext cx="208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9640" y="4527360"/>
              <a:ext cx="208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18720" y="4149720"/>
              <a:ext cx="0" cy="20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14600" y="4149720"/>
              <a:ext cx="0" cy="20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10480" y="4149720"/>
              <a:ext cx="0" cy="20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12760" y="350028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полносвязная с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140000" y="2781360"/>
            <a:ext cx="495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многослойная се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с последовательными связ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(персептр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7600" y="616572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слабосвязная с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82240" y="4797360"/>
            <a:ext cx="40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680000" y="4146480"/>
            <a:ext cx="341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Особые виды сет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сеть Кохон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сеть Хопфил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сеть Хэмм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когнит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неокогнитр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28600" y="475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c"/>
                </a:solidFill>
                <a:latin typeface="Arial"/>
                <a:ea typeface="Arial"/>
              </a:rPr>
              <a:t>Общая схема обучения нейронной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400" y="1386000"/>
            <a:ext cx="1861920" cy="50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9320" y="1295280"/>
            <a:ext cx="1663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База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04880" y="1876320"/>
            <a:ext cx="561960" cy="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4880" y="1876320"/>
            <a:ext cx="561960" cy="20880"/>
          </a:xfrm>
          <a:prstGeom prst="rect">
            <a:avLst/>
          </a:prstGeom>
          <a:noFill/>
          <a:ln cap="rnd"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1828800"/>
            <a:ext cx="1133640" cy="809640"/>
          </a:xfrm>
          <a:custGeom>
            <a:avLst/>
            <a:gdLst/>
            <a:ahLst/>
            <a:rect l="l" t="t" r="r" b="b"/>
            <a:pathLst>
              <a:path w="714" h="510">
                <a:moveTo>
                  <a:pt x="536" y="0"/>
                </a:moveTo>
                <a:lnTo>
                  <a:pt x="536" y="331"/>
                </a:lnTo>
                <a:lnTo>
                  <a:pt x="714" y="331"/>
                </a:lnTo>
                <a:lnTo>
                  <a:pt x="357" y="510"/>
                </a:lnTo>
                <a:lnTo>
                  <a:pt x="0" y="331"/>
                </a:lnTo>
                <a:lnTo>
                  <a:pt x="179" y="331"/>
                </a:lnTo>
                <a:lnTo>
                  <a:pt x="179" y="0"/>
                </a:lnTo>
                <a:lnTo>
                  <a:pt x="536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48920" y="2800440"/>
            <a:ext cx="953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6360" y="3124080"/>
            <a:ext cx="120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прим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04120" y="1060560"/>
            <a:ext cx="204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еть обуч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94640" y="2068560"/>
            <a:ext cx="1724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Примен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951640" y="2392200"/>
            <a:ext cx="2324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нейронной се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48880" y="4419720"/>
            <a:ext cx="2216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Расчет ошиб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084880" y="3498840"/>
            <a:ext cx="957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229240" y="3809880"/>
            <a:ext cx="60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м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999200" y="5029200"/>
            <a:ext cx="957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ши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071560" y="5353200"/>
            <a:ext cx="82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е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77920" y="5934240"/>
            <a:ext cx="82580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124360" y="6087960"/>
            <a:ext cx="5057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Подстройка весов нейронной се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3657600"/>
            <a:ext cx="1067040" cy="2209680"/>
          </a:xfrm>
          <a:custGeom>
            <a:avLst/>
            <a:gdLst/>
            <a:ahLst/>
            <a:rect l="l" t="t" r="r" b="b"/>
            <a:pathLst>
              <a:path w="765" h="1631">
                <a:moveTo>
                  <a:pt x="574" y="1631"/>
                </a:moveTo>
                <a:lnTo>
                  <a:pt x="574" y="191"/>
                </a:lnTo>
                <a:lnTo>
                  <a:pt x="765" y="191"/>
                </a:lnTo>
                <a:lnTo>
                  <a:pt x="382" y="0"/>
                </a:lnTo>
                <a:lnTo>
                  <a:pt x="0" y="191"/>
                </a:lnTo>
                <a:lnTo>
                  <a:pt x="191" y="191"/>
                </a:lnTo>
                <a:lnTo>
                  <a:pt x="191" y="1631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030480" y="2998800"/>
            <a:ext cx="2104920" cy="1544760"/>
            <a:chOff x="3030480" y="2998800"/>
            <a:chExt cx="2104920" cy="1544760"/>
          </a:xfrm>
        </p:grpSpPr>
        <p:sp>
          <p:nvSpPr>
            <p:cNvPr id="356" name=""/>
            <p:cNvSpPr/>
            <p:nvPr/>
          </p:nvSpPr>
          <p:spPr>
            <a:xfrm>
              <a:off x="3201840" y="2998800"/>
              <a:ext cx="344520" cy="342720"/>
            </a:xfrm>
            <a:custGeom>
              <a:avLst/>
              <a:gdLst/>
              <a:ahLst/>
              <a:rect l="l" t="t" r="r" b="b"/>
              <a:pathLst>
                <a:path w="612" h="611">
                  <a:moveTo>
                    <a:pt x="0" y="305"/>
                  </a:moveTo>
                  <a:cubicBezTo>
                    <a:pt x="0" y="136"/>
                    <a:pt x="137" y="0"/>
                    <a:pt x="306" y="0"/>
                  </a:cubicBezTo>
                  <a:cubicBezTo>
                    <a:pt x="475" y="0"/>
                    <a:pt x="612" y="136"/>
                    <a:pt x="612" y="305"/>
                  </a:cubicBezTo>
                  <a:cubicBezTo>
                    <a:pt x="612" y="305"/>
                    <a:pt x="612" y="305"/>
                    <a:pt x="612" y="305"/>
                  </a:cubicBezTo>
                  <a:cubicBezTo>
                    <a:pt x="612" y="474"/>
                    <a:pt x="475" y="611"/>
                    <a:pt x="306" y="611"/>
                  </a:cubicBezTo>
                  <a:cubicBezTo>
                    <a:pt x="137" y="611"/>
                    <a:pt x="0" y="474"/>
                    <a:pt x="0" y="305"/>
                  </a:cubicBez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01840" y="2998800"/>
              <a:ext cx="344520" cy="34272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0" y="108"/>
                  </a:moveTo>
                  <a:cubicBezTo>
                    <a:pt x="0" y="48"/>
                    <a:pt x="49" y="0"/>
                    <a:pt x="109" y="0"/>
                  </a:cubicBezTo>
                  <a:cubicBezTo>
                    <a:pt x="169" y="0"/>
                    <a:pt x="217" y="48"/>
                    <a:pt x="217" y="108"/>
                  </a:cubicBezTo>
                  <a:cubicBezTo>
                    <a:pt x="217" y="108"/>
                    <a:pt x="217" y="108"/>
                    <a:pt x="217" y="108"/>
                  </a:cubicBezTo>
                  <a:cubicBezTo>
                    <a:pt x="217" y="168"/>
                    <a:pt x="169" y="216"/>
                    <a:pt x="109" y="216"/>
                  </a:cubicBezTo>
                  <a:cubicBezTo>
                    <a:pt x="49" y="216"/>
                    <a:pt x="0" y="168"/>
                    <a:pt x="0" y="10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01840" y="3581280"/>
              <a:ext cx="344520" cy="344520"/>
            </a:xfrm>
            <a:custGeom>
              <a:avLst/>
              <a:gdLst/>
              <a:ahLst/>
              <a:rect l="l" t="t" r="r" b="b"/>
              <a:pathLst>
                <a:path w="612" h="611">
                  <a:moveTo>
                    <a:pt x="0" y="306"/>
                  </a:moveTo>
                  <a:cubicBezTo>
                    <a:pt x="0" y="137"/>
                    <a:pt x="137" y="0"/>
                    <a:pt x="306" y="0"/>
                  </a:cubicBezTo>
                  <a:cubicBezTo>
                    <a:pt x="475" y="0"/>
                    <a:pt x="612" y="137"/>
                    <a:pt x="612" y="306"/>
                  </a:cubicBezTo>
                  <a:cubicBezTo>
                    <a:pt x="612" y="306"/>
                    <a:pt x="612" y="306"/>
                    <a:pt x="612" y="306"/>
                  </a:cubicBezTo>
                  <a:cubicBezTo>
                    <a:pt x="612" y="474"/>
                    <a:pt x="475" y="611"/>
                    <a:pt x="306" y="611"/>
                  </a:cubicBezTo>
                  <a:cubicBezTo>
                    <a:pt x="137" y="611"/>
                    <a:pt x="0" y="474"/>
                    <a:pt x="0" y="306"/>
                  </a:cubicBez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201840" y="3581280"/>
              <a:ext cx="344520" cy="344520"/>
            </a:xfrm>
            <a:custGeom>
              <a:avLst/>
              <a:gdLst/>
              <a:ahLst/>
              <a:rect l="l" t="t" r="r" b="b"/>
              <a:pathLst>
                <a:path w="217" h="217">
                  <a:moveTo>
                    <a:pt x="0" y="109"/>
                  </a:moveTo>
                  <a:cubicBezTo>
                    <a:pt x="0" y="49"/>
                    <a:pt x="49" y="0"/>
                    <a:pt x="109" y="0"/>
                  </a:cubicBezTo>
                  <a:cubicBezTo>
                    <a:pt x="169" y="0"/>
                    <a:pt x="217" y="49"/>
                    <a:pt x="217" y="109"/>
                  </a:cubicBezTo>
                  <a:cubicBezTo>
                    <a:pt x="217" y="109"/>
                    <a:pt x="217" y="109"/>
                    <a:pt x="217" y="109"/>
                  </a:cubicBezTo>
                  <a:cubicBezTo>
                    <a:pt x="217" y="168"/>
                    <a:pt x="169" y="217"/>
                    <a:pt x="109" y="217"/>
                  </a:cubicBezTo>
                  <a:cubicBezTo>
                    <a:pt x="49" y="217"/>
                    <a:pt x="0" y="168"/>
                    <a:pt x="0" y="10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01840" y="4200480"/>
              <a:ext cx="344520" cy="343080"/>
            </a:xfrm>
            <a:custGeom>
              <a:avLst/>
              <a:gdLst/>
              <a:ahLst/>
              <a:rect l="l" t="t" r="r" b="b"/>
              <a:pathLst>
                <a:path w="612" h="611">
                  <a:moveTo>
                    <a:pt x="0" y="305"/>
                  </a:moveTo>
                  <a:cubicBezTo>
                    <a:pt x="0" y="137"/>
                    <a:pt x="137" y="0"/>
                    <a:pt x="306" y="0"/>
                  </a:cubicBezTo>
                  <a:cubicBezTo>
                    <a:pt x="475" y="0"/>
                    <a:pt x="612" y="137"/>
                    <a:pt x="612" y="305"/>
                  </a:cubicBezTo>
                  <a:cubicBezTo>
                    <a:pt x="612" y="305"/>
                    <a:pt x="612" y="305"/>
                    <a:pt x="612" y="305"/>
                  </a:cubicBezTo>
                  <a:cubicBezTo>
                    <a:pt x="612" y="474"/>
                    <a:pt x="475" y="611"/>
                    <a:pt x="306" y="611"/>
                  </a:cubicBezTo>
                  <a:cubicBezTo>
                    <a:pt x="137" y="611"/>
                    <a:pt x="0" y="474"/>
                    <a:pt x="0" y="305"/>
                  </a:cubicBez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201840" y="4200480"/>
              <a:ext cx="344520" cy="34308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0" y="108"/>
                  </a:moveTo>
                  <a:cubicBezTo>
                    <a:pt x="0" y="48"/>
                    <a:pt x="49" y="0"/>
                    <a:pt x="109" y="0"/>
                  </a:cubicBezTo>
                  <a:cubicBezTo>
                    <a:pt x="169" y="0"/>
                    <a:pt x="217" y="48"/>
                    <a:pt x="217" y="108"/>
                  </a:cubicBezTo>
                  <a:cubicBezTo>
                    <a:pt x="217" y="108"/>
                    <a:pt x="217" y="108"/>
                    <a:pt x="217" y="108"/>
                  </a:cubicBezTo>
                  <a:cubicBezTo>
                    <a:pt x="217" y="168"/>
                    <a:pt x="169" y="216"/>
                    <a:pt x="109" y="216"/>
                  </a:cubicBezTo>
                  <a:cubicBezTo>
                    <a:pt x="49" y="216"/>
                    <a:pt x="0" y="168"/>
                    <a:pt x="0" y="10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90880" y="2998800"/>
              <a:ext cx="344520" cy="342720"/>
            </a:xfrm>
            <a:custGeom>
              <a:avLst/>
              <a:gdLst/>
              <a:ahLst/>
              <a:rect l="l" t="t" r="r" b="b"/>
              <a:pathLst>
                <a:path w="612" h="611">
                  <a:moveTo>
                    <a:pt x="0" y="305"/>
                  </a:moveTo>
                  <a:cubicBezTo>
                    <a:pt x="0" y="136"/>
                    <a:pt x="137" y="0"/>
                    <a:pt x="306" y="0"/>
                  </a:cubicBezTo>
                  <a:cubicBezTo>
                    <a:pt x="475" y="0"/>
                    <a:pt x="612" y="136"/>
                    <a:pt x="612" y="305"/>
                  </a:cubicBezTo>
                  <a:cubicBezTo>
                    <a:pt x="612" y="305"/>
                    <a:pt x="612" y="305"/>
                    <a:pt x="612" y="305"/>
                  </a:cubicBezTo>
                  <a:cubicBezTo>
                    <a:pt x="612" y="474"/>
                    <a:pt x="475" y="611"/>
                    <a:pt x="306" y="611"/>
                  </a:cubicBezTo>
                  <a:cubicBezTo>
                    <a:pt x="137" y="611"/>
                    <a:pt x="0" y="474"/>
                    <a:pt x="0" y="305"/>
                  </a:cubicBez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90880" y="2998800"/>
              <a:ext cx="344520" cy="34272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0" y="108"/>
                  </a:moveTo>
                  <a:cubicBezTo>
                    <a:pt x="0" y="48"/>
                    <a:pt x="48" y="0"/>
                    <a:pt x="108" y="0"/>
                  </a:cubicBezTo>
                  <a:cubicBezTo>
                    <a:pt x="168" y="0"/>
                    <a:pt x="217" y="48"/>
                    <a:pt x="217" y="108"/>
                  </a:cubicBezTo>
                  <a:cubicBezTo>
                    <a:pt x="217" y="108"/>
                    <a:pt x="217" y="108"/>
                    <a:pt x="217" y="108"/>
                  </a:cubicBezTo>
                  <a:cubicBezTo>
                    <a:pt x="217" y="168"/>
                    <a:pt x="168" y="216"/>
                    <a:pt x="108" y="216"/>
                  </a:cubicBezTo>
                  <a:cubicBezTo>
                    <a:pt x="48" y="216"/>
                    <a:pt x="0" y="168"/>
                    <a:pt x="0" y="10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0880" y="3581280"/>
              <a:ext cx="344520" cy="344520"/>
            </a:xfrm>
            <a:custGeom>
              <a:avLst/>
              <a:gdLst/>
              <a:ahLst/>
              <a:rect l="l" t="t" r="r" b="b"/>
              <a:pathLst>
                <a:path w="612" h="611">
                  <a:moveTo>
                    <a:pt x="0" y="306"/>
                  </a:moveTo>
                  <a:cubicBezTo>
                    <a:pt x="0" y="137"/>
                    <a:pt x="137" y="0"/>
                    <a:pt x="306" y="0"/>
                  </a:cubicBezTo>
                  <a:cubicBezTo>
                    <a:pt x="475" y="0"/>
                    <a:pt x="612" y="137"/>
                    <a:pt x="612" y="306"/>
                  </a:cubicBezTo>
                  <a:cubicBezTo>
                    <a:pt x="612" y="306"/>
                    <a:pt x="612" y="306"/>
                    <a:pt x="612" y="306"/>
                  </a:cubicBezTo>
                  <a:cubicBezTo>
                    <a:pt x="612" y="474"/>
                    <a:pt x="475" y="611"/>
                    <a:pt x="306" y="611"/>
                  </a:cubicBezTo>
                  <a:cubicBezTo>
                    <a:pt x="137" y="611"/>
                    <a:pt x="0" y="474"/>
                    <a:pt x="0" y="306"/>
                  </a:cubicBez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90880" y="3581280"/>
              <a:ext cx="344520" cy="344520"/>
            </a:xfrm>
            <a:custGeom>
              <a:avLst/>
              <a:gdLst/>
              <a:ahLst/>
              <a:rect l="l" t="t" r="r" b="b"/>
              <a:pathLst>
                <a:path w="217" h="217">
                  <a:moveTo>
                    <a:pt x="0" y="109"/>
                  </a:moveTo>
                  <a:cubicBezTo>
                    <a:pt x="0" y="49"/>
                    <a:pt x="48" y="0"/>
                    <a:pt x="108" y="0"/>
                  </a:cubicBezTo>
                  <a:cubicBezTo>
                    <a:pt x="168" y="0"/>
                    <a:pt x="217" y="49"/>
                    <a:pt x="217" y="109"/>
                  </a:cubicBezTo>
                  <a:cubicBezTo>
                    <a:pt x="217" y="109"/>
                    <a:pt x="217" y="109"/>
                    <a:pt x="217" y="109"/>
                  </a:cubicBezTo>
                  <a:cubicBezTo>
                    <a:pt x="217" y="168"/>
                    <a:pt x="168" y="217"/>
                    <a:pt x="108" y="217"/>
                  </a:cubicBezTo>
                  <a:cubicBezTo>
                    <a:pt x="48" y="217"/>
                    <a:pt x="0" y="168"/>
                    <a:pt x="0" y="10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90880" y="4200480"/>
              <a:ext cx="344520" cy="343080"/>
            </a:xfrm>
            <a:custGeom>
              <a:avLst/>
              <a:gdLst/>
              <a:ahLst/>
              <a:rect l="l" t="t" r="r" b="b"/>
              <a:pathLst>
                <a:path w="612" h="611">
                  <a:moveTo>
                    <a:pt x="0" y="305"/>
                  </a:moveTo>
                  <a:cubicBezTo>
                    <a:pt x="0" y="137"/>
                    <a:pt x="137" y="0"/>
                    <a:pt x="306" y="0"/>
                  </a:cubicBezTo>
                  <a:cubicBezTo>
                    <a:pt x="475" y="0"/>
                    <a:pt x="612" y="137"/>
                    <a:pt x="612" y="305"/>
                  </a:cubicBezTo>
                  <a:cubicBezTo>
                    <a:pt x="612" y="305"/>
                    <a:pt x="612" y="305"/>
                    <a:pt x="612" y="305"/>
                  </a:cubicBezTo>
                  <a:cubicBezTo>
                    <a:pt x="612" y="474"/>
                    <a:pt x="475" y="611"/>
                    <a:pt x="306" y="611"/>
                  </a:cubicBezTo>
                  <a:cubicBezTo>
                    <a:pt x="137" y="611"/>
                    <a:pt x="0" y="474"/>
                    <a:pt x="0" y="305"/>
                  </a:cubicBez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90880" y="4200480"/>
              <a:ext cx="344520" cy="343080"/>
            </a:xfrm>
            <a:custGeom>
              <a:avLst/>
              <a:gdLst/>
              <a:ahLst/>
              <a:rect l="l" t="t" r="r" b="b"/>
              <a:pathLst>
                <a:path w="217" h="216">
                  <a:moveTo>
                    <a:pt x="0" y="108"/>
                  </a:moveTo>
                  <a:cubicBezTo>
                    <a:pt x="0" y="48"/>
                    <a:pt x="48" y="0"/>
                    <a:pt x="108" y="0"/>
                  </a:cubicBezTo>
                  <a:cubicBezTo>
                    <a:pt x="168" y="0"/>
                    <a:pt x="217" y="48"/>
                    <a:pt x="217" y="108"/>
                  </a:cubicBezTo>
                  <a:cubicBezTo>
                    <a:pt x="217" y="108"/>
                    <a:pt x="217" y="108"/>
                    <a:pt x="217" y="108"/>
                  </a:cubicBezTo>
                  <a:cubicBezTo>
                    <a:pt x="217" y="168"/>
                    <a:pt x="168" y="216"/>
                    <a:pt x="108" y="216"/>
                  </a:cubicBezTo>
                  <a:cubicBezTo>
                    <a:pt x="48" y="216"/>
                    <a:pt x="0" y="168"/>
                    <a:pt x="0" y="10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78480" y="3581280"/>
              <a:ext cx="344520" cy="344520"/>
            </a:xfrm>
            <a:custGeom>
              <a:avLst/>
              <a:gdLst/>
              <a:ahLst/>
              <a:rect l="l" t="t" r="r" b="b"/>
              <a:pathLst>
                <a:path w="612" h="611">
                  <a:moveTo>
                    <a:pt x="0" y="306"/>
                  </a:moveTo>
                  <a:cubicBezTo>
                    <a:pt x="0" y="137"/>
                    <a:pt x="137" y="0"/>
                    <a:pt x="306" y="0"/>
                  </a:cubicBezTo>
                  <a:cubicBezTo>
                    <a:pt x="475" y="0"/>
                    <a:pt x="612" y="137"/>
                    <a:pt x="612" y="306"/>
                  </a:cubicBezTo>
                  <a:cubicBezTo>
                    <a:pt x="612" y="306"/>
                    <a:pt x="612" y="306"/>
                    <a:pt x="612" y="306"/>
                  </a:cubicBezTo>
                  <a:cubicBezTo>
                    <a:pt x="612" y="474"/>
                    <a:pt x="475" y="611"/>
                    <a:pt x="306" y="611"/>
                  </a:cubicBezTo>
                  <a:cubicBezTo>
                    <a:pt x="137" y="611"/>
                    <a:pt x="0" y="474"/>
                    <a:pt x="0" y="306"/>
                  </a:cubicBez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78480" y="3581280"/>
              <a:ext cx="344520" cy="344520"/>
            </a:xfrm>
            <a:custGeom>
              <a:avLst/>
              <a:gdLst/>
              <a:ahLst/>
              <a:rect l="l" t="t" r="r" b="b"/>
              <a:pathLst>
                <a:path w="217" h="217">
                  <a:moveTo>
                    <a:pt x="0" y="109"/>
                  </a:moveTo>
                  <a:cubicBezTo>
                    <a:pt x="0" y="49"/>
                    <a:pt x="49" y="0"/>
                    <a:pt x="108" y="0"/>
                  </a:cubicBezTo>
                  <a:cubicBezTo>
                    <a:pt x="168" y="0"/>
                    <a:pt x="217" y="49"/>
                    <a:pt x="217" y="109"/>
                  </a:cubicBezTo>
                  <a:cubicBezTo>
                    <a:pt x="217" y="109"/>
                    <a:pt x="217" y="109"/>
                    <a:pt x="217" y="109"/>
                  </a:cubicBezTo>
                  <a:cubicBezTo>
                    <a:pt x="217" y="168"/>
                    <a:pt x="168" y="217"/>
                    <a:pt x="108" y="217"/>
                  </a:cubicBezTo>
                  <a:cubicBezTo>
                    <a:pt x="49" y="217"/>
                    <a:pt x="0" y="168"/>
                    <a:pt x="0" y="109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030480" y="4371840"/>
              <a:ext cx="1031760" cy="7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030480" y="3169800"/>
              <a:ext cx="1031760" cy="126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030480" y="3754080"/>
              <a:ext cx="1031760" cy="1116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75000" y="3170160"/>
              <a:ext cx="687240" cy="1201680"/>
            </a:xfrm>
            <a:custGeom>
              <a:avLst/>
              <a:gdLst/>
              <a:ahLst/>
              <a:rect l="l" t="t" r="r" b="b"/>
              <a:pathLst>
                <a:path w="433" h="757">
                  <a:moveTo>
                    <a:pt x="433" y="757"/>
                  </a:moveTo>
                  <a:lnTo>
                    <a:pt x="0" y="0"/>
                  </a:lnTo>
                  <a:lnTo>
                    <a:pt x="433" y="368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54480" y="3182760"/>
              <a:ext cx="687240" cy="1202040"/>
            </a:xfrm>
            <a:custGeom>
              <a:avLst/>
              <a:gdLst/>
              <a:ahLst/>
              <a:rect l="l" t="t" r="r" b="b"/>
              <a:pathLst>
                <a:path w="433" h="757">
                  <a:moveTo>
                    <a:pt x="433" y="757"/>
                  </a:moveTo>
                  <a:lnTo>
                    <a:pt x="0" y="367"/>
                  </a:lnTo>
                  <a:lnTo>
                    <a:pt x="433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3375000" y="3754080"/>
              <a:ext cx="687240" cy="617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3375000" y="3170160"/>
              <a:ext cx="687240" cy="12016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62240" y="3170160"/>
              <a:ext cx="687600" cy="584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62240" y="3754440"/>
              <a:ext cx="68760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62240" y="3754080"/>
              <a:ext cx="687600" cy="617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49840" y="3754440"/>
              <a:ext cx="38556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431040" y="1781280"/>
            <a:ext cx="1942920" cy="1395360"/>
            <a:chOff x="6431040" y="1781280"/>
            <a:chExt cx="1942920" cy="1395360"/>
          </a:xfrm>
        </p:grpSpPr>
        <p:sp>
          <p:nvSpPr>
            <p:cNvPr id="382" name=""/>
            <p:cNvSpPr/>
            <p:nvPr/>
          </p:nvSpPr>
          <p:spPr>
            <a:xfrm>
              <a:off x="6593040" y="1781280"/>
              <a:ext cx="323640" cy="309600"/>
            </a:xfrm>
            <a:custGeom>
              <a:avLst/>
              <a:gdLst/>
              <a:ahLst/>
              <a:rect l="l" t="t" r="r" b="b"/>
              <a:pathLst>
                <a:path w="576" h="552">
                  <a:moveTo>
                    <a:pt x="0" y="276"/>
                  </a:moveTo>
                  <a:cubicBezTo>
                    <a:pt x="0" y="124"/>
                    <a:pt x="129" y="0"/>
                    <a:pt x="288" y="0"/>
                  </a:cubicBezTo>
                  <a:cubicBezTo>
                    <a:pt x="447" y="0"/>
                    <a:pt x="576" y="124"/>
                    <a:pt x="576" y="276"/>
                  </a:cubicBezTo>
                  <a:cubicBezTo>
                    <a:pt x="576" y="276"/>
                    <a:pt x="576" y="276"/>
                    <a:pt x="576" y="276"/>
                  </a:cubicBezTo>
                  <a:cubicBezTo>
                    <a:pt x="576" y="429"/>
                    <a:pt x="447" y="552"/>
                    <a:pt x="288" y="552"/>
                  </a:cubicBezTo>
                  <a:cubicBezTo>
                    <a:pt x="129" y="552"/>
                    <a:pt x="0" y="429"/>
                    <a:pt x="0" y="276"/>
                  </a:cubicBez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93040" y="1781280"/>
              <a:ext cx="323640" cy="309600"/>
            </a:xfrm>
            <a:custGeom>
              <a:avLst/>
              <a:gdLst/>
              <a:ahLst/>
              <a:rect l="l" t="t" r="r" b="b"/>
              <a:pathLst>
                <a:path w="204" h="195">
                  <a:moveTo>
                    <a:pt x="0" y="98"/>
                  </a:moveTo>
                  <a:cubicBezTo>
                    <a:pt x="0" y="44"/>
                    <a:pt x="46" y="0"/>
                    <a:pt x="102" y="0"/>
                  </a:cubicBezTo>
                  <a:cubicBezTo>
                    <a:pt x="158" y="0"/>
                    <a:pt x="204" y="44"/>
                    <a:pt x="204" y="98"/>
                  </a:cubicBezTo>
                  <a:cubicBezTo>
                    <a:pt x="204" y="98"/>
                    <a:pt x="204" y="98"/>
                    <a:pt x="204" y="98"/>
                  </a:cubicBezTo>
                  <a:cubicBezTo>
                    <a:pt x="204" y="152"/>
                    <a:pt x="158" y="195"/>
                    <a:pt x="102" y="195"/>
                  </a:cubicBezTo>
                  <a:cubicBezTo>
                    <a:pt x="46" y="195"/>
                    <a:pt x="0" y="152"/>
                    <a:pt x="0" y="9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593040" y="2308320"/>
              <a:ext cx="323640" cy="309600"/>
            </a:xfrm>
            <a:custGeom>
              <a:avLst/>
              <a:gdLst/>
              <a:ahLst/>
              <a:rect l="l" t="t" r="r" b="b"/>
              <a:pathLst>
                <a:path w="576" h="552">
                  <a:moveTo>
                    <a:pt x="0" y="276"/>
                  </a:moveTo>
                  <a:cubicBezTo>
                    <a:pt x="0" y="124"/>
                    <a:pt x="129" y="0"/>
                    <a:pt x="288" y="0"/>
                  </a:cubicBezTo>
                  <a:cubicBezTo>
                    <a:pt x="447" y="0"/>
                    <a:pt x="576" y="124"/>
                    <a:pt x="576" y="276"/>
                  </a:cubicBezTo>
                  <a:cubicBezTo>
                    <a:pt x="576" y="276"/>
                    <a:pt x="576" y="276"/>
                    <a:pt x="576" y="276"/>
                  </a:cubicBezTo>
                  <a:cubicBezTo>
                    <a:pt x="576" y="428"/>
                    <a:pt x="447" y="552"/>
                    <a:pt x="288" y="552"/>
                  </a:cubicBezTo>
                  <a:cubicBezTo>
                    <a:pt x="129" y="552"/>
                    <a:pt x="0" y="428"/>
                    <a:pt x="0" y="276"/>
                  </a:cubicBez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593040" y="2308320"/>
              <a:ext cx="323640" cy="309600"/>
            </a:xfrm>
            <a:custGeom>
              <a:avLst/>
              <a:gdLst/>
              <a:ahLst/>
              <a:rect l="l" t="t" r="r" b="b"/>
              <a:pathLst>
                <a:path w="204" h="195">
                  <a:moveTo>
                    <a:pt x="0" y="98"/>
                  </a:moveTo>
                  <a:cubicBezTo>
                    <a:pt x="0" y="44"/>
                    <a:pt x="46" y="0"/>
                    <a:pt x="102" y="0"/>
                  </a:cubicBezTo>
                  <a:cubicBezTo>
                    <a:pt x="158" y="0"/>
                    <a:pt x="204" y="44"/>
                    <a:pt x="204" y="98"/>
                  </a:cubicBezTo>
                  <a:cubicBezTo>
                    <a:pt x="204" y="98"/>
                    <a:pt x="204" y="98"/>
                    <a:pt x="204" y="98"/>
                  </a:cubicBezTo>
                  <a:cubicBezTo>
                    <a:pt x="204" y="152"/>
                    <a:pt x="158" y="195"/>
                    <a:pt x="102" y="195"/>
                  </a:cubicBezTo>
                  <a:cubicBezTo>
                    <a:pt x="46" y="195"/>
                    <a:pt x="0" y="152"/>
                    <a:pt x="0" y="9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93040" y="2867040"/>
              <a:ext cx="323640" cy="309600"/>
            </a:xfrm>
            <a:custGeom>
              <a:avLst/>
              <a:gdLst/>
              <a:ahLst/>
              <a:rect l="l" t="t" r="r" b="b"/>
              <a:pathLst>
                <a:path w="576" h="551">
                  <a:moveTo>
                    <a:pt x="0" y="276"/>
                  </a:moveTo>
                  <a:cubicBezTo>
                    <a:pt x="0" y="123"/>
                    <a:pt x="129" y="0"/>
                    <a:pt x="288" y="0"/>
                  </a:cubicBezTo>
                  <a:cubicBezTo>
                    <a:pt x="447" y="0"/>
                    <a:pt x="576" y="123"/>
                    <a:pt x="576" y="276"/>
                  </a:cubicBezTo>
                  <a:cubicBezTo>
                    <a:pt x="576" y="276"/>
                    <a:pt x="576" y="276"/>
                    <a:pt x="576" y="276"/>
                  </a:cubicBezTo>
                  <a:cubicBezTo>
                    <a:pt x="576" y="428"/>
                    <a:pt x="447" y="551"/>
                    <a:pt x="288" y="551"/>
                  </a:cubicBezTo>
                  <a:cubicBezTo>
                    <a:pt x="129" y="551"/>
                    <a:pt x="0" y="428"/>
                    <a:pt x="0" y="276"/>
                  </a:cubicBez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593040" y="2867040"/>
              <a:ext cx="323640" cy="309600"/>
            </a:xfrm>
            <a:custGeom>
              <a:avLst/>
              <a:gdLst/>
              <a:ahLst/>
              <a:rect l="l" t="t" r="r" b="b"/>
              <a:pathLst>
                <a:path w="204" h="195">
                  <a:moveTo>
                    <a:pt x="0" y="97"/>
                  </a:moveTo>
                  <a:cubicBezTo>
                    <a:pt x="0" y="43"/>
                    <a:pt x="46" y="0"/>
                    <a:pt x="102" y="0"/>
                  </a:cubicBezTo>
                  <a:cubicBezTo>
                    <a:pt x="158" y="0"/>
                    <a:pt x="204" y="43"/>
                    <a:pt x="204" y="97"/>
                  </a:cubicBezTo>
                  <a:cubicBezTo>
                    <a:pt x="204" y="97"/>
                    <a:pt x="204" y="97"/>
                    <a:pt x="204" y="97"/>
                  </a:cubicBezTo>
                  <a:cubicBezTo>
                    <a:pt x="204" y="151"/>
                    <a:pt x="158" y="195"/>
                    <a:pt x="102" y="195"/>
                  </a:cubicBezTo>
                  <a:cubicBezTo>
                    <a:pt x="46" y="195"/>
                    <a:pt x="0" y="151"/>
                    <a:pt x="0" y="9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40680" y="1781280"/>
              <a:ext cx="323640" cy="309600"/>
            </a:xfrm>
            <a:custGeom>
              <a:avLst/>
              <a:gdLst/>
              <a:ahLst/>
              <a:rect l="l" t="t" r="r" b="b"/>
              <a:pathLst>
                <a:path w="576" h="552">
                  <a:moveTo>
                    <a:pt x="0" y="276"/>
                  </a:moveTo>
                  <a:cubicBezTo>
                    <a:pt x="0" y="124"/>
                    <a:pt x="129" y="0"/>
                    <a:pt x="288" y="0"/>
                  </a:cubicBezTo>
                  <a:cubicBezTo>
                    <a:pt x="447" y="0"/>
                    <a:pt x="576" y="124"/>
                    <a:pt x="576" y="276"/>
                  </a:cubicBezTo>
                  <a:cubicBezTo>
                    <a:pt x="576" y="276"/>
                    <a:pt x="576" y="276"/>
                    <a:pt x="576" y="276"/>
                  </a:cubicBezTo>
                  <a:cubicBezTo>
                    <a:pt x="576" y="429"/>
                    <a:pt x="447" y="552"/>
                    <a:pt x="288" y="552"/>
                  </a:cubicBezTo>
                  <a:cubicBezTo>
                    <a:pt x="129" y="552"/>
                    <a:pt x="0" y="429"/>
                    <a:pt x="0" y="276"/>
                  </a:cubicBez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240680" y="1781280"/>
              <a:ext cx="323640" cy="309600"/>
            </a:xfrm>
            <a:custGeom>
              <a:avLst/>
              <a:gdLst/>
              <a:ahLst/>
              <a:rect l="l" t="t" r="r" b="b"/>
              <a:pathLst>
                <a:path w="204" h="195">
                  <a:moveTo>
                    <a:pt x="0" y="98"/>
                  </a:moveTo>
                  <a:cubicBezTo>
                    <a:pt x="0" y="44"/>
                    <a:pt x="46" y="0"/>
                    <a:pt x="102" y="0"/>
                  </a:cubicBezTo>
                  <a:cubicBezTo>
                    <a:pt x="158" y="0"/>
                    <a:pt x="204" y="44"/>
                    <a:pt x="204" y="98"/>
                  </a:cubicBezTo>
                  <a:cubicBezTo>
                    <a:pt x="204" y="98"/>
                    <a:pt x="204" y="98"/>
                    <a:pt x="204" y="98"/>
                  </a:cubicBezTo>
                  <a:cubicBezTo>
                    <a:pt x="204" y="152"/>
                    <a:pt x="158" y="195"/>
                    <a:pt x="102" y="195"/>
                  </a:cubicBezTo>
                  <a:cubicBezTo>
                    <a:pt x="46" y="195"/>
                    <a:pt x="0" y="152"/>
                    <a:pt x="0" y="9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40680" y="2308320"/>
              <a:ext cx="323640" cy="309600"/>
            </a:xfrm>
            <a:custGeom>
              <a:avLst/>
              <a:gdLst/>
              <a:ahLst/>
              <a:rect l="l" t="t" r="r" b="b"/>
              <a:pathLst>
                <a:path w="576" h="552">
                  <a:moveTo>
                    <a:pt x="0" y="276"/>
                  </a:moveTo>
                  <a:cubicBezTo>
                    <a:pt x="0" y="124"/>
                    <a:pt x="129" y="0"/>
                    <a:pt x="288" y="0"/>
                  </a:cubicBezTo>
                  <a:cubicBezTo>
                    <a:pt x="447" y="0"/>
                    <a:pt x="576" y="124"/>
                    <a:pt x="576" y="276"/>
                  </a:cubicBezTo>
                  <a:cubicBezTo>
                    <a:pt x="576" y="276"/>
                    <a:pt x="576" y="276"/>
                    <a:pt x="576" y="276"/>
                  </a:cubicBezTo>
                  <a:cubicBezTo>
                    <a:pt x="576" y="428"/>
                    <a:pt x="447" y="552"/>
                    <a:pt x="288" y="552"/>
                  </a:cubicBezTo>
                  <a:cubicBezTo>
                    <a:pt x="129" y="552"/>
                    <a:pt x="0" y="428"/>
                    <a:pt x="0" y="276"/>
                  </a:cubicBez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40680" y="2308320"/>
              <a:ext cx="323640" cy="309600"/>
            </a:xfrm>
            <a:custGeom>
              <a:avLst/>
              <a:gdLst/>
              <a:ahLst/>
              <a:rect l="l" t="t" r="r" b="b"/>
              <a:pathLst>
                <a:path w="204" h="195">
                  <a:moveTo>
                    <a:pt x="0" y="98"/>
                  </a:moveTo>
                  <a:cubicBezTo>
                    <a:pt x="0" y="44"/>
                    <a:pt x="46" y="0"/>
                    <a:pt x="102" y="0"/>
                  </a:cubicBezTo>
                  <a:cubicBezTo>
                    <a:pt x="158" y="0"/>
                    <a:pt x="204" y="44"/>
                    <a:pt x="204" y="98"/>
                  </a:cubicBezTo>
                  <a:cubicBezTo>
                    <a:pt x="204" y="98"/>
                    <a:pt x="204" y="98"/>
                    <a:pt x="204" y="98"/>
                  </a:cubicBezTo>
                  <a:cubicBezTo>
                    <a:pt x="204" y="152"/>
                    <a:pt x="158" y="195"/>
                    <a:pt x="102" y="195"/>
                  </a:cubicBezTo>
                  <a:cubicBezTo>
                    <a:pt x="46" y="195"/>
                    <a:pt x="0" y="152"/>
                    <a:pt x="0" y="9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40680" y="2867040"/>
              <a:ext cx="323640" cy="309600"/>
            </a:xfrm>
            <a:custGeom>
              <a:avLst/>
              <a:gdLst/>
              <a:ahLst/>
              <a:rect l="l" t="t" r="r" b="b"/>
              <a:pathLst>
                <a:path w="576" h="551">
                  <a:moveTo>
                    <a:pt x="0" y="276"/>
                  </a:moveTo>
                  <a:cubicBezTo>
                    <a:pt x="0" y="123"/>
                    <a:pt x="129" y="0"/>
                    <a:pt x="288" y="0"/>
                  </a:cubicBezTo>
                  <a:cubicBezTo>
                    <a:pt x="447" y="0"/>
                    <a:pt x="576" y="123"/>
                    <a:pt x="576" y="276"/>
                  </a:cubicBezTo>
                  <a:cubicBezTo>
                    <a:pt x="576" y="276"/>
                    <a:pt x="576" y="276"/>
                    <a:pt x="576" y="276"/>
                  </a:cubicBezTo>
                  <a:cubicBezTo>
                    <a:pt x="576" y="428"/>
                    <a:pt x="447" y="551"/>
                    <a:pt x="288" y="551"/>
                  </a:cubicBezTo>
                  <a:cubicBezTo>
                    <a:pt x="129" y="551"/>
                    <a:pt x="0" y="428"/>
                    <a:pt x="0" y="276"/>
                  </a:cubicBez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40680" y="2867040"/>
              <a:ext cx="323640" cy="309600"/>
            </a:xfrm>
            <a:custGeom>
              <a:avLst/>
              <a:gdLst/>
              <a:ahLst/>
              <a:rect l="l" t="t" r="r" b="b"/>
              <a:pathLst>
                <a:path w="204" h="195">
                  <a:moveTo>
                    <a:pt x="0" y="97"/>
                  </a:moveTo>
                  <a:cubicBezTo>
                    <a:pt x="0" y="43"/>
                    <a:pt x="46" y="0"/>
                    <a:pt x="102" y="0"/>
                  </a:cubicBezTo>
                  <a:cubicBezTo>
                    <a:pt x="158" y="0"/>
                    <a:pt x="204" y="43"/>
                    <a:pt x="204" y="97"/>
                  </a:cubicBezTo>
                  <a:cubicBezTo>
                    <a:pt x="204" y="97"/>
                    <a:pt x="204" y="97"/>
                    <a:pt x="204" y="97"/>
                  </a:cubicBezTo>
                  <a:cubicBezTo>
                    <a:pt x="204" y="151"/>
                    <a:pt x="158" y="195"/>
                    <a:pt x="102" y="195"/>
                  </a:cubicBezTo>
                  <a:cubicBezTo>
                    <a:pt x="46" y="195"/>
                    <a:pt x="0" y="151"/>
                    <a:pt x="0" y="97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888320" y="2308320"/>
              <a:ext cx="323640" cy="309600"/>
            </a:xfrm>
            <a:custGeom>
              <a:avLst/>
              <a:gdLst/>
              <a:ahLst/>
              <a:rect l="l" t="t" r="r" b="b"/>
              <a:pathLst>
                <a:path w="576" h="552">
                  <a:moveTo>
                    <a:pt x="0" y="276"/>
                  </a:moveTo>
                  <a:cubicBezTo>
                    <a:pt x="0" y="124"/>
                    <a:pt x="129" y="0"/>
                    <a:pt x="288" y="0"/>
                  </a:cubicBezTo>
                  <a:cubicBezTo>
                    <a:pt x="447" y="0"/>
                    <a:pt x="576" y="124"/>
                    <a:pt x="576" y="276"/>
                  </a:cubicBezTo>
                  <a:cubicBezTo>
                    <a:pt x="576" y="276"/>
                    <a:pt x="576" y="276"/>
                    <a:pt x="576" y="276"/>
                  </a:cubicBezTo>
                  <a:cubicBezTo>
                    <a:pt x="576" y="428"/>
                    <a:pt x="447" y="552"/>
                    <a:pt x="288" y="552"/>
                  </a:cubicBezTo>
                  <a:cubicBezTo>
                    <a:pt x="129" y="552"/>
                    <a:pt x="0" y="428"/>
                    <a:pt x="0" y="276"/>
                  </a:cubicBezTo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88320" y="2308320"/>
              <a:ext cx="323640" cy="309600"/>
            </a:xfrm>
            <a:custGeom>
              <a:avLst/>
              <a:gdLst/>
              <a:ahLst/>
              <a:rect l="l" t="t" r="r" b="b"/>
              <a:pathLst>
                <a:path w="204" h="195">
                  <a:moveTo>
                    <a:pt x="0" y="98"/>
                  </a:moveTo>
                  <a:cubicBezTo>
                    <a:pt x="0" y="44"/>
                    <a:pt x="46" y="0"/>
                    <a:pt x="102" y="0"/>
                  </a:cubicBezTo>
                  <a:cubicBezTo>
                    <a:pt x="158" y="0"/>
                    <a:pt x="204" y="44"/>
                    <a:pt x="204" y="98"/>
                  </a:cubicBezTo>
                  <a:cubicBezTo>
                    <a:pt x="204" y="98"/>
                    <a:pt x="204" y="98"/>
                    <a:pt x="204" y="98"/>
                  </a:cubicBezTo>
                  <a:cubicBezTo>
                    <a:pt x="204" y="152"/>
                    <a:pt x="158" y="195"/>
                    <a:pt x="102" y="195"/>
                  </a:cubicBezTo>
                  <a:cubicBezTo>
                    <a:pt x="46" y="195"/>
                    <a:pt x="0" y="152"/>
                    <a:pt x="0" y="98"/>
                  </a:cubicBez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431040" y="1936800"/>
              <a:ext cx="971640" cy="144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6431040" y="2463840"/>
              <a:ext cx="971640" cy="64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431040" y="3021120"/>
              <a:ext cx="9716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54680" y="1936800"/>
              <a:ext cx="648000" cy="1084320"/>
            </a:xfrm>
            <a:custGeom>
              <a:avLst/>
              <a:gdLst/>
              <a:ahLst/>
              <a:rect l="l" t="t" r="r" b="b"/>
              <a:pathLst>
                <a:path w="408" h="683">
                  <a:moveTo>
                    <a:pt x="408" y="683"/>
                  </a:moveTo>
                  <a:lnTo>
                    <a:pt x="0" y="0"/>
                  </a:lnTo>
                  <a:lnTo>
                    <a:pt x="408" y="332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54680" y="1936800"/>
              <a:ext cx="648000" cy="1084320"/>
            </a:xfrm>
            <a:custGeom>
              <a:avLst/>
              <a:gdLst/>
              <a:ahLst/>
              <a:rect l="l" t="t" r="r" b="b"/>
              <a:pathLst>
                <a:path w="408" h="683">
                  <a:moveTo>
                    <a:pt x="408" y="683"/>
                  </a:moveTo>
                  <a:lnTo>
                    <a:pt x="0" y="332"/>
                  </a:lnTo>
                  <a:lnTo>
                    <a:pt x="408" y="0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754680" y="1936800"/>
              <a:ext cx="648000" cy="1084320"/>
            </a:xfrm>
            <a:custGeom>
              <a:avLst/>
              <a:gdLst/>
              <a:ahLst/>
              <a:rect l="l" t="t" r="r" b="b"/>
              <a:pathLst>
                <a:path w="408" h="683">
                  <a:moveTo>
                    <a:pt x="408" y="0"/>
                  </a:moveTo>
                  <a:lnTo>
                    <a:pt x="0" y="683"/>
                  </a:lnTo>
                  <a:lnTo>
                    <a:pt x="408" y="332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02680" y="1936800"/>
              <a:ext cx="647640" cy="5270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02680" y="2463840"/>
              <a:ext cx="6476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7402680" y="2463840"/>
              <a:ext cx="647640" cy="55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50320" y="2463840"/>
              <a:ext cx="3236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76320" y="1143000"/>
            <a:ext cx="1904760" cy="609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6320" y="2743200"/>
            <a:ext cx="1676160" cy="838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19520" y="1905120"/>
            <a:ext cx="2514600" cy="304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248520" y="838080"/>
            <a:ext cx="251460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3520" y="5867280"/>
            <a:ext cx="8001000" cy="838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72200" y="4267080"/>
            <a:ext cx="23623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1743120" y="2752560"/>
            <a:ext cx="1133280" cy="809640"/>
          </a:xfrm>
          <a:custGeom>
            <a:avLst/>
            <a:gdLst/>
            <a:ahLst/>
            <a:rect l="l" t="t" r="r" b="b"/>
            <a:pathLst>
              <a:path w="714" h="510">
                <a:moveTo>
                  <a:pt x="536" y="0"/>
                </a:moveTo>
                <a:lnTo>
                  <a:pt x="536" y="331"/>
                </a:lnTo>
                <a:lnTo>
                  <a:pt x="714" y="331"/>
                </a:lnTo>
                <a:lnTo>
                  <a:pt x="357" y="510"/>
                </a:lnTo>
                <a:lnTo>
                  <a:pt x="0" y="331"/>
                </a:lnTo>
                <a:lnTo>
                  <a:pt x="179" y="331"/>
                </a:lnTo>
                <a:lnTo>
                  <a:pt x="179" y="0"/>
                </a:lnTo>
                <a:lnTo>
                  <a:pt x="536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5186160" y="4262040"/>
            <a:ext cx="1133640" cy="685800"/>
          </a:xfrm>
          <a:custGeom>
            <a:avLst/>
            <a:gdLst/>
            <a:ahLst/>
            <a:rect l="l" t="t" r="r" b="b"/>
            <a:pathLst>
              <a:path w="714" h="510">
                <a:moveTo>
                  <a:pt x="536" y="0"/>
                </a:moveTo>
                <a:lnTo>
                  <a:pt x="536" y="331"/>
                </a:lnTo>
                <a:lnTo>
                  <a:pt x="714" y="331"/>
                </a:lnTo>
                <a:lnTo>
                  <a:pt x="357" y="510"/>
                </a:lnTo>
                <a:lnTo>
                  <a:pt x="0" y="331"/>
                </a:lnTo>
                <a:lnTo>
                  <a:pt x="179" y="331"/>
                </a:lnTo>
                <a:lnTo>
                  <a:pt x="179" y="0"/>
                </a:lnTo>
                <a:lnTo>
                  <a:pt x="536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0800000">
            <a:off x="7009920" y="3429000"/>
            <a:ext cx="838440" cy="838080"/>
          </a:xfrm>
          <a:custGeom>
            <a:avLst/>
            <a:gdLst/>
            <a:ahLst/>
            <a:rect l="l" t="t" r="r" b="b"/>
            <a:pathLst>
              <a:path w="714" h="510">
                <a:moveTo>
                  <a:pt x="536" y="0"/>
                </a:moveTo>
                <a:lnTo>
                  <a:pt x="536" y="331"/>
                </a:lnTo>
                <a:lnTo>
                  <a:pt x="714" y="331"/>
                </a:lnTo>
                <a:lnTo>
                  <a:pt x="357" y="510"/>
                </a:lnTo>
                <a:lnTo>
                  <a:pt x="0" y="331"/>
                </a:lnTo>
                <a:lnTo>
                  <a:pt x="179" y="331"/>
                </a:lnTo>
                <a:lnTo>
                  <a:pt x="179" y="0"/>
                </a:lnTo>
                <a:lnTo>
                  <a:pt x="536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0" y="4952880"/>
            <a:ext cx="1133640" cy="838440"/>
          </a:xfrm>
          <a:custGeom>
            <a:avLst/>
            <a:gdLst/>
            <a:ahLst/>
            <a:rect l="l" t="t" r="r" b="b"/>
            <a:pathLst>
              <a:path w="714" h="510">
                <a:moveTo>
                  <a:pt x="536" y="0"/>
                </a:moveTo>
                <a:lnTo>
                  <a:pt x="536" y="331"/>
                </a:lnTo>
                <a:lnTo>
                  <a:pt x="714" y="331"/>
                </a:lnTo>
                <a:lnTo>
                  <a:pt x="357" y="510"/>
                </a:lnTo>
                <a:lnTo>
                  <a:pt x="0" y="331"/>
                </a:lnTo>
                <a:lnTo>
                  <a:pt x="179" y="331"/>
                </a:lnTo>
                <a:lnTo>
                  <a:pt x="179" y="0"/>
                </a:lnTo>
                <a:lnTo>
                  <a:pt x="536" y="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28600" y="152280"/>
            <a:ext cx="8569440" cy="65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e00"/>
                </a:solidFill>
                <a:uFillTx/>
                <a:latin typeface="Arial"/>
              </a:rPr>
              <a:t>Эволюционные вычисл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это способ организации автономного и адаптивного поведения компьютерных прилож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жде всего, эта отрасль затрагивает аспект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восстановления и самоконфигурирования сложных сист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остоящих из одновременно функционирующих модулей. Помимо этого, к эволюционным вычислениям относя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номные аген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есущие в себе функции электронного секретаря, ассистента, отбирающего нужные сведения в Интернете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 – программа фирмы GATOR (www.gator.co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e00"/>
                </a:solidFill>
                <a:uFillTx/>
                <a:latin typeface="Arial"/>
              </a:rPr>
              <a:t>Генетические алгорит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пьютерная модель «эволюции»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опуля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скусственных «особей», ключевыми операторами которой являютс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елекц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крещив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утац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2590920" y="3352680"/>
            <a:ext cx="3581280" cy="33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439640" cy="13446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2411280" y="549360"/>
            <a:ext cx="1440000" cy="13446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4211640" y="549360"/>
            <a:ext cx="1440000" cy="13446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4"/>
          <a:stretch/>
        </p:blipFill>
        <p:spPr>
          <a:xfrm>
            <a:off x="6012000" y="549360"/>
            <a:ext cx="1439640" cy="13446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609480" y="341352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опуля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набор вариантов, способных к пошаговому изменению – порождению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отомк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2280" y="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Схема работы генетического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439640" cy="13446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2411280" y="549360"/>
            <a:ext cx="1440000" cy="13446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4211640" y="549360"/>
            <a:ext cx="1440000" cy="13446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6012000" y="549360"/>
            <a:ext cx="1439640" cy="13446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684360" y="3678840"/>
            <a:ext cx="647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елек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отбор двух вариантов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52280" y="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Схема работы генетического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439640" cy="134460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2411280" y="549360"/>
            <a:ext cx="1440000" cy="13446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3"/>
          <a:stretch/>
        </p:blipFill>
        <p:spPr>
          <a:xfrm>
            <a:off x="4211640" y="549360"/>
            <a:ext cx="1440000" cy="13446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/>
          <a:stretch/>
        </p:blipFill>
        <p:spPr>
          <a:xfrm>
            <a:off x="6012000" y="549360"/>
            <a:ext cx="1439640" cy="13446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5"/>
          <a:stretch/>
        </p:blipFill>
        <p:spPr>
          <a:xfrm>
            <a:off x="5076720" y="3500280"/>
            <a:ext cx="1440000" cy="13446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 rot="3551400">
            <a:off x="4824720" y="2385000"/>
            <a:ext cx="1079280" cy="576360"/>
          </a:xfrm>
          <a:prstGeom prst="rightArrow">
            <a:avLst>
              <a:gd name="adj1" fmla="val 50000"/>
              <a:gd name="adj2" fmla="val 46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rot="18048600">
            <a:off x="5832000" y="2385000"/>
            <a:ext cx="1079280" cy="576360"/>
          </a:xfrm>
          <a:prstGeom prst="rightArrow">
            <a:avLst>
              <a:gd name="adj1" fmla="val 50000"/>
              <a:gd name="adj2" fmla="val 46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84360" y="3802680"/>
            <a:ext cx="395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крещив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порождени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отом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52280" y="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Схема работы генетического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439640" cy="13446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2411280" y="549360"/>
            <a:ext cx="1440000" cy="13446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4211640" y="549360"/>
            <a:ext cx="1440000" cy="13446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6012000" y="549360"/>
            <a:ext cx="1439640" cy="13446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684360" y="3802680"/>
            <a:ext cx="395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ута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изменени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отом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5"/>
          <a:stretch/>
        </p:blipFill>
        <p:spPr>
          <a:xfrm>
            <a:off x="5076720" y="3500280"/>
            <a:ext cx="1440000" cy="13446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52280" y="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Схема работы генетического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1000" autoRev="1" fill="hold"/>
                                        <p:tgtEl>
                                          <p:spTgt spid="4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439640" cy="13446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2411280" y="549360"/>
            <a:ext cx="1440000" cy="13446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4211640" y="549360"/>
            <a:ext cx="1440000" cy="134460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6012000" y="549360"/>
            <a:ext cx="1439640" cy="13446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5076720" y="3500280"/>
            <a:ext cx="1440000" cy="1344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684360" y="4047120"/>
            <a:ext cx="39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опуля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52280" y="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e00"/>
                </a:solidFill>
                <a:latin typeface="Arial"/>
              </a:rPr>
              <a:t>Схема работы генетического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0347 L -0.29271 -0.16296 L -0.29149 -0.43032 E">
                                      <p:cBhvr>
                                        <p:cTn id="190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0741E-007 L 0.00017 0.57407 E">
                                      <p:cBhvr>
                                        <p:cTn id="192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066680"/>
            <a:ext cx="871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ственно терми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кусственный интеллект (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Artificial Intelligenc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л введён Аланом Тьюрингом, который в 1950 предложил свой знамениты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ест Тьюринг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пределяющий способность машины мыслить как человек (Turing (1950))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гласно тесту, между машиной и человеком происходит диалог, по результатам которого, третье лицо – человек, должен определить, кто из испытуемых является машиной. Если это не удастся, то тест можно считать пройде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22936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сейчас под ИИ понимают не робота, способного пройти тест Тьюринга, 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ое направление информатик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86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ст Тьюрин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00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каждом шаге популяция улучшает свои совокупные качества, таким образом, происходит приближение к оптиму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кольку улучшению подвергается популяция в целом, вероятность того, что оптимизация завершится локальным, а не глобальным оптимумом, достаточно м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228600" y="1447920"/>
          <a:ext cx="8642520" cy="4556160"/>
        </p:xfrm>
        <a:graphic>
          <a:graphicData uri="http://schemas.openxmlformats.org/drawingml/2006/table">
            <a:tbl>
              <a:tblPr/>
              <a:tblGrid>
                <a:gridCol w="3529080"/>
                <a:gridCol w="2257200"/>
                <a:gridCol w="2856240"/>
              </a:tblGrid>
              <a:tr h="165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мет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ость нахождения экстрему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хождение глобального максимума или миниму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кально – градиентны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борный (сканирование сетки переменных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e00"/>
                          </a:solidFill>
                          <a:latin typeface="Arial"/>
                        </a:rPr>
                        <a:t>Генетические алгорит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228600" y="1126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авнение методов решения оптимизационных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04920" y="304920"/>
            <a:ext cx="8569080" cy="63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663300"/>
                </a:solidFill>
                <a:uFillTx/>
                <a:latin typeface="Arial"/>
              </a:rPr>
              <a:t>Экспертные системы (ЭС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радиционно относятся к классическим сферам использования  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ждой области человеческой деятельности существуют знания, которые трудно формализовать математическими формулами, что обусловило появление Э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Э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нимаю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ак правило воплощенную в виде компьютерной программы)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анную на знаниях экспертов, и помогающую специалисту при принятии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твета на поставленные пользователем вопросы требуется система извлечения ответов, называемая машиной логического вывода или интерпретато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79280" y="2209680"/>
            <a:ext cx="8785440" cy="4459320"/>
          </a:xfrm>
          <a:prstGeom prst="rect">
            <a:avLst/>
          </a:prstGeom>
          <a:solidFill>
            <a:srgbClr val="fff8d9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429000" y="3733920"/>
            <a:ext cx="2448000" cy="1296720"/>
          </a:xfrm>
          <a:prstGeom prst="rect">
            <a:avLst/>
          </a:prstGeom>
          <a:solidFill>
            <a:srgbClr val="e1ffe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ханизм логического 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429000" y="5029200"/>
            <a:ext cx="2448000" cy="1297080"/>
          </a:xfrm>
          <a:prstGeom prst="rect">
            <a:avLst/>
          </a:prstGeom>
          <a:solidFill>
            <a:srgbClr val="c9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за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29000" y="2438280"/>
            <a:ext cx="2449440" cy="1297080"/>
          </a:xfrm>
          <a:prstGeom prst="rect">
            <a:avLst/>
          </a:prstGeom>
          <a:solidFill>
            <a:srgbClr val="ffffb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дсистема объяс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7200" y="2581200"/>
            <a:ext cx="2322360" cy="1008000"/>
          </a:xfrm>
          <a:prstGeom prst="rect">
            <a:avLst/>
          </a:prstGeom>
          <a:solidFill>
            <a:srgbClr val="e6ffc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ллектуальный интерфей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524640" y="2581200"/>
            <a:ext cx="2089080" cy="1008000"/>
          </a:xfrm>
          <a:prstGeom prst="rect">
            <a:avLst/>
          </a:prstGeom>
          <a:solidFill>
            <a:srgbClr val="d1e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дактор базы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705720" y="152280"/>
            <a:ext cx="1992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КСПЕ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ЖЕНЕР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Н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08760" y="121932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ЬЗОВ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47920" y="1752480"/>
            <a:ext cx="431640" cy="719280"/>
          </a:xfrm>
          <a:prstGeom prst="upDownArrow">
            <a:avLst>
              <a:gd name="adj1" fmla="val 50000"/>
              <a:gd name="adj2" fmla="val 33173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315200" y="1752480"/>
            <a:ext cx="431640" cy="720720"/>
          </a:xfrm>
          <a:prstGeom prst="upDownArrow">
            <a:avLst>
              <a:gd name="adj1" fmla="val 50000"/>
              <a:gd name="adj2" fmla="val 3324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/>
          <p:nvPr/>
        </p:nvCxnSpPr>
        <p:spPr>
          <a:xfrm rot="10800000">
            <a:off x="2778840" y="3083760"/>
            <a:ext cx="650160" cy="2520"/>
          </a:xfrm>
          <a:prstGeom prst="bentConnector3">
            <a:avLst>
              <a:gd name="adj1" fmla="val 49861"/>
            </a:avLst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0" name=""/>
          <p:cNvCxnSpPr>
            <a:stCxn id="460" idx="1"/>
            <a:endCxn id="463" idx="2"/>
          </p:cNvCxnSpPr>
          <p:nvPr/>
        </p:nvCxnSpPr>
        <p:spPr>
          <a:xfrm rot="10800000">
            <a:off x="1618560" y="3598200"/>
            <a:ext cx="1801080" cy="78480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1" name=""/>
          <p:cNvCxnSpPr>
            <a:stCxn id="464" idx="2"/>
            <a:endCxn id="461" idx="3"/>
          </p:cNvCxnSpPr>
          <p:nvPr/>
        </p:nvCxnSpPr>
        <p:spPr>
          <a:xfrm rot="5400000">
            <a:off x="5687280" y="3796920"/>
            <a:ext cx="2080440" cy="1683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72" name=""/>
          <p:cNvSpPr/>
          <p:nvPr/>
        </p:nvSpPr>
        <p:spPr>
          <a:xfrm>
            <a:off x="1916280" y="3589200"/>
            <a:ext cx="1512720" cy="1816200"/>
          </a:xfrm>
          <a:custGeom>
            <a:avLst/>
            <a:gdLst/>
            <a:ahLst/>
            <a:rect l="l" t="t" r="r" b="b"/>
            <a:pathLst>
              <a:path w="953" h="1144">
                <a:moveTo>
                  <a:pt x="0" y="0"/>
                </a:moveTo>
                <a:lnTo>
                  <a:pt x="1" y="1144"/>
                </a:lnTo>
                <a:lnTo>
                  <a:pt x="953" y="1134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3300"/>
                </a:solidFill>
                <a:uFillTx/>
                <a:latin typeface="Arial"/>
              </a:rPr>
              <a:t>Общая схема Э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315200" y="533520"/>
            <a:ext cx="431640" cy="533160"/>
          </a:xfrm>
          <a:prstGeom prst="upDownArrow">
            <a:avLst>
              <a:gd name="adj1" fmla="val 50000"/>
              <a:gd name="adj2" fmla="val 24589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3300"/>
                </a:solidFill>
                <a:uFillTx/>
                <a:latin typeface="Arial"/>
              </a:rPr>
              <a:t>Сферы задач для экспертны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агност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иторин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ноз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вление поведением сложных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380880" y="533520"/>
            <a:ext cx="822960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3300"/>
                </a:solidFill>
                <a:uFillTx/>
                <a:latin typeface="Arial"/>
              </a:rPr>
              <a:t>Примеры Э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кспертно-справочная систем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Cyc (en-Cyc-lopedia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www.cyc.co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Эта система содержит более 1 млн. утверждений, охватывает все области знаний и способна делать логические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мощник в Microsof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Office Assistant) - самоорганизующаяся экспертная система, в задачу которой входит конфигурирование справочной системы Microsoft Office в соответствии с часто затрагиваемыми темами. Для этого этих целей, помощник постоянно отслеживает поведение пользователя в рамках семейства офисных пр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304920" y="304920"/>
            <a:ext cx="8534160" cy="60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Нечеткая логика (fuzzy logic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правление, предложенное в 1965 году профессором Калифорнийского университет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офти Зад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четающее в себе подходы математической логики и теории вероят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нечеткой логике, в отличие от классической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казывания бывают не только истинными или лож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то позволяет учитывать неопределенности (например, с помощью нечеткой логики можно более точно определить понятие величины дохода человека – «маленький», «средний», «большой», «очень большой»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но теорем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A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uzzy Approximation Theore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доказанно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. Коско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osko B. (199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любая математическая система может быть аппроксимирована системой, основанной на нечеткой логик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04920" y="1371600"/>
            <a:ext cx="856908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ые исследования в области </a:t>
            </a:r>
            <a:r>
              <a:rPr b="1" lang="ru-RU" sz="2600" spc="-1" strike="noStrike" u="sng">
                <a:solidFill>
                  <a:srgbClr val="660033"/>
                </a:solidFill>
                <a:uFillTx/>
                <a:latin typeface="Arial"/>
              </a:rPr>
              <a:t>нечеткой логик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оводятся в США и Японии, а в числе результатов этих исследований –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ногочисленные микрочипы, используемые как в бытовой техник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стиральные машины, СВЧ-печи), так и в моторных отсеках автомобилей, в поездах метрополитена и т.д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оме того, свое место нечеткие системы управления нашл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военной техник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например, при проектировании «умных» ракет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f2e"/>
                </a:solidFill>
                <a:latin typeface="Arial"/>
              </a:rPr>
              <a:t>Инженерия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839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правление исследований, занимающееся вопросами формализации, представления и обработки знаний в информационных систем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4920" y="25146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формальные (неявные)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04920" y="312408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ь экспертных знаний носит неосознаваемый характ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т не всегда способен оценить важность тех или иных знаний для принятия реш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ыт, накопленный экспертом, сложно вербализовать и представить в формализованном ви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f2e"/>
                </a:solidFill>
                <a:latin typeface="Arial"/>
              </a:rPr>
              <a:t>Инженерия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55640" y="5229360"/>
            <a:ext cx="3168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л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55640" y="3429000"/>
            <a:ext cx="3168720" cy="1800360"/>
            <a:chOff x="755640" y="3429000"/>
            <a:chExt cx="3168720" cy="1800360"/>
          </a:xfrm>
        </p:grpSpPr>
        <p:sp>
          <p:nvSpPr>
            <p:cNvPr id="487" name=""/>
            <p:cNvSpPr/>
            <p:nvPr/>
          </p:nvSpPr>
          <p:spPr>
            <a:xfrm>
              <a:off x="755640" y="3429000"/>
              <a:ext cx="3168720" cy="1008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Формализац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52720" y="4437000"/>
              <a:ext cx="647640" cy="792360"/>
            </a:xfrm>
            <a:prstGeom prst="upArrow">
              <a:avLst>
                <a:gd name="adj1" fmla="val 50000"/>
                <a:gd name="adj2" fmla="val 3058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754200" y="1628640"/>
            <a:ext cx="3168360" cy="1800360"/>
            <a:chOff x="754200" y="1628640"/>
            <a:chExt cx="3168360" cy="1800360"/>
          </a:xfrm>
        </p:grpSpPr>
        <p:sp>
          <p:nvSpPr>
            <p:cNvPr id="490" name=""/>
            <p:cNvSpPr/>
            <p:nvPr/>
          </p:nvSpPr>
          <p:spPr>
            <a:xfrm>
              <a:off x="754200" y="1628640"/>
              <a:ext cx="3168360" cy="1008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роектиро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баз знаний (БЗ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50920" y="2637000"/>
              <a:ext cx="648000" cy="792000"/>
            </a:xfrm>
            <a:prstGeom prst="upArrow">
              <a:avLst>
                <a:gd name="adj1" fmla="val 50000"/>
                <a:gd name="adj2" fmla="val 3055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924000" y="4869000"/>
            <a:ext cx="3381840" cy="864360"/>
            <a:chOff x="3924000" y="4869000"/>
            <a:chExt cx="3381840" cy="864360"/>
          </a:xfrm>
        </p:grpSpPr>
        <p:sp>
          <p:nvSpPr>
            <p:cNvPr id="493" name=""/>
            <p:cNvSpPr/>
            <p:nvPr/>
          </p:nvSpPr>
          <p:spPr>
            <a:xfrm>
              <a:off x="5218200" y="4869000"/>
              <a:ext cx="2087640" cy="57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экспер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4" name=""/>
            <p:cNvCxnSpPr>
              <a:stCxn id="493" idx="1"/>
              <a:endCxn id="485" idx="3"/>
            </p:cNvCxnSpPr>
            <p:nvPr/>
          </p:nvCxnSpPr>
          <p:spPr>
            <a:xfrm flipV="1" rot="10800000">
              <a:off x="3923640" y="5156640"/>
              <a:ext cx="1294560" cy="577080"/>
            </a:xfrm>
            <a:prstGeom prst="curvedConnector5">
              <a:avLst>
                <a:gd name="adj1" fmla="val 49930"/>
                <a:gd name="adj2" fmla="val 50000"/>
                <a:gd name="adj3" fmla="val 49930"/>
              </a:avLst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495" name=""/>
          <p:cNvGrpSpPr/>
          <p:nvPr/>
        </p:nvGrpSpPr>
        <p:grpSpPr>
          <a:xfrm>
            <a:off x="3924000" y="5445000"/>
            <a:ext cx="3814920" cy="576360"/>
            <a:chOff x="3924000" y="5445000"/>
            <a:chExt cx="3814920" cy="576360"/>
          </a:xfrm>
        </p:grpSpPr>
        <p:sp>
          <p:nvSpPr>
            <p:cNvPr id="496" name=""/>
            <p:cNvSpPr/>
            <p:nvPr/>
          </p:nvSpPr>
          <p:spPr>
            <a:xfrm>
              <a:off x="5651640" y="5445000"/>
              <a:ext cx="208728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литерату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7" name=""/>
            <p:cNvCxnSpPr>
              <a:stCxn id="496" idx="1"/>
              <a:endCxn id="485" idx="3"/>
            </p:cNvCxnSpPr>
            <p:nvPr/>
          </p:nvCxnSpPr>
          <p:spPr>
            <a:xfrm rot="10800000">
              <a:off x="3923640" y="5733360"/>
              <a:ext cx="172800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</p:cxnSp>
      </p:grpSp>
      <p:grpSp>
        <p:nvGrpSpPr>
          <p:cNvPr id="498" name=""/>
          <p:cNvGrpSpPr/>
          <p:nvPr/>
        </p:nvGrpSpPr>
        <p:grpSpPr>
          <a:xfrm>
            <a:off x="3924000" y="5733360"/>
            <a:ext cx="4173840" cy="864360"/>
            <a:chOff x="3924000" y="5733360"/>
            <a:chExt cx="4173840" cy="864360"/>
          </a:xfrm>
        </p:grpSpPr>
        <p:sp>
          <p:nvSpPr>
            <p:cNvPr id="499" name=""/>
            <p:cNvSpPr/>
            <p:nvPr/>
          </p:nvSpPr>
          <p:spPr>
            <a:xfrm>
              <a:off x="6010200" y="6021360"/>
              <a:ext cx="208764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дан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0" name=""/>
            <p:cNvCxnSpPr>
              <a:stCxn id="499" idx="1"/>
              <a:endCxn id="485" idx="3"/>
            </p:cNvCxnSpPr>
            <p:nvPr/>
          </p:nvCxnSpPr>
          <p:spPr>
            <a:xfrm rot="10800000">
              <a:off x="3923640" y="5733360"/>
              <a:ext cx="2086560" cy="577080"/>
            </a:xfrm>
            <a:prstGeom prst="curvedConnector5">
              <a:avLst>
                <a:gd name="adj1" fmla="val 65211"/>
                <a:gd name="adj2" fmla="val 50000"/>
                <a:gd name="adj3" fmla="val 65211"/>
              </a:avLst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</p:cxnSp>
      </p:grpSp>
      <p:sp>
        <p:nvSpPr>
          <p:cNvPr id="501" name=""/>
          <p:cNvSpPr/>
          <p:nvPr/>
        </p:nvSpPr>
        <p:spPr>
          <a:xfrm>
            <a:off x="4643280" y="3645000"/>
            <a:ext cx="208764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д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487" idx="3"/>
            <a:endCxn id="501" idx="1"/>
          </p:cNvCxnSpPr>
          <p:nvPr/>
        </p:nvCxnSpPr>
        <p:spPr>
          <a:xfrm>
            <a:off x="3924000" y="3933360"/>
            <a:ext cx="719640" cy="1080"/>
          </a:xfrm>
          <a:prstGeom prst="curvedConnector2">
            <a:avLst/>
          </a:prstGeom>
          <a:ln w="38160">
            <a:solidFill>
              <a:srgbClr val="000000"/>
            </a:solidFill>
            <a:prstDash val="sysDot"/>
            <a:miter/>
            <a:headEnd len="lg" type="triangle" w="lg"/>
            <a:tailEnd len="lg" type="triangle" w="lg"/>
          </a:ln>
        </p:spPr>
      </p:cxnSp>
      <p:grpSp>
        <p:nvGrpSpPr>
          <p:cNvPr id="503" name=""/>
          <p:cNvGrpSpPr/>
          <p:nvPr/>
        </p:nvGrpSpPr>
        <p:grpSpPr>
          <a:xfrm>
            <a:off x="3922560" y="1844640"/>
            <a:ext cx="2953080" cy="576360"/>
            <a:chOff x="3922560" y="1844640"/>
            <a:chExt cx="2953080" cy="576360"/>
          </a:xfrm>
        </p:grpSpPr>
        <p:sp>
          <p:nvSpPr>
            <p:cNvPr id="504" name=""/>
            <p:cNvSpPr/>
            <p:nvPr/>
          </p:nvSpPr>
          <p:spPr>
            <a:xfrm>
              <a:off x="4788000" y="1844640"/>
              <a:ext cx="208764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Б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5" name=""/>
            <p:cNvCxnSpPr>
              <a:stCxn id="490" idx="3"/>
              <a:endCxn id="504" idx="1"/>
            </p:cNvCxnSpPr>
            <p:nvPr/>
          </p:nvCxnSpPr>
          <p:spPr>
            <a:xfrm>
              <a:off x="3922560" y="2133360"/>
              <a:ext cx="86616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0920" y="476280"/>
            <a:ext cx="871380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ен ли этот тест сегодня?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ALIC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чат-робот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пособен поддерживать разговор на любые темы неограниченно долго. С ALICE можно пообщаться на сайте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www.alicebot.or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На обычные вопросы, не содержащие в себе какой-нибудь специфической информации, эта система дает вполне разумные и логичные отве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743200"/>
            <a:ext cx="871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C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ругие подобные программы определяют содержащиеся в вопросе ключевые слова (без понимания смысла), а затем выдают имеющие к ним отношения конструкции из своей базы знаний. Есть и другие программы, способные определять эмоциональные составляющие и понимать куда клонится разговор (например,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www.artificial-life.com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, однако в отличие от традиционных чат-роботов, процент удовлетворительно обработанных ответов невысо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579132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есмотря на обилие подобного рода программ, тест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Тьюринга официально еще не пройде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ст Тьюр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аза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антическая модель, описывающая предметную область и позволяющая отвечать на такие вопросы из этой предметной области, ответы на которые в явном виде не присутствуют в баз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334120" y="3429000"/>
            <a:ext cx="3566880" cy="2990880"/>
          </a:xfrm>
          <a:prstGeom prst="roundRect">
            <a:avLst>
              <a:gd name="adj" fmla="val 9079"/>
            </a:avLst>
          </a:prstGeom>
          <a:solidFill>
            <a:srgbClr val="ffd2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за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472000" y="5257800"/>
            <a:ext cx="3272040" cy="876240"/>
          </a:xfrm>
          <a:prstGeom prst="roundRect">
            <a:avLst>
              <a:gd name="adj" fmla="val 8389"/>
            </a:avLst>
          </a:prstGeom>
          <a:solidFill>
            <a:srgbClr val="ffe9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аза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472000" y="4267080"/>
            <a:ext cx="3272040" cy="876600"/>
          </a:xfrm>
          <a:prstGeom prst="roundRect">
            <a:avLst>
              <a:gd name="adj" fmla="val 8389"/>
            </a:avLst>
          </a:prstGeom>
          <a:solidFill>
            <a:srgbClr val="ffa3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ханизм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вы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39160" y="388620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нны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4343400"/>
            <a:ext cx="4724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нные – это фактическая информация об объектах, процес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ния – это данные + взаимосвязи между ними (то есть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труктурирован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анн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228600" y="838080"/>
            <a:ext cx="8569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мер – программа фирмы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ATOR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ww.gator.com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ыстрый и хаотичный рос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ространства, несомненно, приведет к появлению интеллектуальных автономных агентов нового поколения, способных к самообучению, взаимодействию с себе подобными и проявляющим самостоятельность при принятии решений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лл Гейт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68360" y="1846440"/>
            <a:ext cx="835164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Русскоязычные источники: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066680" y="25146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внер Е.В., Птускин А.С., Фридман А.А. (1998): Размытые множества и их применение. – М.: ЦЭМИ 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066680" y="3809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алович А. И. (1995): Этот нечеткий, нечеткий, нечеткий ми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tora-centre.ru/library/fuzzy/fuzzy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042920" y="5157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вкин В.Я., Бакулин Е.П., Кореньков Д.И. (1998): Нечеткие множества в системах управления. http://idisys.iae.nsk.su/fuzzy_book/content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Корчеватель» прошёл тест Тьюринг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70572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19520" y="617400"/>
            <a:ext cx="6149880" cy="6240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52280" y="-4536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которые редакторские замечания, сделанные непосредственно в теле статьи, в том виде, как они выглядят в возвращенном из редакции на доработку файл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990720"/>
            <a:ext cx="266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тья была сгенерирована на английском языке програм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Gen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затем переведена на русский автомати-ческим переводчиком «Этап-3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3352680"/>
            <a:ext cx="266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этого её отправили для печати в «Журнал публикаций аспирантов и докторантов», где статью к печати приняли, попросив отредактировать текст. После стилистической правки (делалась человеком), статью напеча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0"/>
            <a:ext cx="8686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итайская комната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жон Сирл, опровержение достаточности теста Тьюрин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914400"/>
            <a:ext cx="8763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ложим, что некоего человека заперли в комнате, и передают ему китайские тексты (вопросы), на которые он должен отвечать. Этот человек ничего не понимает по-китайски и даже не способен отличить китайские иероглифы от каких-либо других. Но у него есть набор китайских знаков вместе с набором правил для сопоставления наборов символов между собой. Эти правила всего лишь позволяют связывать один набор символов с другим, и написаны они на английском языке. При помощи этих правил сопоставления человек в «китайской комнате» может давать кажущиеся осмысленными ответы на вопросы о содержании китайских текстов, несмотря на то что он, в сущности, не знает этого языка. Результаты настолько хороши, что их «совершенно нельзя отличить от ответов урожденного китайца» (Searl, 1980). Человек, запертый в «китайской комнате», — это простая конкретная иллюстрация компьютерной программы: «данные на входе—данные на выходе»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особность выполнять такие функции, как перевод по сложным правилам, не означает, что тот, кто это делает, понимает значение «выходных данны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ческий разум характеризуетс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льностью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Searl, 1983), которая, согласно Сирлу, определяется как «свойство психических состояний и явлений, направляющее их на объекты и ситуации в окружающем мир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197920" y="655308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орга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533520"/>
            <a:ext cx="1905120" cy="56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орость обработ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и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мкость хранилищ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ри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аимодейств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ность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учшее каче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удшее ка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260280"/>
            <a:ext cx="3581280" cy="65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пьютеры на осно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ремния (неймановского тип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носекун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следовательный процессор (главным образо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шая для информации, закодированной в цифровой форм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емний и система электронного обеспечения (например, транзисторы, выключатели и электричеств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бсолютно управляем (делает точно то, что приказан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схитростный, управляется правил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ожет обработать огромное количество данных за короткий период без выражения недовольства. Приемлем по цене, управляется правилами, легкий, предсказуемы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 может легко учиться сам, с трудом выполняет сложные когнитивные задачи, такие как понимание и генерация языка; требует электропитания, что уменьшает его мобильно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260280"/>
            <a:ext cx="3505320" cy="65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озг на основе угле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люд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 миллисекунд до секун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араллельный процессор (главным образо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ольшая для зрительной и языковой информ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йроны и система органического обеспечения (например, капилляры и кровь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ычно готов к сотрудничеству, но при оказании давления может противиться (имеет собственное мнение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нятийный, адаптив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егко может делать суждения, выводы и обобщения. Может передвигаться, знает язык, имеет речь, зрение и эмо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меет ограниченную способность обработки и хранения информации; забывчив; дорог в обслуживании — требует пищи, питья сна, кислорода, умеренной температуры, а также целого списка биопсихологических потребно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819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257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304920"/>
            <a:ext cx="0" cy="655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86400" y="304920"/>
            <a:ext cx="0" cy="655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авнение человеческого мозга и компьютера фон Неймановского тип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о Солсо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urosoft</cp:lastModifiedBy>
  <dcterms:modified xsi:type="dcterms:W3CDTF">2009-12-11T23:51:3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