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37.jpeg" ContentType="image/jpeg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32.jpeg" ContentType="image/jpeg"/>
  <Override PartName="/ppt/media/image12.png" ContentType="image/png"/>
  <Override PartName="/ppt/media/image23.wmf" ContentType="image/x-wmf"/>
  <Override PartName="/ppt/media/image18.wmf" ContentType="image/x-wmf"/>
  <Override PartName="/ppt/media/image2.jpeg" ContentType="image/jpeg"/>
  <Override PartName="/ppt/media/image36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8.jpeg" ContentType="image/jpeg"/>
  <Override PartName="/ppt/media/image39.jpeg" ContentType="image/jpeg"/>
  <Override PartName="/ppt/media/image13.gif" ContentType="image/gif"/>
  <Override PartName="/ppt/media/image16.jpeg" ContentType="image/jpeg"/>
  <Override PartName="/ppt/media/image30.jpeg" ContentType="image/jpeg"/>
  <Override PartName="/ppt/media/image38.jpeg" ContentType="image/jpeg"/>
  <Override PartName="/ppt/media/image40.jpeg" ContentType="image/jpeg"/>
  <Override PartName="/ppt/media/image34.jpeg" ContentType="image/jpeg"/>
  <Override PartName="/ppt/media/image7.png" ContentType="image/png"/>
  <Override PartName="/ppt/media/image9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26.png" ContentType="image/png"/>
  <Override PartName="/ppt/media/image1.png" ContentType="image/png"/>
  <Override PartName="/ppt/media/image31.jpeg" ContentType="image/jpeg"/>
  <Override PartName="/ppt/media/image14.gif" ContentType="image/gif"/>
  <Override PartName="/ppt/media/image25.wmf" ContentType="image/x-wmf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4732-6866-4E4D-94CD-25366DB2FB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ger, Posner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thologies of brain attentional networks (PDF #007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. картинку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Engel,A.K., Fries,P. and Singer,W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2001)  Dynamic predictions: oscillations and synchrony in top-down processing.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Nat.Rev.Neurosci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2, 704-716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97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PDF 3025 kb    - стр. 70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azps.ru/hrest/28/7418757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F1B7-2B39-40C9-8BBE-575547AB4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B74A-6C58-40FF-A3D4-1FE94C0F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9E07-EAF7-4D2B-BDD7-466F58D09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7C65-1DEA-4BD9-96F3-452BA0A7F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77FA-2E66-455E-996C-63358FB1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8195-2CF5-4DA3-B0FC-E77A5346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4F73-4BE0-45F4-8C54-424AC476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6CAD-B117-4E04-B559-3C40B678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8871-0959-4106-9477-7FCC04F3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3D74-AF3A-40D7-B6E7-5C13DE72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6F11-2246-4703-AF15-56EB6F98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2C91-2C24-4330-9C00-752AB5C5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ED44-A531-4A4D-A74C-8955DABC1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5146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Вниман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азы 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Генерализованный О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вязан с возбуждением ствола мозг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Быстро угасает (после 10-15 применени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ндифферентного стимул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Локальный О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вязан с активацией таламус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Угасает после 30 применений. Далее активация только в сенсорной коре. Длительность реакции сокращается, она становится фазической (появляется только на включение/выключение стимул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ли стимул повторять и далее, можно добиться полного 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угасания ОР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о любое изменение в повторяющемся стимуле восстанавливает 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280" y="-6084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Непроизвольное вним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риентировочный рефлек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52280" y="76320"/>
            <a:ext cx="883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лектрофизиологический коррелят ориентировочного рефлекса: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cc00"/>
                </a:solidFill>
                <a:latin typeface="Arial"/>
              </a:rPr>
              <a:t>негативность рассогласования (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mismatch negativity, MMN</a:t>
            </a:r>
            <a:r>
              <a:rPr b="1" lang="ru-RU" sz="22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600200" y="1143000"/>
            <a:ext cx="7745400" cy="5715000"/>
            <a:chOff x="1600200" y="1143000"/>
            <a:chExt cx="7745400" cy="5715000"/>
          </a:xfrm>
        </p:grpSpPr>
        <p:grpSp>
          <p:nvGrpSpPr>
            <p:cNvPr id="78" name=""/>
            <p:cNvGrpSpPr/>
            <p:nvPr/>
          </p:nvGrpSpPr>
          <p:grpSpPr>
            <a:xfrm>
              <a:off x="1600200" y="1143000"/>
              <a:ext cx="7745400" cy="5715000"/>
              <a:chOff x="1600200" y="1143000"/>
              <a:chExt cx="7745400" cy="5715000"/>
            </a:xfrm>
          </p:grpSpPr>
          <p:pic>
            <p:nvPicPr>
              <p:cNvPr id="7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600200" y="1143000"/>
                <a:ext cx="5559480" cy="5715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0" name=""/>
              <p:cNvGrpSpPr/>
              <p:nvPr/>
            </p:nvGrpSpPr>
            <p:grpSpPr>
              <a:xfrm>
                <a:off x="6794280" y="5075280"/>
                <a:ext cx="2094120" cy="1230480"/>
                <a:chOff x="6794280" y="5075280"/>
                <a:chExt cx="2094120" cy="123048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7086600" y="5105520"/>
                  <a:ext cx="1801800" cy="11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Реакции на различные стимулы, отличающиеся от стандартного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794280" y="5075280"/>
                  <a:ext cx="243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6794280" y="6305760"/>
                  <a:ext cx="243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7037280" y="5075280"/>
                  <a:ext cx="0" cy="1230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6794280" y="4572000"/>
                <a:ext cx="2551320" cy="520200"/>
                <a:chOff x="6794280" y="4572000"/>
                <a:chExt cx="2551320" cy="52020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7086600" y="4572000"/>
                  <a:ext cx="22590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Реакция на стандартный стимул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6794280" y="4665960"/>
                  <a:ext cx="243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6794280" y="4994280"/>
                  <a:ext cx="243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7037280" y="4665960"/>
                  <a:ext cx="0" cy="328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" name=""/>
            <p:cNvSpPr/>
            <p:nvPr/>
          </p:nvSpPr>
          <p:spPr>
            <a:xfrm>
              <a:off x="4114800" y="3048120"/>
              <a:ext cx="1143000" cy="2209680"/>
            </a:xfrm>
            <a:prstGeom prst="rect">
              <a:avLst/>
            </a:prstGeom>
            <a:solidFill>
              <a:srgbClr val="99cc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333760" y="2590920"/>
              <a:ext cx="685800" cy="1295280"/>
            </a:xfrm>
            <a:prstGeom prst="rect">
              <a:avLst/>
            </a:prstGeom>
            <a:solidFill>
              <a:srgbClr val="ffff9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32360" y="5562720"/>
              <a:ext cx="726480" cy="36828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M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809880" y="5257440"/>
              <a:ext cx="30492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332760" y="1828800"/>
              <a:ext cx="459720" cy="3682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019200" y="2210040"/>
              <a:ext cx="3812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" descr=""/>
          <p:cNvPicPr/>
          <p:nvPr/>
        </p:nvPicPr>
        <p:blipFill>
          <a:blip r:embed="rId2"/>
          <a:srcRect l="12899" t="16109" r="17042" b="15271"/>
          <a:stretch/>
        </p:blipFill>
        <p:spPr>
          <a:xfrm>
            <a:off x="152280" y="838080"/>
            <a:ext cx="1843200" cy="2438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55520" y="320040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и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атан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24080" y="1143000"/>
            <a:ext cx="5562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ва типа 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7760" y="1828800"/>
            <a:ext cx="5638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Безусловный ориентировочный рефлек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В его основе лежит реакция нейронов новизны. Сигнал рассоглас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Условный ориентировочный рефлек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связан с нейронами тождества. Сигнал совпадения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возникает на импульсы согласования при совпадении с шаблоном, произвольно извлекаемым из долговременной памяти в рабочую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-6084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Непроизвольное вним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риентировочный рефлек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2546280" cy="26668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0" y="4114800"/>
            <a:ext cx="29718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колов Евгений Никола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2280" y="-6084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Произвольное вним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6074" r="0" b="0"/>
          <a:stretch/>
        </p:blipFill>
        <p:spPr>
          <a:xfrm>
            <a:off x="3352680" y="1066680"/>
            <a:ext cx="5397480" cy="57913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352680" y="533520"/>
            <a:ext cx="534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дель Канем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2616120" cy="3200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1066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вид Канем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472428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нимание регулирует ресурсы организма. Ресурс – энергетические активационные возможности орган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1447920"/>
            <a:ext cx="82296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вязь ОР и произвольного внимания по Канеман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2666880"/>
            <a:ext cx="8229600" cy="30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Р запускает произвольное вним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ращение произвольного внимания на новый стимул возникает ступенчато, после того, как стимул уже вызвал 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еакция расширения зрачка и возрастание кожной проводимости – объективные показатели произвольного вним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-36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Произвольное вним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2280" y="-72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Теории (и метафоры) вним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990720"/>
            <a:ext cx="8134200" cy="52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 u="sng">
                <a:solidFill>
                  <a:srgbClr val="ffcc00"/>
                </a:solidFill>
                <a:uFillTx/>
                <a:latin typeface="Arial"/>
              </a:rPr>
              <a:t>Внимание как канал с ограниченной пропускной способность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Теории «фильтр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Модель «бутылочного горлышк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Модель «аттенюатор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 u="sng">
                <a:solidFill>
                  <a:srgbClr val="ffcc00"/>
                </a:solidFill>
                <a:uFillTx/>
                <a:latin typeface="Arial"/>
              </a:rPr>
              <a:t>Оптические метафо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«Внутренний глаз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«Прожектор внимания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Внимание как «объектив с трансфокатором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 u="sng">
                <a:solidFill>
                  <a:srgbClr val="ffcc00"/>
                </a:solidFill>
                <a:uFillTx/>
                <a:latin typeface="Arial"/>
              </a:rPr>
              <a:t>Ресурсные модел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 u="sng">
                <a:solidFill>
                  <a:srgbClr val="ffcc00"/>
                </a:solidFill>
                <a:uFillTx/>
                <a:latin typeface="Arial"/>
              </a:rPr>
              <a:t>Внимание как синтез и предвосхищ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52280" y="-36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Внимание как канал с ограниченной пропускной способн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0" y="2209680"/>
            <a:ext cx="3505320" cy="4209120"/>
            <a:chOff x="0" y="2209680"/>
            <a:chExt cx="3505320" cy="420912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rcRect l="22383" t="11844" r="22383" b="11844"/>
            <a:stretch/>
          </p:blipFill>
          <p:spPr>
            <a:xfrm>
              <a:off x="0" y="2209680"/>
              <a:ext cx="350532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0" y="5715000"/>
              <a:ext cx="350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Проблема вечеринки (Черри, 195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580920" y="1371600"/>
            <a:ext cx="5410800" cy="5260320"/>
            <a:chOff x="3580920" y="1371600"/>
            <a:chExt cx="5410800" cy="5260320"/>
          </a:xfrm>
        </p:grpSpPr>
        <p:sp>
          <p:nvSpPr>
            <p:cNvPr id="120" name=""/>
            <p:cNvSpPr/>
            <p:nvPr/>
          </p:nvSpPr>
          <p:spPr>
            <a:xfrm>
              <a:off x="3581280" y="1371600"/>
              <a:ext cx="541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Модель фильтра с ранней селекцией (Бродбент, 1958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3580920" y="2209680"/>
              <a:ext cx="5410800" cy="3505320"/>
              <a:chOff x="3580920" y="2209680"/>
              <a:chExt cx="5410800" cy="3505320"/>
            </a:xfrm>
          </p:grpSpPr>
          <p:pic>
            <p:nvPicPr>
              <p:cNvPr id="122" name="" descr=""/>
              <p:cNvPicPr/>
              <p:nvPr/>
            </p:nvPicPr>
            <p:blipFill>
              <a:blip r:embed="rId2"/>
              <a:srcRect l="3698" t="32264" r="8755" b="8061"/>
              <a:stretch/>
            </p:blipFill>
            <p:spPr>
              <a:xfrm>
                <a:off x="3581280" y="2209680"/>
                <a:ext cx="5410440" cy="350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"/>
              <p:cNvSpPr/>
              <p:nvPr/>
            </p:nvSpPr>
            <p:spPr>
              <a:xfrm>
                <a:off x="3580920" y="2819520"/>
                <a:ext cx="1107360" cy="260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0" tIns="4680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Стимул №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580920" y="4343400"/>
                <a:ext cx="1107360" cy="260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0" tIns="4680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Стимул №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265640" y="5257800"/>
                <a:ext cx="1847880" cy="296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0" tIns="8280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Сенсорный регист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47440" y="5181480"/>
                <a:ext cx="2029320" cy="296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0" tIns="8280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Селективный фильтр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542000" y="4648320"/>
                <a:ext cx="1421280" cy="50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0" tIns="8280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Краткосрочна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память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3581280" y="5715000"/>
              <a:ext cx="5410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Ранний фильтр защищает «канал с ограниченной пропускной способностью» от перегрузки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533520" y="762120"/>
            <a:ext cx="8610480" cy="4352760"/>
            <a:chOff x="533520" y="762120"/>
            <a:chExt cx="8610480" cy="435276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6629400" y="3505320"/>
              <a:ext cx="2336760" cy="16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533520" y="762120"/>
              <a:ext cx="2336760" cy="16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3"/>
            <a:stretch/>
          </p:blipFill>
          <p:spPr>
            <a:xfrm>
              <a:off x="4419720" y="762120"/>
              <a:ext cx="2336760" cy="16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4"/>
            <a:stretch/>
          </p:blipFill>
          <p:spPr>
            <a:xfrm>
              <a:off x="2362320" y="3505320"/>
              <a:ext cx="233676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535680" y="1447920"/>
              <a:ext cx="5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Ба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64480" y="1447920"/>
              <a:ext cx="5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Ба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363760" y="419112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Та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50680" y="1447920"/>
              <a:ext cx="51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Га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21880" y="1447920"/>
              <a:ext cx="5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Ба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93280" y="4191120"/>
              <a:ext cx="5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Па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59640" y="419112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Та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630840" y="419112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Та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81080" y="2438280"/>
              <a:ext cx="1219320" cy="99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3886200" y="2438280"/>
              <a:ext cx="1219320" cy="99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43600" y="2438280"/>
              <a:ext cx="1219320" cy="99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8077320" y="2514600"/>
              <a:ext cx="106668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Экспериментальная проверка теории фильтр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ихотическое прослушива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62720"/>
            <a:ext cx="9144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спытуемому подаются одинаковые или разные звуковые стимулы в левое и правое ухо, и он должен ответить что он услышал. П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добным образом могут подаваться слова, музыкальные тона, слоги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rcRect l="10347" t="0" r="6898" b="0"/>
          <a:stretch/>
        </p:blipFill>
        <p:spPr>
          <a:xfrm>
            <a:off x="2743200" y="1600200"/>
            <a:ext cx="3657600" cy="3044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Экспериментальная проверка теории фильтр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ихотическое прослушива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4952880"/>
            <a:ext cx="883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ытуемый должен сразу же повторять то, что он слышит с правой стороны. Если потом спросить его, о чём говорилось с левой стороны, он не может вспомнить нич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cc00"/>
                </a:solidFill>
                <a:latin typeface="Arial"/>
              </a:rPr>
              <a:t>Модель Бродбента подтвержде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220968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8171"/>
                </a:solidFill>
                <a:latin typeface="Arial"/>
              </a:rPr>
              <a:t>Выстрелы ружей так напугали аборигенов, что они, побросав луки и стрелы, убежали в лес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2133720"/>
            <a:ext cx="2819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Она взяла ломтик хлеба и намазала его маслом, а потом повидлом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19720" y="10666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анал, на который обращено вним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0666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f8171"/>
                </a:solidFill>
                <a:latin typeface="Arial"/>
              </a:rPr>
              <a:t>Игнорируемый кан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10347" t="0" r="6898" b="0"/>
          <a:stretch/>
        </p:blipFill>
        <p:spPr>
          <a:xfrm>
            <a:off x="2743200" y="1600200"/>
            <a:ext cx="3657600" cy="30448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Экспериментальная проверка теории фильтр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ихотическое прослушива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4876920"/>
            <a:ext cx="883944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ытуемый должен сразу же повторять то, что он слышит с правой стороны. Если потом спросить его, о чём говорилось с левой стороны, он не может вспомнить нич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 он вспоминает, что голос слева был женс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&gt; </a:t>
            </a:r>
            <a:r>
              <a:rPr b="0" i="1" lang="ru-RU" sz="2400" spc="-1" strike="noStrike">
                <a:solidFill>
                  <a:srgbClr val="ffcc00"/>
                </a:solidFill>
                <a:latin typeface="Arial"/>
              </a:rPr>
              <a:t>Модель поздней селек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2286000"/>
            <a:ext cx="297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8171"/>
                </a:solidFill>
                <a:latin typeface="Arial"/>
              </a:rPr>
              <a:t>Выстрелы ружей так напугали аборигенов, что они, побросав луки и стрелы, убежали в лес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f8171"/>
                </a:solidFill>
                <a:latin typeface="Arial"/>
              </a:rPr>
              <a:t>(рассказывается женским голосо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324480" y="2057400"/>
            <a:ext cx="281952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Она взяла ломтик хлеба и намазала его маслом, а потом повидлом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рассказывается мужским голосо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19720" y="10666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анал, на который обращено вним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10666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f8171"/>
                </a:solidFill>
                <a:latin typeface="Arial"/>
              </a:rPr>
              <a:t>Игнорируемый кан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152280"/>
            <a:ext cx="7848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Оно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нимани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… выступает в роли стратега, т.е. направителя и организатора, руководителя и контролера боя, не принимающего, однако, непосредственного участия в самой схватке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Л. С. Выготский (192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нимание своего особого содержания не имее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; оно проявляется внутри восприятия, мышления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. Л. Рубинштейн (194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59436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«Прожектор внима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Ф. Крик (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809880"/>
            <a:ext cx="853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Внимание – это способ организации нервных центров для совместной работы над текущей задаче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(Стюарт Шипп, 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rcRect l="10347" t="0" r="6898" b="0"/>
          <a:stretch/>
        </p:blipFill>
        <p:spPr>
          <a:xfrm>
            <a:off x="2743200" y="1600200"/>
            <a:ext cx="3657600" cy="3044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Экспериментальная проверка теории фильтр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ихотическое прослушива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4800600"/>
            <a:ext cx="8839440" cy="19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ытуемый должен сразу же повторять то, что он слышит с правой стороны. При «переходе» осмысленного предложения с правой стороны на левую, многие испытуемые, сами того не замечая, «следовали» за н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&gt; </a:t>
            </a:r>
            <a:r>
              <a:rPr b="0" i="1" lang="ru-RU" sz="2400" spc="-1" strike="noStrike">
                <a:solidFill>
                  <a:srgbClr val="ffcc00"/>
                </a:solidFill>
                <a:latin typeface="Arial"/>
              </a:rPr>
              <a:t>Модель поздней селек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220968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8171"/>
                </a:solidFill>
                <a:latin typeface="Arial"/>
              </a:rPr>
              <a:t>Выстрелы ружей так напугали аборигенов,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его маслом, а потом повидлом..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24480" y="2133720"/>
            <a:ext cx="281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Она взяла ломтик хлеба и намазала </a:t>
            </a:r>
            <a:r>
              <a:rPr b="0" lang="en-US" sz="1800" spc="-1" strike="noStrike">
                <a:solidFill>
                  <a:srgbClr val="8f8171"/>
                </a:solidFill>
                <a:latin typeface="Arial"/>
              </a:rPr>
              <a:t>площадь приморского края составляет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10666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анал, на который обращено вним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10666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f8171"/>
                </a:solidFill>
                <a:latin typeface="Arial"/>
              </a:rPr>
              <a:t>Игнорируемый кан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rcRect l="10347" t="0" r="6898" b="0"/>
          <a:stretch/>
        </p:blipFill>
        <p:spPr>
          <a:xfrm>
            <a:off x="2743200" y="1600200"/>
            <a:ext cx="3657600" cy="30448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Экспериментальная проверка теории фильтр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ихотическое прослушива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2280" y="4800600"/>
            <a:ext cx="8839440" cy="19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ытуемый должен сразу же повторять то, что он слышит с правой стороны. Если потом спросить его, о чём говорилось с левой стороны, он вспоминает, что назывались его имя и фамилия, но больше ничего вспомнить не мож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=&gt; </a:t>
            </a:r>
            <a:r>
              <a:rPr b="0" i="1" lang="ru-RU" sz="2400" spc="-1" strike="noStrike">
                <a:solidFill>
                  <a:srgbClr val="ffcc00"/>
                </a:solidFill>
                <a:latin typeface="Arial"/>
              </a:rPr>
              <a:t>Модель аттенюа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220968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8171"/>
                </a:solidFill>
                <a:latin typeface="Arial"/>
              </a:rPr>
              <a:t>Выстрелы ружей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8171"/>
                </a:solidFill>
                <a:latin typeface="Arial"/>
              </a:rPr>
              <a:t>НИКОЛАЙ... Площадь приморского края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8171"/>
                </a:solidFill>
                <a:latin typeface="Arial"/>
              </a:rPr>
              <a:t>ГАВРИЛОВ... Среди облаков виднелось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324480" y="2133720"/>
            <a:ext cx="2819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Она взяла ломтик хлеба и намазала его маслом, а потом повидлом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19720" y="10666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анал, на который обращено вним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10666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f8171"/>
                </a:solidFill>
                <a:latin typeface="Arial"/>
              </a:rPr>
              <a:t>Игнорируемый кан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 flipH="1"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2280" y="-72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Внимание: теории фильтра.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Три основные мод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0" t="2614" r="0" b="0"/>
          <a:stretch/>
        </p:blipFill>
        <p:spPr>
          <a:xfrm>
            <a:off x="1752480" y="609480"/>
            <a:ext cx="5791320" cy="28512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52280" y="3429000"/>
            <a:ext cx="876312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рхний слой – фильтр, основанный на анализе физических параметров стимула; нижний – семантический анализа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. Модель ранней селекции (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Бродбен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Б. Модель аттенюатор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переменной селекции)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Трисман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 Модель поздней селе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2280" y="617220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2280" y="6216480"/>
            <a:ext cx="883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еории фильтра разрабатывались главным образом на основе изучения </a:t>
            </a:r>
            <a:r>
              <a:rPr b="1" i="1" lang="en-US" sz="1600" spc="-1" strike="noStrike">
                <a:solidFill>
                  <a:srgbClr val="ffcc00"/>
                </a:solidFill>
                <a:latin typeface="Arial"/>
              </a:rPr>
              <a:t>слухового вним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2336760" cy="16095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55520" y="236232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Деву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02560" y="228600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52480" y="3505320"/>
            <a:ext cx="762120" cy="761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2360" y="4495680"/>
            <a:ext cx="29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«Заплетённые волос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410080" y="1676520"/>
            <a:ext cx="2336760" cy="16095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422960" y="2209680"/>
            <a:ext cx="124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Муж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вер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91520" y="190512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ужу изменять нельз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336800">
            <a:off x="5867280" y="3504960"/>
            <a:ext cx="457200" cy="761760"/>
          </a:xfrm>
          <a:prstGeom prst="downArrow">
            <a:avLst>
              <a:gd name="adj1" fmla="val 50000"/>
              <a:gd name="adj2" fmla="val 41654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0" y="42670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«Жена должна не изменять муж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19569600">
            <a:off x="7009920" y="3429000"/>
            <a:ext cx="457200" cy="762120"/>
          </a:xfrm>
          <a:prstGeom prst="downArrow">
            <a:avLst>
              <a:gd name="adj1" fmla="val 50000"/>
              <a:gd name="adj2" fmla="val 41673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05720" y="426708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«Муж должен не изменять жен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365920" y="914400"/>
            <a:ext cx="172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елеван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ан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5520" y="914400"/>
            <a:ext cx="189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Игнорируем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кан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09320" y="914400"/>
            <a:ext cx="172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елеван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ан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498920" y="914400"/>
            <a:ext cx="189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Игнорируем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кан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267080" y="838080"/>
            <a:ext cx="0" cy="510552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525780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ексическая неопределённость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ниж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25780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интаксическая неопределённость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е сниж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хотическое прослушивание: эффект контекста и анализ глубины обработки информации, поступающей по игнорируемому кана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2280" y="518148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19720" y="51814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59436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2280" y="5943600"/>
            <a:ext cx="883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Таким образом, информация с игнорируемого канала «пропускается» на уровень обработки лексической информации, и «не пропускается» на уровень синтаксического анали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52280" y="-72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Внимание: оптические метаф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52280" y="457200"/>
            <a:ext cx="8686800" cy="63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«Внутренний глаз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спринимается «всё», а внимание, как глаз выбирает, что «рассматривать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меется фовеаподобный центр, где концентрируется обработка воспринятой информац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блема: бесконечная рекурсия (должен быть внутренний глаз внутреннего глаза и т.д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«Прожектор внима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ласть, на которую обращено внимание «освещена», остальное воспринимается плох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сказания (подтверждённые экспериментально): скорость перемещения внимания ограничена, существует траектория перемещения, область внимания имеет ограниченный размер и единствен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блемы: величина области внимания и «фокусировка» могут меня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«Объектив с трансфокаторо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поминает прожектор, но с возможностью фокусиро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сказания (подтвердившиеся): время требуется как для смещения фокуса в пространстве, так и для изменения «фокусировк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 flipH="1"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52280" y="-72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Внимание: оптические метаф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6858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нимание как объектив с трансфокат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38080" y="1447920"/>
            <a:ext cx="7696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пыт Д. Навона (1970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 F F F F F 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 T T T T T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 F F F F 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 T T T T 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2280" y="5486400"/>
            <a:ext cx="87631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елективное внимание: от глобального к локальн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Преимущество глобальных механизмов может нарушаться под влиянием сильного стресса (туннельное зрени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2280" y="190512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533412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 flipH="1"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2280" y="-36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Распределение внимания в пространстве и врем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91880" y="990720"/>
            <a:ext cx="335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«Слепота к изменения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02648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 flipH="1"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52280" y="-36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Распределение внимания в пространстве и врем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891880" y="990720"/>
            <a:ext cx="335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«Слепота к изменения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026480" cy="43131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066680" y="5751360"/>
            <a:ext cx="701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десь есть 4 отлич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 flipH="1"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-36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Распределение внимания в пространстве и врем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85560" y="990720"/>
            <a:ext cx="64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«Моргание внимания» и «слепота к изменения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 flipH="1"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52280" y="-36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Распределение внимания в пространстве и врем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85560" y="1143000"/>
            <a:ext cx="64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«Моргание внимания» и «слепота к изменения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685800"/>
            <a:ext cx="8153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00"/>
                </a:solidFill>
                <a:uFillTx/>
                <a:latin typeface="Arial"/>
              </a:rPr>
              <a:t>Внимание – «это овладение умом в четкой и яркой форме одним</a:t>
            </a: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 из нескольких наличествующих объ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уть этого процесса –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фокусирование, концентрировани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зна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Внимание приводит к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твлечению от некоторых вещей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для того, чтобы можно было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эффективно заняться другим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Состояние внимания противоположно рассеянному, затемненному состояни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ильям Джеймс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James, 189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952880"/>
            <a:ext cx="8229600" cy="18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Близкие понятия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Бди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Концентр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Избира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Контр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52280" y="-36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Распределение внимания в пространстве и врем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7680" y="1332000"/>
            <a:ext cx="8474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«Слепота к изменениям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нам трудно (невозможно?) заметить изменения в тех вещах, которые не находятся в фокусе вним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«Моргание внимания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внимание к следующему объекту сильно снижено, если он предъявляется в течение 0,5 секунд после предыдущего, 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второй объект воспринимается, но его характеристики не обрабатыва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52280" y="4510080"/>
            <a:ext cx="883944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ак показывают эксперименты, большинство изменений в поле зрения проходя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НЕЗАМЕЧЕННЫМИ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заставляя предположить, что реальн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воспринимается в подробностях только небольшая область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и это подтверждается исследованиями физиологии зрительного восприятия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НО субъективное восприятие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говорит нам, что мы видим достаточн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ОДРОБНО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большей части поля з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Парадокс зрительного воспри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3886200" cy="32846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800600" y="609480"/>
            <a:ext cx="3859200" cy="32720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457200" y="388620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еальное изоб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48320" y="380988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ответствующий выходной сигнал с сетча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" y="449568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52280" y="21204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Ресурсные модели вним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838080"/>
            <a:ext cx="845820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Обобщение моделей внимания как канала с ограниченной пропускной способностью: решаемые задачи требуют ментальных усилий, а наши ресурсы ограничены =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 вынуждены распределять ресурсы между задачам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селективность вниман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Тесты на селективное внимание: поиск отличающегося объекта, тест Струпа и друг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952880" y="4495680"/>
            <a:ext cx="4038840" cy="2362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54440" y="6324480"/>
            <a:ext cx="21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одель Канем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52280" y="-6084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Модель Канема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rcRect l="0" t="6074" r="0" b="0"/>
          <a:stretch/>
        </p:blipFill>
        <p:spPr>
          <a:xfrm>
            <a:off x="1523880" y="533520"/>
            <a:ext cx="58946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514600" y="1676520"/>
            <a:ext cx="3591000" cy="43434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айдите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айдите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7162560" cy="47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айдите вертикальную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362320" y="1828800"/>
            <a:ext cx="36781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айдите вертикальную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7057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айдите вертикальную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37213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айдите вертикальную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4008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1523880"/>
            <a:ext cx="792468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ы непрерывно получаем через органы чувств огромный объём информации, гораздо больший, чем можем воспринять и тем более осозн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обходим механизм отбора наиболее важной информации, и внимание является этим механизм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Мы не просто пассивно видим и слышим – мы активно смотрим и слуша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-72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Зачем нужно вним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айдите синюю букв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981440" y="1905120"/>
            <a:ext cx="3997440" cy="4001760"/>
            <a:chOff x="1981440" y="1905120"/>
            <a:chExt cx="3997440" cy="4001760"/>
          </a:xfrm>
        </p:grpSpPr>
        <p:sp>
          <p:nvSpPr>
            <p:cNvPr id="262" name=""/>
            <p:cNvSpPr/>
            <p:nvPr/>
          </p:nvSpPr>
          <p:spPr>
            <a:xfrm>
              <a:off x="4018680" y="265284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cc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65000" y="190512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585600" y="490356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32680" y="340344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981440" y="393912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09000" y="297432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77560" y="383184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895280" y="201168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"/>
          <p:cNvGrpSpPr/>
          <p:nvPr/>
        </p:nvGrpSpPr>
        <p:grpSpPr>
          <a:xfrm>
            <a:off x="685800" y="1447920"/>
            <a:ext cx="7894080" cy="5346360"/>
            <a:chOff x="685800" y="1447920"/>
            <a:chExt cx="7894080" cy="5346360"/>
          </a:xfrm>
        </p:grpSpPr>
        <p:sp>
          <p:nvSpPr>
            <p:cNvPr id="271" name=""/>
            <p:cNvSpPr/>
            <p:nvPr/>
          </p:nvSpPr>
          <p:spPr>
            <a:xfrm>
              <a:off x="5516280" y="260064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cc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038680" y="313056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555560" y="330840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811960" y="162504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85600" y="339660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033520" y="525888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37040" y="419472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585600" y="517068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942200" y="446076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033520" y="233460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83600" y="419472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90280" y="304236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07160" y="534780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063560" y="472680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933680" y="348552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547400" y="197964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453560" y="144792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68200" y="428364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265760" y="242316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15840" y="428364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72240" y="437256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038680" y="543672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811960" y="579096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165920" y="357444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778920" y="206856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80440" y="224568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097320" y="242316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83600" y="357444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710320" y="339660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807160" y="153648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811960" y="260064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48880" y="180252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5800" y="534780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361880" y="508176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айдите синюю букв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айдите синюю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447560" y="1752480"/>
            <a:ext cx="5244840" cy="4324320"/>
            <a:chOff x="1447560" y="1752480"/>
            <a:chExt cx="5244840" cy="4324320"/>
          </a:xfrm>
        </p:grpSpPr>
        <p:sp>
          <p:nvSpPr>
            <p:cNvPr id="308" name=""/>
            <p:cNvSpPr/>
            <p:nvPr/>
          </p:nvSpPr>
          <p:spPr>
            <a:xfrm>
              <a:off x="4511880" y="405144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74800" y="507348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447560" y="456228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279040" y="494568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cc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46200" y="251856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46200" y="392400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cc"/>
                  </a:solidFill>
                  <a:latin typeface="Arial"/>
                </a:rPr>
                <a:t>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00920" y="315756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051800" y="175248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cc"/>
                  </a:solidFill>
                  <a:latin typeface="Arial"/>
                </a:rPr>
                <a:t>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358880" y="277452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cc"/>
                  </a:solidFill>
                  <a:latin typeface="Arial"/>
                </a:rPr>
                <a:t>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827800" y="392400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cc"/>
                  </a:solidFill>
                  <a:latin typeface="Arial"/>
                </a:rPr>
                <a:t>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айдите синюю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838080" y="1295280"/>
            <a:ext cx="7149600" cy="5352480"/>
            <a:chOff x="838080" y="1295280"/>
            <a:chExt cx="7149600" cy="5352480"/>
          </a:xfrm>
        </p:grpSpPr>
        <p:sp>
          <p:nvSpPr>
            <p:cNvPr id="320" name=""/>
            <p:cNvSpPr/>
            <p:nvPr/>
          </p:nvSpPr>
          <p:spPr>
            <a:xfrm>
              <a:off x="5172840" y="250380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cc"/>
                  </a:solidFill>
                  <a:latin typeface="Arial"/>
                </a:rPr>
                <a:t>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52360" y="298548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18560" y="314676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746080" y="161712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40160" y="322704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738680" y="491904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52640" y="395244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440160" y="483876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64880" y="419400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738680" y="226188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040440" y="395244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866920" y="290484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33120" y="500004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61000" y="443592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41480" y="330768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993720" y="193968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18840" y="145620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0800" y="403308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58280" y="234252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658600" y="403308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87200" y="411372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052360" y="508068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46080" y="540252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960360" y="338832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612600" y="202032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266640" y="403308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cc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693400" y="234252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39720" y="338832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346720" y="322704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433120" y="153684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46080" y="250380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792080" y="177840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38080" y="500004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44320" y="475812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052360" y="234252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cc"/>
                  </a:solidFill>
                  <a:latin typeface="Arial"/>
                </a:rPr>
                <a:t>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612600" y="540252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cc"/>
                  </a:solidFill>
                  <a:latin typeface="Arial"/>
                </a:rPr>
                <a:t>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953680" y="483876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cc"/>
                  </a:solidFill>
                  <a:latin typeface="Arial"/>
                </a:rPr>
                <a:t>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820920" y="330768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cc"/>
                  </a:solidFill>
                  <a:latin typeface="Arial"/>
                </a:rPr>
                <a:t>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52360" y="379116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cc"/>
                  </a:solidFill>
                  <a:latin typeface="Arial"/>
                </a:rPr>
                <a:t>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346720" y="411372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cc"/>
                  </a:solidFill>
                  <a:latin typeface="Arial"/>
                </a:rPr>
                <a:t>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526920" y="266328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cc"/>
                  </a:solidFill>
                  <a:latin typeface="Arial"/>
                </a:rPr>
                <a:t>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739400" y="153684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cc"/>
                  </a:solidFill>
                  <a:latin typeface="Arial"/>
                </a:rPr>
                <a:t>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658600" y="467748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cc"/>
                  </a:solidFill>
                  <a:latin typeface="Arial"/>
                </a:rPr>
                <a:t>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010520" y="314676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cc"/>
                  </a:solidFill>
                  <a:latin typeface="Arial"/>
                </a:rPr>
                <a:t>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833200" y="330768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cc"/>
                  </a:solidFill>
                  <a:latin typeface="Arial"/>
                </a:rPr>
                <a:t>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31360" y="475812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cc"/>
                  </a:solidFill>
                  <a:latin typeface="Arial"/>
                </a:rPr>
                <a:t>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392360" y="298548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cc"/>
                  </a:solidFill>
                  <a:latin typeface="Arial"/>
                </a:rPr>
                <a:t>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526920" y="129528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cc"/>
                  </a:solidFill>
                  <a:latin typeface="Arial"/>
                </a:rPr>
                <a:t>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341480" y="258408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cc"/>
                  </a:solidFill>
                  <a:latin typeface="Arial"/>
                </a:rPr>
                <a:t>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39720" y="145620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cc"/>
                  </a:solidFill>
                  <a:latin typeface="Arial"/>
                </a:rPr>
                <a:t>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081200" y="395244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cc"/>
                  </a:solidFill>
                  <a:latin typeface="Arial"/>
                </a:rPr>
                <a:t>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85360" y="564444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cc"/>
                  </a:solidFill>
                  <a:latin typeface="Arial"/>
                </a:rPr>
                <a:t>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304880" y="226188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cc"/>
                  </a:solidFill>
                  <a:latin typeface="Arial"/>
                </a:rPr>
                <a:t>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733440" y="258408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cc"/>
                  </a:solidFill>
                  <a:latin typeface="Arial"/>
                </a:rPr>
                <a:t>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300720" y="2020320"/>
              <a:ext cx="646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bbe0e3"/>
                  </a:solidFill>
                  <a:latin typeface="Arial"/>
                </a:rPr>
                <a:t>L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происходи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228600" y="533520"/>
            <a:ext cx="8712360" cy="5181480"/>
            <a:chOff x="228600" y="533520"/>
            <a:chExt cx="8712360" cy="5181480"/>
          </a:xfrm>
        </p:grpSpPr>
        <p:sp>
          <p:nvSpPr>
            <p:cNvPr id="377" name=""/>
            <p:cNvSpPr/>
            <p:nvPr/>
          </p:nvSpPr>
          <p:spPr>
            <a:xfrm>
              <a:off x="228600" y="533520"/>
              <a:ext cx="6172200" cy="518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228600" y="1447920"/>
              <a:ext cx="5714640" cy="3339000"/>
              <a:chOff x="228600" y="1447920"/>
              <a:chExt cx="5714640" cy="3339000"/>
            </a:xfrm>
          </p:grpSpPr>
          <p:sp>
            <p:nvSpPr>
              <p:cNvPr id="379" name=""/>
              <p:cNvSpPr/>
              <p:nvPr/>
            </p:nvSpPr>
            <p:spPr>
              <a:xfrm>
                <a:off x="1274760" y="1640160"/>
                <a:ext cx="3086280" cy="1566360"/>
              </a:xfrm>
              <a:custGeom>
                <a:avLst/>
                <a:gdLst/>
                <a:ahLst/>
                <a:rect l="l" t="t" r="r" b="b"/>
                <a:pathLst>
                  <a:path w="2348" h="1100">
                    <a:moveTo>
                      <a:pt x="0" y="1099"/>
                    </a:moveTo>
                    <a:lnTo>
                      <a:pt x="321" y="1032"/>
                    </a:lnTo>
                    <a:lnTo>
                      <a:pt x="1132" y="552"/>
                    </a:lnTo>
                    <a:lnTo>
                      <a:pt x="2347" y="0"/>
                    </a:lnTo>
                  </a:path>
                </a:pathLst>
              </a:custGeom>
              <a:noFill/>
              <a:ln cap="rnd" w="4140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509360" y="2397960"/>
                <a:ext cx="1433880" cy="5565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167120" y="1645560"/>
                <a:ext cx="0" cy="234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115640" y="3991680"/>
                <a:ext cx="1022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115640" y="3602880"/>
                <a:ext cx="102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115640" y="3205440"/>
                <a:ext cx="102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115640" y="2816640"/>
                <a:ext cx="102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115640" y="2426400"/>
                <a:ext cx="102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115640" y="2030400"/>
                <a:ext cx="102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115640" y="1640160"/>
                <a:ext cx="102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172160" y="3991680"/>
                <a:ext cx="318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1167120" y="3930120"/>
                <a:ext cx="0" cy="12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V="1">
                <a:off x="2233080" y="3930120"/>
                <a:ext cx="0" cy="12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V="1">
                <a:off x="3293640" y="3930120"/>
                <a:ext cx="0" cy="12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V="1">
                <a:off x="4359960" y="3930120"/>
                <a:ext cx="0" cy="12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274760" y="3171240"/>
                <a:ext cx="3086280" cy="35280"/>
              </a:xfrm>
              <a:custGeom>
                <a:avLst/>
                <a:gdLst/>
                <a:ahLst/>
                <a:rect l="l" t="t" r="r" b="b"/>
                <a:pathLst>
                  <a:path w="2348" h="25">
                    <a:moveTo>
                      <a:pt x="0" y="24"/>
                    </a:moveTo>
                    <a:lnTo>
                      <a:pt x="321" y="20"/>
                    </a:lnTo>
                    <a:lnTo>
                      <a:pt x="1132" y="10"/>
                    </a:lnTo>
                    <a:lnTo>
                      <a:pt x="2347" y="0"/>
                    </a:lnTo>
                  </a:path>
                </a:pathLst>
              </a:custGeom>
              <a:noFill/>
              <a:ln cap="rnd" w="414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253880" y="3184200"/>
                <a:ext cx="40320" cy="43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676880" y="3088440"/>
                <a:ext cx="39600" cy="42840"/>
              </a:xfrm>
              <a:prstGeom prst="ellipse">
                <a:avLst/>
              </a:prstGeom>
              <a:solidFill>
                <a:srgbClr val="bbe0e3"/>
              </a:solidFill>
              <a:ln w="1260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742840" y="2405160"/>
                <a:ext cx="40320" cy="42480"/>
              </a:xfrm>
              <a:prstGeom prst="ellipse">
                <a:avLst/>
              </a:prstGeom>
              <a:solidFill>
                <a:srgbClr val="bbe0e3"/>
              </a:solidFill>
              <a:ln w="1260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340160" y="1618920"/>
                <a:ext cx="39240" cy="42480"/>
              </a:xfrm>
              <a:prstGeom prst="ellipse">
                <a:avLst/>
              </a:prstGeom>
              <a:solidFill>
                <a:srgbClr val="bbe0e3"/>
              </a:solidFill>
              <a:ln w="1260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248480" y="3178440"/>
                <a:ext cx="63000" cy="6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 flipV="1">
                <a:off x="1248480" y="3178080"/>
                <a:ext cx="25920" cy="27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280160" y="3211200"/>
                <a:ext cx="14040" cy="16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1248480" y="3211200"/>
                <a:ext cx="25920" cy="16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1280160" y="3178080"/>
                <a:ext cx="14040" cy="27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1274760" y="3178080"/>
                <a:ext cx="0" cy="27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274760" y="3211200"/>
                <a:ext cx="0" cy="1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671840" y="3171240"/>
                <a:ext cx="63000" cy="6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 flipV="1">
                <a:off x="1671480" y="3171240"/>
                <a:ext cx="24840" cy="28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701720" y="3205440"/>
                <a:ext cx="14400" cy="15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>
                <a:off x="1671480" y="3205440"/>
                <a:ext cx="24840" cy="15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1701720" y="3171240"/>
                <a:ext cx="14400" cy="28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1696680" y="3171240"/>
                <a:ext cx="0" cy="28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696680" y="3205440"/>
                <a:ext cx="0" cy="1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737800" y="3158640"/>
                <a:ext cx="63000" cy="68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 flipV="1">
                <a:off x="2737440" y="3158640"/>
                <a:ext cx="24840" cy="26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768040" y="3191400"/>
                <a:ext cx="15480" cy="15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2737440" y="3191400"/>
                <a:ext cx="24840" cy="15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2768040" y="3158640"/>
                <a:ext cx="15480" cy="26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V="1">
                <a:off x="2762640" y="3158640"/>
                <a:ext cx="0" cy="26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762640" y="3191400"/>
                <a:ext cx="0" cy="1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334760" y="3144240"/>
                <a:ext cx="63000" cy="6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 flipV="1">
                <a:off x="4334400" y="3143880"/>
                <a:ext cx="24840" cy="27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365000" y="3177000"/>
                <a:ext cx="14400" cy="16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4334400" y="3177000"/>
                <a:ext cx="24840" cy="16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V="1">
                <a:off x="4365000" y="3143880"/>
                <a:ext cx="14400" cy="27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4359960" y="3143880"/>
                <a:ext cx="0" cy="27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359960" y="3177000"/>
                <a:ext cx="0" cy="1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41320" y="3799440"/>
                <a:ext cx="3078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27480" y="3407760"/>
                <a:ext cx="5608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27480" y="3011760"/>
                <a:ext cx="5608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4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27480" y="2621520"/>
                <a:ext cx="5608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27480" y="2234160"/>
                <a:ext cx="5608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19480" y="1836720"/>
                <a:ext cx="6872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19480" y="1447920"/>
                <a:ext cx="6872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2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043280" y="4091400"/>
                <a:ext cx="3078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051280" y="4091400"/>
                <a:ext cx="4345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110760" y="4091400"/>
                <a:ext cx="4345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177080" y="4091400"/>
                <a:ext cx="4345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954800" y="4454640"/>
                <a:ext cx="195228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Число элементов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28600" y="2622960"/>
                <a:ext cx="4863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643640" y="2795400"/>
                <a:ext cx="63000" cy="6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642200" y="2795400"/>
                <a:ext cx="25920" cy="28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 flipV="1">
                <a:off x="4668120" y="2823480"/>
                <a:ext cx="23400" cy="25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>
                <a:off x="4642200" y="2829600"/>
                <a:ext cx="25920" cy="14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4664520" y="2775240"/>
                <a:ext cx="31320" cy="68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5" name=""/>
              <p:cNvGrpSpPr/>
              <p:nvPr/>
            </p:nvGrpSpPr>
            <p:grpSpPr>
              <a:xfrm>
                <a:off x="1324800" y="1681560"/>
                <a:ext cx="1926720" cy="640800"/>
                <a:chOff x="1324800" y="1681560"/>
                <a:chExt cx="1926720" cy="64080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1324800" y="1836720"/>
                  <a:ext cx="187560" cy="0"/>
                </a:xfrm>
                <a:prstGeom prst="line">
                  <a:avLst/>
                </a:prstGeom>
                <a:ln w="414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1395720" y="1813680"/>
                  <a:ext cx="39240" cy="43920"/>
                </a:xfrm>
                <a:prstGeom prst="ellipse">
                  <a:avLst/>
                </a:prstGeom>
                <a:solidFill>
                  <a:srgbClr val="bbe0e3"/>
                </a:solidFill>
                <a:ln w="1260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1492200" y="1681560"/>
                  <a:ext cx="171468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Два признак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1324800" y="2109960"/>
                  <a:ext cx="187560" cy="0"/>
                </a:xfrm>
                <a:prstGeom prst="line">
                  <a:avLst/>
                </a:prstGeom>
                <a:ln w="414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1491120" y="1959120"/>
                  <a:ext cx="176040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Arial"/>
                    </a:rPr>
                    <a:t>Один признак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1415160" y="2115720"/>
                  <a:ext cx="0" cy="15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2" name=""/>
              <p:cNvSpPr/>
              <p:nvPr/>
            </p:nvSpPr>
            <p:spPr>
              <a:xfrm>
                <a:off x="1387800" y="2091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4622760" y="533520"/>
              <a:ext cx="4318200" cy="5181480"/>
              <a:chOff x="4622760" y="533520"/>
              <a:chExt cx="4318200" cy="5181480"/>
            </a:xfrm>
          </p:grpSpPr>
          <p:pic>
            <p:nvPicPr>
              <p:cNvPr id="4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622760" y="533520"/>
                <a:ext cx="4318200" cy="518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5" name=""/>
              <p:cNvSpPr txBox="1"/>
              <p:nvPr/>
            </p:nvSpPr>
            <p:spPr>
              <a:xfrm>
                <a:off x="4622760" y="533520"/>
                <a:ext cx="4318200" cy="5181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649"/>
                  </a:spcBef>
                  <a:buClr>
                    <a:srgbClr val="000000"/>
                  </a:buClr>
                  <a:buSzPct val="70000"/>
                  <a:buFont typeface="Wingdings" charset="2"/>
                  <a:buChar char="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4648320" y="533520"/>
              <a:ext cx="0" cy="518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16200000">
              <a:off x="-609120" y="2972160"/>
              <a:ext cx="219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ремя реакции, м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228600" y="5791320"/>
            <a:ext cx="877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сли отличительный признак один – поиск параллельный, быстрый, не требующий больших ресурсов; если же поиск идёт по сочетанию признаков – поиск последовательный и медлен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 количество признаков – не единственный фак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2286000" y="2057400"/>
            <a:ext cx="4114440" cy="3962160"/>
            <a:chOff x="2286000" y="2057400"/>
            <a:chExt cx="4114440" cy="3962160"/>
          </a:xfrm>
        </p:grpSpPr>
        <p:sp>
          <p:nvSpPr>
            <p:cNvPr id="461" name=""/>
            <p:cNvSpPr/>
            <p:nvPr/>
          </p:nvSpPr>
          <p:spPr>
            <a:xfrm>
              <a:off x="2680920" y="2147760"/>
              <a:ext cx="756720" cy="695520"/>
            </a:xfrm>
            <a:prstGeom prst="ellipse">
              <a:avLst/>
            </a:prstGeom>
            <a:solidFill>
              <a:srgbClr val="008080"/>
            </a:soli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273480" y="3146400"/>
              <a:ext cx="756720" cy="695160"/>
            </a:xfrm>
            <a:prstGeom prst="ellipse">
              <a:avLst/>
            </a:prstGeom>
            <a:solidFill>
              <a:srgbClr val="008080"/>
            </a:soli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248440" y="5051880"/>
              <a:ext cx="757080" cy="695160"/>
            </a:xfrm>
            <a:prstGeom prst="ellipse">
              <a:avLst/>
            </a:prstGeom>
            <a:solidFill>
              <a:srgbClr val="008080"/>
            </a:soli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67040" y="2057400"/>
              <a:ext cx="757080" cy="695160"/>
            </a:xfrm>
            <a:prstGeom prst="ellipse">
              <a:avLst/>
            </a:prstGeom>
            <a:solidFill>
              <a:srgbClr val="008080"/>
            </a:soli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075840" y="5324400"/>
              <a:ext cx="757080" cy="695160"/>
            </a:xfrm>
            <a:prstGeom prst="ellipse">
              <a:avLst/>
            </a:prstGeom>
            <a:solidFill>
              <a:srgbClr val="008080"/>
            </a:soli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557240" y="2419920"/>
              <a:ext cx="757080" cy="695520"/>
            </a:xfrm>
            <a:prstGeom prst="ellipse">
              <a:avLst/>
            </a:prstGeom>
            <a:solidFill>
              <a:srgbClr val="008080"/>
            </a:soli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458600" y="3327480"/>
              <a:ext cx="756720" cy="695520"/>
            </a:xfrm>
            <a:prstGeom prst="ellipse">
              <a:avLst/>
            </a:prstGeom>
            <a:solidFill>
              <a:srgbClr val="008080"/>
            </a:soli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063320" y="4597920"/>
              <a:ext cx="757080" cy="695520"/>
            </a:xfrm>
            <a:prstGeom prst="ellipse">
              <a:avLst/>
            </a:prstGeom>
            <a:solidFill>
              <a:srgbClr val="008080"/>
            </a:soli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286000" y="3236760"/>
              <a:ext cx="757080" cy="695520"/>
            </a:xfrm>
            <a:prstGeom prst="ellipse">
              <a:avLst/>
            </a:prstGeom>
            <a:solidFill>
              <a:srgbClr val="008080"/>
            </a:soli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581920" y="4325760"/>
              <a:ext cx="757080" cy="695520"/>
            </a:xfrm>
            <a:prstGeom prst="ellipse">
              <a:avLst/>
            </a:prstGeom>
            <a:solidFill>
              <a:srgbClr val="008080"/>
            </a:soli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248440" y="3781080"/>
              <a:ext cx="757080" cy="695520"/>
            </a:xfrm>
            <a:prstGeom prst="ellipse">
              <a:avLst/>
            </a:prstGeom>
            <a:solidFill>
              <a:srgbClr val="008080"/>
            </a:soli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643720" y="2419920"/>
              <a:ext cx="756720" cy="695520"/>
            </a:xfrm>
            <a:prstGeom prst="ellipse">
              <a:avLst/>
            </a:prstGeom>
            <a:solidFill>
              <a:srgbClr val="008080"/>
            </a:soli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651840" y="3690720"/>
              <a:ext cx="0" cy="3326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7540920" y="649116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isual pop-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"/>
          <p:cNvGrpSpPr/>
          <p:nvPr/>
        </p:nvGrpSpPr>
        <p:grpSpPr>
          <a:xfrm>
            <a:off x="1676520" y="2057400"/>
            <a:ext cx="5943240" cy="3962160"/>
            <a:chOff x="1676520" y="2057400"/>
            <a:chExt cx="5943240" cy="3962160"/>
          </a:xfrm>
        </p:grpSpPr>
        <p:sp>
          <p:nvSpPr>
            <p:cNvPr id="476" name=""/>
            <p:cNvSpPr/>
            <p:nvPr/>
          </p:nvSpPr>
          <p:spPr>
            <a:xfrm>
              <a:off x="2892240" y="2149920"/>
              <a:ext cx="776160" cy="712080"/>
            </a:xfrm>
            <a:prstGeom prst="ellipse">
              <a:avLst/>
            </a:prstGeom>
            <a:solidFill>
              <a:srgbClr val="008080"/>
            </a:soli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676520" y="2428560"/>
              <a:ext cx="776160" cy="712080"/>
            </a:xfrm>
            <a:prstGeom prst="ellipse">
              <a:avLst/>
            </a:prstGeom>
            <a:solidFill>
              <a:srgbClr val="008080"/>
            </a:soli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526000" y="5122080"/>
              <a:ext cx="776520" cy="711360"/>
            </a:xfrm>
            <a:prstGeom prst="ellipse">
              <a:avLst/>
            </a:prstGeom>
            <a:solidFill>
              <a:srgbClr val="008080"/>
            </a:soli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006440" y="2057400"/>
              <a:ext cx="776520" cy="711360"/>
            </a:xfrm>
            <a:prstGeom prst="ellipse">
              <a:avLst/>
            </a:prstGeom>
            <a:solidFill>
              <a:srgbClr val="008080"/>
            </a:soli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601080" y="3914640"/>
              <a:ext cx="776520" cy="712080"/>
            </a:xfrm>
            <a:prstGeom prst="ellipse">
              <a:avLst/>
            </a:prstGeom>
            <a:solidFill>
              <a:srgbClr val="008080"/>
            </a:soli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816800" y="2428560"/>
              <a:ext cx="776520" cy="712080"/>
            </a:xfrm>
            <a:prstGeom prst="ellipse">
              <a:avLst/>
            </a:prstGeom>
            <a:solidFill>
              <a:srgbClr val="008080"/>
            </a:soli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019840" y="4100040"/>
              <a:ext cx="776160" cy="712080"/>
            </a:xfrm>
            <a:prstGeom prst="ellipse">
              <a:avLst/>
            </a:prstGeom>
            <a:solidFill>
              <a:srgbClr val="008080"/>
            </a:soli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310280" y="4657320"/>
              <a:ext cx="776520" cy="712080"/>
            </a:xfrm>
            <a:prstGeom prst="ellipse">
              <a:avLst/>
            </a:prstGeom>
            <a:solidFill>
              <a:srgbClr val="008080"/>
            </a:soli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486880" y="3264120"/>
              <a:ext cx="776520" cy="712080"/>
            </a:xfrm>
            <a:prstGeom prst="ellipse">
              <a:avLst/>
            </a:prstGeom>
            <a:solidFill>
              <a:srgbClr val="008080"/>
            </a:soli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790720" y="4378680"/>
              <a:ext cx="776520" cy="712080"/>
            </a:xfrm>
            <a:prstGeom prst="ellipse">
              <a:avLst/>
            </a:prstGeom>
            <a:solidFill>
              <a:srgbClr val="008080"/>
            </a:soli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411800" y="3264120"/>
              <a:ext cx="776160" cy="712080"/>
            </a:xfrm>
            <a:prstGeom prst="ellipse">
              <a:avLst/>
            </a:prstGeom>
            <a:solidFill>
              <a:srgbClr val="008080"/>
            </a:soli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931720" y="2428560"/>
              <a:ext cx="776160" cy="712080"/>
            </a:xfrm>
            <a:prstGeom prst="ellipse">
              <a:avLst/>
            </a:prstGeom>
            <a:solidFill>
              <a:srgbClr val="008080"/>
            </a:soli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280320" y="2707200"/>
              <a:ext cx="0" cy="34020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874960" y="3728880"/>
              <a:ext cx="0" cy="34020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394520" y="2614320"/>
              <a:ext cx="0" cy="34020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799880" y="5214600"/>
              <a:ext cx="0" cy="34020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205600" y="2985480"/>
              <a:ext cx="0" cy="34020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178800" y="4935960"/>
              <a:ext cx="0" cy="34020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989520" y="4471560"/>
              <a:ext cx="0" cy="34020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319800" y="2985480"/>
              <a:ext cx="0" cy="34020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799880" y="3821400"/>
              <a:ext cx="0" cy="34020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914440" y="5679360"/>
              <a:ext cx="0" cy="34020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064600" y="2985480"/>
              <a:ext cx="0" cy="34020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43600" y="3542760"/>
              <a:ext cx="776160" cy="712080"/>
            </a:xfrm>
            <a:prstGeom prst="ellipse">
              <a:avLst/>
            </a:prstGeom>
            <a:solidFill>
              <a:srgbClr val="008080"/>
            </a:soli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231680" y="4100040"/>
              <a:ext cx="0" cy="34020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676520" y="4100040"/>
              <a:ext cx="776160" cy="712080"/>
            </a:xfrm>
            <a:prstGeom prst="ellipse">
              <a:avLst/>
            </a:prstGeom>
            <a:solidFill>
              <a:srgbClr val="008080"/>
            </a:soli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064600" y="4657320"/>
              <a:ext cx="0" cy="34020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931720" y="3821400"/>
              <a:ext cx="776160" cy="712080"/>
            </a:xfrm>
            <a:prstGeom prst="ellipse">
              <a:avLst/>
            </a:prstGeom>
            <a:solidFill>
              <a:srgbClr val="008080"/>
            </a:soli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319800" y="4378680"/>
              <a:ext cx="0" cy="34020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 труднее, чем 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533520" y="2514240"/>
            <a:ext cx="3657240" cy="3934440"/>
            <a:chOff x="533520" y="2514240"/>
            <a:chExt cx="3657240" cy="3934440"/>
          </a:xfrm>
        </p:grpSpPr>
        <p:grpSp>
          <p:nvGrpSpPr>
            <p:cNvPr id="508" name=""/>
            <p:cNvGrpSpPr/>
            <p:nvPr/>
          </p:nvGrpSpPr>
          <p:grpSpPr>
            <a:xfrm>
              <a:off x="533520" y="2514240"/>
              <a:ext cx="3657240" cy="2819880"/>
              <a:chOff x="533520" y="2514240"/>
              <a:chExt cx="3657240" cy="2819880"/>
            </a:xfrm>
          </p:grpSpPr>
          <p:grpSp>
            <p:nvGrpSpPr>
              <p:cNvPr id="509" name=""/>
              <p:cNvGrpSpPr/>
              <p:nvPr/>
            </p:nvGrpSpPr>
            <p:grpSpPr>
              <a:xfrm>
                <a:off x="533520" y="3835800"/>
                <a:ext cx="650520" cy="352800"/>
                <a:chOff x="533520" y="3835800"/>
                <a:chExt cx="650520" cy="352800"/>
              </a:xfrm>
            </p:grpSpPr>
            <p:sp>
              <p:nvSpPr>
                <p:cNvPr id="510" name=""/>
                <p:cNvSpPr/>
                <p:nvPr/>
              </p:nvSpPr>
              <p:spPr>
                <a:xfrm flipV="1">
                  <a:off x="1183680" y="3835800"/>
                  <a:ext cx="0" cy="352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858960" y="3836160"/>
                  <a:ext cx="3250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flipV="1">
                  <a:off x="858600" y="3835800"/>
                  <a:ext cx="0" cy="352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533880" y="4188600"/>
                  <a:ext cx="3250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flipV="1">
                  <a:off x="533520" y="3835800"/>
                  <a:ext cx="0" cy="352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1020600" y="4628880"/>
                <a:ext cx="650520" cy="352800"/>
                <a:chOff x="1020600" y="4628880"/>
                <a:chExt cx="650520" cy="352800"/>
              </a:xfrm>
            </p:grpSpPr>
            <p:sp>
              <p:nvSpPr>
                <p:cNvPr id="516" name=""/>
                <p:cNvSpPr/>
                <p:nvPr/>
              </p:nvSpPr>
              <p:spPr>
                <a:xfrm flipV="1">
                  <a:off x="1020960" y="4628880"/>
                  <a:ext cx="0" cy="352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flipH="1">
                  <a:off x="1020600" y="4629240"/>
                  <a:ext cx="3250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 flipV="1">
                  <a:off x="1346040" y="4628880"/>
                  <a:ext cx="0" cy="352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flipH="1">
                  <a:off x="1345680" y="4981680"/>
                  <a:ext cx="3250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flipV="1">
                  <a:off x="1671120" y="4628880"/>
                  <a:ext cx="0" cy="352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1101960" y="3042720"/>
                <a:ext cx="650520" cy="352800"/>
                <a:chOff x="1101960" y="3042720"/>
                <a:chExt cx="650520" cy="352800"/>
              </a:xfrm>
            </p:grpSpPr>
            <p:sp>
              <p:nvSpPr>
                <p:cNvPr id="522" name=""/>
                <p:cNvSpPr/>
                <p:nvPr/>
              </p:nvSpPr>
              <p:spPr>
                <a:xfrm flipV="1">
                  <a:off x="1102320" y="3042720"/>
                  <a:ext cx="0" cy="352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flipH="1">
                  <a:off x="1101960" y="3043080"/>
                  <a:ext cx="3250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 flipV="1">
                  <a:off x="1427400" y="3042720"/>
                  <a:ext cx="0" cy="352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 flipH="1">
                  <a:off x="1427040" y="3395520"/>
                  <a:ext cx="3250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flipV="1">
                  <a:off x="1752480" y="3042720"/>
                  <a:ext cx="0" cy="352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2158560" y="2514240"/>
                <a:ext cx="650520" cy="352800"/>
                <a:chOff x="2158560" y="2514240"/>
                <a:chExt cx="650520" cy="352800"/>
              </a:xfrm>
            </p:grpSpPr>
            <p:sp>
              <p:nvSpPr>
                <p:cNvPr id="528" name=""/>
                <p:cNvSpPr/>
                <p:nvPr/>
              </p:nvSpPr>
              <p:spPr>
                <a:xfrm flipV="1">
                  <a:off x="2158920" y="2514240"/>
                  <a:ext cx="0" cy="352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flipH="1">
                  <a:off x="2158560" y="2514600"/>
                  <a:ext cx="3250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 flipV="1">
                  <a:off x="2484000" y="2514240"/>
                  <a:ext cx="0" cy="352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 flipH="1">
                  <a:off x="2483640" y="2867040"/>
                  <a:ext cx="3250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flipV="1">
                  <a:off x="2809080" y="2514240"/>
                  <a:ext cx="0" cy="352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3052800" y="3042720"/>
                <a:ext cx="650520" cy="352800"/>
                <a:chOff x="3052800" y="3042720"/>
                <a:chExt cx="650520" cy="352800"/>
              </a:xfrm>
            </p:grpSpPr>
            <p:sp>
              <p:nvSpPr>
                <p:cNvPr id="534" name=""/>
                <p:cNvSpPr/>
                <p:nvPr/>
              </p:nvSpPr>
              <p:spPr>
                <a:xfrm flipV="1">
                  <a:off x="3053160" y="3042720"/>
                  <a:ext cx="0" cy="352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flipH="1">
                  <a:off x="3052800" y="3043080"/>
                  <a:ext cx="3250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flipV="1">
                  <a:off x="3378240" y="3042720"/>
                  <a:ext cx="0" cy="352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flipH="1">
                  <a:off x="3377880" y="3395520"/>
                  <a:ext cx="3250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V="1">
                  <a:off x="3703320" y="3042720"/>
                  <a:ext cx="0" cy="352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3540240" y="3747600"/>
                <a:ext cx="650520" cy="352800"/>
                <a:chOff x="3540240" y="3747600"/>
                <a:chExt cx="650520" cy="352800"/>
              </a:xfrm>
            </p:grpSpPr>
            <p:sp>
              <p:nvSpPr>
                <p:cNvPr id="540" name=""/>
                <p:cNvSpPr/>
                <p:nvPr/>
              </p:nvSpPr>
              <p:spPr>
                <a:xfrm flipV="1">
                  <a:off x="3540600" y="3747600"/>
                  <a:ext cx="0" cy="352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3540240" y="3747960"/>
                  <a:ext cx="3250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V="1">
                  <a:off x="3865680" y="3747600"/>
                  <a:ext cx="0" cy="352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3865320" y="4100400"/>
                  <a:ext cx="3250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V="1">
                  <a:off x="4190760" y="3747600"/>
                  <a:ext cx="0" cy="352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2971440" y="4540680"/>
                <a:ext cx="650520" cy="352800"/>
                <a:chOff x="2971440" y="4540680"/>
                <a:chExt cx="650520" cy="352800"/>
              </a:xfrm>
            </p:grpSpPr>
            <p:sp>
              <p:nvSpPr>
                <p:cNvPr id="546" name=""/>
                <p:cNvSpPr/>
                <p:nvPr/>
              </p:nvSpPr>
              <p:spPr>
                <a:xfrm flipV="1">
                  <a:off x="2971800" y="4540680"/>
                  <a:ext cx="0" cy="352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2971440" y="4541040"/>
                  <a:ext cx="3250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flipV="1">
                  <a:off x="3296880" y="4540680"/>
                  <a:ext cx="0" cy="352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 flipH="1">
                  <a:off x="3296520" y="4893480"/>
                  <a:ext cx="3250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V="1">
                  <a:off x="3621960" y="4540680"/>
                  <a:ext cx="0" cy="352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2077200" y="4981320"/>
                <a:ext cx="650520" cy="352800"/>
                <a:chOff x="2077200" y="4981320"/>
                <a:chExt cx="650520" cy="352800"/>
              </a:xfrm>
            </p:grpSpPr>
            <p:sp>
              <p:nvSpPr>
                <p:cNvPr id="552" name=""/>
                <p:cNvSpPr/>
                <p:nvPr/>
              </p:nvSpPr>
              <p:spPr>
                <a:xfrm flipV="1">
                  <a:off x="2077560" y="4981320"/>
                  <a:ext cx="0" cy="352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 flipH="1">
                  <a:off x="2077200" y="4981680"/>
                  <a:ext cx="3250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 flipV="1">
                  <a:off x="2402640" y="4981320"/>
                  <a:ext cx="0" cy="352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 flipH="1">
                  <a:off x="2402280" y="5334120"/>
                  <a:ext cx="3250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 flipV="1">
                  <a:off x="2727720" y="4981320"/>
                  <a:ext cx="0" cy="352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7" name=""/>
            <p:cNvSpPr/>
            <p:nvPr/>
          </p:nvSpPr>
          <p:spPr>
            <a:xfrm>
              <a:off x="2135160" y="58672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5333760" y="2285640"/>
            <a:ext cx="2934000" cy="4163040"/>
            <a:chOff x="5333760" y="2285640"/>
            <a:chExt cx="2934000" cy="4163040"/>
          </a:xfrm>
        </p:grpSpPr>
        <p:grpSp>
          <p:nvGrpSpPr>
            <p:cNvPr id="559" name=""/>
            <p:cNvGrpSpPr/>
            <p:nvPr/>
          </p:nvGrpSpPr>
          <p:grpSpPr>
            <a:xfrm>
              <a:off x="5333760" y="2285640"/>
              <a:ext cx="2934000" cy="3200400"/>
              <a:chOff x="5333760" y="2285640"/>
              <a:chExt cx="2934000" cy="3200400"/>
            </a:xfrm>
          </p:grpSpPr>
          <p:grpSp>
            <p:nvGrpSpPr>
              <p:cNvPr id="560" name=""/>
              <p:cNvGrpSpPr/>
              <p:nvPr/>
            </p:nvGrpSpPr>
            <p:grpSpPr>
              <a:xfrm>
                <a:off x="5333760" y="3589560"/>
                <a:ext cx="286560" cy="711360"/>
                <a:chOff x="5333760" y="3589560"/>
                <a:chExt cx="286560" cy="711360"/>
              </a:xfrm>
            </p:grpSpPr>
            <p:sp>
              <p:nvSpPr>
                <p:cNvPr id="561" name=""/>
                <p:cNvSpPr/>
                <p:nvPr/>
              </p:nvSpPr>
              <p:spPr>
                <a:xfrm flipH="1">
                  <a:off x="5333760" y="3589920"/>
                  <a:ext cx="286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 flipV="1">
                  <a:off x="5334120" y="3589560"/>
                  <a:ext cx="0" cy="355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 flipH="1">
                  <a:off x="5333760" y="3945240"/>
                  <a:ext cx="286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 flipV="1">
                  <a:off x="5620320" y="3944880"/>
                  <a:ext cx="0" cy="355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flipH="1">
                  <a:off x="5333760" y="4300920"/>
                  <a:ext cx="286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5762880" y="4419000"/>
                <a:ext cx="286560" cy="711360"/>
                <a:chOff x="5762880" y="4419000"/>
                <a:chExt cx="286560" cy="711360"/>
              </a:xfrm>
            </p:grpSpPr>
            <p:sp>
              <p:nvSpPr>
                <p:cNvPr id="567" name=""/>
                <p:cNvSpPr/>
                <p:nvPr/>
              </p:nvSpPr>
              <p:spPr>
                <a:xfrm flipH="1">
                  <a:off x="5762880" y="5130000"/>
                  <a:ext cx="286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5763240" y="4775040"/>
                  <a:ext cx="0" cy="355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 flipH="1">
                  <a:off x="5762880" y="4774680"/>
                  <a:ext cx="286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6049440" y="4419720"/>
                  <a:ext cx="0" cy="355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 flipH="1">
                  <a:off x="5762880" y="4419000"/>
                  <a:ext cx="286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5834520" y="2818800"/>
                <a:ext cx="286560" cy="711360"/>
                <a:chOff x="5834520" y="2818800"/>
                <a:chExt cx="286560" cy="711360"/>
              </a:xfrm>
            </p:grpSpPr>
            <p:sp>
              <p:nvSpPr>
                <p:cNvPr id="573" name=""/>
                <p:cNvSpPr/>
                <p:nvPr/>
              </p:nvSpPr>
              <p:spPr>
                <a:xfrm flipH="1">
                  <a:off x="5834520" y="3529800"/>
                  <a:ext cx="286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834880" y="3174840"/>
                  <a:ext cx="0" cy="355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 flipH="1">
                  <a:off x="5834520" y="3174480"/>
                  <a:ext cx="286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6121080" y="2819520"/>
                  <a:ext cx="0" cy="355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 flipH="1">
                  <a:off x="5834520" y="2818800"/>
                  <a:ext cx="286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6764760" y="2285640"/>
                <a:ext cx="286560" cy="711360"/>
                <a:chOff x="6764760" y="2285640"/>
                <a:chExt cx="286560" cy="711360"/>
              </a:xfrm>
            </p:grpSpPr>
            <p:sp>
              <p:nvSpPr>
                <p:cNvPr id="579" name=""/>
                <p:cNvSpPr/>
                <p:nvPr/>
              </p:nvSpPr>
              <p:spPr>
                <a:xfrm flipH="1">
                  <a:off x="6764760" y="2996640"/>
                  <a:ext cx="286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765120" y="2641680"/>
                  <a:ext cx="0" cy="355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 flipH="1">
                  <a:off x="6764760" y="2641320"/>
                  <a:ext cx="286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7051320" y="2286360"/>
                  <a:ext cx="0" cy="355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 flipH="1">
                  <a:off x="6764760" y="2285640"/>
                  <a:ext cx="286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7551720" y="2818800"/>
                <a:ext cx="286560" cy="711360"/>
                <a:chOff x="7551720" y="2818800"/>
                <a:chExt cx="286560" cy="711360"/>
              </a:xfrm>
            </p:grpSpPr>
            <p:sp>
              <p:nvSpPr>
                <p:cNvPr id="585" name=""/>
                <p:cNvSpPr/>
                <p:nvPr/>
              </p:nvSpPr>
              <p:spPr>
                <a:xfrm flipH="1">
                  <a:off x="7551720" y="3529800"/>
                  <a:ext cx="286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7552080" y="3174840"/>
                  <a:ext cx="0" cy="355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 flipH="1">
                  <a:off x="7551720" y="3174480"/>
                  <a:ext cx="286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7838280" y="2819520"/>
                  <a:ext cx="0" cy="355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flipH="1">
                  <a:off x="7551720" y="2818800"/>
                  <a:ext cx="286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7981200" y="3530160"/>
                <a:ext cx="286560" cy="711360"/>
                <a:chOff x="7981200" y="3530160"/>
                <a:chExt cx="286560" cy="711360"/>
              </a:xfrm>
            </p:grpSpPr>
            <p:sp>
              <p:nvSpPr>
                <p:cNvPr id="591" name=""/>
                <p:cNvSpPr/>
                <p:nvPr/>
              </p:nvSpPr>
              <p:spPr>
                <a:xfrm flipH="1">
                  <a:off x="7981200" y="4241160"/>
                  <a:ext cx="286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7981560" y="3886200"/>
                  <a:ext cx="0" cy="355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 flipH="1">
                  <a:off x="7981200" y="3885840"/>
                  <a:ext cx="286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8267760" y="3530880"/>
                  <a:ext cx="0" cy="355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 flipH="1">
                  <a:off x="7981200" y="3530160"/>
                  <a:ext cx="286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7480080" y="4330440"/>
                <a:ext cx="286560" cy="711360"/>
                <a:chOff x="7480080" y="4330440"/>
                <a:chExt cx="286560" cy="711360"/>
              </a:xfrm>
            </p:grpSpPr>
            <p:sp>
              <p:nvSpPr>
                <p:cNvPr id="597" name=""/>
                <p:cNvSpPr/>
                <p:nvPr/>
              </p:nvSpPr>
              <p:spPr>
                <a:xfrm flipH="1">
                  <a:off x="7480080" y="5041440"/>
                  <a:ext cx="286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7480440" y="4686480"/>
                  <a:ext cx="0" cy="355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flipH="1">
                  <a:off x="7480080" y="4686120"/>
                  <a:ext cx="286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7766640" y="4331160"/>
                  <a:ext cx="0" cy="355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flipH="1">
                  <a:off x="7480080" y="4330440"/>
                  <a:ext cx="286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6693120" y="4774680"/>
                <a:ext cx="286560" cy="711360"/>
                <a:chOff x="6693120" y="4774680"/>
                <a:chExt cx="286560" cy="711360"/>
              </a:xfrm>
            </p:grpSpPr>
            <p:sp>
              <p:nvSpPr>
                <p:cNvPr id="603" name=""/>
                <p:cNvSpPr/>
                <p:nvPr/>
              </p:nvSpPr>
              <p:spPr>
                <a:xfrm flipH="1">
                  <a:off x="6693120" y="5485680"/>
                  <a:ext cx="286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6693480" y="5130720"/>
                  <a:ext cx="0" cy="355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 flipH="1">
                  <a:off x="6693120" y="5130360"/>
                  <a:ext cx="286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6979680" y="4775400"/>
                  <a:ext cx="0" cy="355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flipH="1">
                  <a:off x="6693120" y="4774680"/>
                  <a:ext cx="2862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08" name=""/>
            <p:cNvSpPr/>
            <p:nvPr/>
          </p:nvSpPr>
          <p:spPr>
            <a:xfrm>
              <a:off x="6630840" y="5867280"/>
              <a:ext cx="44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228600" y="0"/>
            <a:ext cx="86104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Тест Струпа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нтерференция  и помехоустойчивость при произвольном вним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276720" y="1981080"/>
            <a:ext cx="2057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красный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си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жёл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зелё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248520" y="1981080"/>
            <a:ext cx="1981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и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жёл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зелё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крас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80880" y="601992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равниваются реакции при восприятии конгруэнтных, неконгруэнтных и нейтральных стиму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85800" y="1981080"/>
            <a:ext cx="2057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толс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высо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кругл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больш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0" y="579132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5410080" y="685800"/>
            <a:ext cx="3733920" cy="56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Эксперимент: методика селективного смотрени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ве наложенные друг на друга видеозаписи показываются на одном экране. Испытуемым легко удаётся сконцентрироваться на одной из записей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при том что события на обоих происходят ровно в том же месте)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При этом происходящее на второй полностью игнориру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«Слепота невнима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52280" y="15156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Распределение ресурсов вним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 rot="21477600">
            <a:off x="0" y="990360"/>
            <a:ext cx="5329080" cy="52689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977040" y="6553080"/>
            <a:ext cx="740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До этих опытов внимание считалось «привязанным» к пространственн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762120"/>
            <a:ext cx="813420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роизвольно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контролируемое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s.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непроизвольное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автоматическо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Селективное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концентрация на одном объект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s.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распределенное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распределение внимания на несколько объектов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Зрительное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s.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слуховое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s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ругие модально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Скрытое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vs.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явно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Непрерывное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бдительность) – длительная концентрация на объек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Подготовительное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ожидание стиму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-6084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Формы вним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6172200"/>
            <a:ext cx="830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не известно, действительно ли оно распределяется или многократно и часто переходит между объект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457200" y="403848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d-up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спле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налогичный полученному в методике селективного смотрения эффект (игнорирование второй последовательности событий) может происходить у пилотов военных самолётов, оборудованных «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d-up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сплеями»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52280" y="15156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Распределение ресурсов вним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914400" y="26272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десь должен быть «вид из кабины самолёт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779160" y="6553080"/>
            <a:ext cx="23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также телефон за рулё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 flipH="1"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52280" y="-72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Внимание как синтез и предвосхищ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52280" y="633240"/>
            <a:ext cx="30481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айссер (1967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cc00"/>
                </a:solidFill>
                <a:uFillTx/>
                <a:latin typeface="Arial"/>
              </a:rPr>
              <a:t>Предвнимание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– грубая, быстрая, параллельная обработ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cc00"/>
                </a:solidFill>
                <a:uFillTx/>
                <a:latin typeface="Arial"/>
              </a:rPr>
              <a:t>Фокальное внимани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 медленная, последовательная, детальная обработ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cc00"/>
                </a:solidFill>
                <a:uFillTx/>
                <a:latin typeface="Arial"/>
              </a:rPr>
              <a:t>Внимание циклично</a:t>
            </a:r>
            <a:r>
              <a:rPr b="1" i="1" lang="ru-RU" sz="16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«Выбирая яблоко с ветки мы не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тормозим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и не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подавляем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оставшиеся яблоки, мы просто с ними ничего не делаем.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200400" y="685800"/>
            <a:ext cx="0" cy="6019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276720" y="2971800"/>
            <a:ext cx="5715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Предвосхищен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Мозг, на основе предшествующей информации пытается предсказать «поведение» объекта, находящегося в фокусе внимания. Если предсказание в достаточной мере подтверждается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и в окружающем пространстве не обнаруживается какой-то другой важный объект)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остальные свойства окружающей среды игнориру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276720" y="838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Синте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теория интеграции свой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152280" y="-36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Внимание как синтез. Теория интеграции свой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52280" y="838080"/>
            <a:ext cx="495324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Связывание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цесс интеграции различных признаков в единый зрительный объ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войства хранятся в «картах свойств» (см. рис.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52280" y="2941560"/>
            <a:ext cx="4953240" cy="39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ероятно связывание – «поздний процесс»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необходимости связывания признаков поиск идёт последоват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окализация стимулов на сетчатке не влияет на вы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«высокоуровневых» псевдотрёхмерных паттернов тоже характере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еномен 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p-ou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» (см. рис.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5191200" y="914400"/>
            <a:ext cx="3952800" cy="4114800"/>
            <a:chOff x="5191200" y="914400"/>
            <a:chExt cx="3952800" cy="4114800"/>
          </a:xfrm>
        </p:grpSpPr>
        <p:pic>
          <p:nvPicPr>
            <p:cNvPr id="634" name="" descr=""/>
            <p:cNvPicPr/>
            <p:nvPr/>
          </p:nvPicPr>
          <p:blipFill>
            <a:blip r:embed="rId1"/>
            <a:stretch/>
          </p:blipFill>
          <p:spPr>
            <a:xfrm>
              <a:off x="5191200" y="914400"/>
              <a:ext cx="395280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>
              <a:off x="5259240" y="10382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5334120" y="5097600"/>
            <a:ext cx="3687480" cy="1690560"/>
            <a:chOff x="5334120" y="5097600"/>
            <a:chExt cx="3687480" cy="1690560"/>
          </a:xfrm>
        </p:grpSpPr>
        <p:pic>
          <p:nvPicPr>
            <p:cNvPr id="637" name="" descr=""/>
            <p:cNvPicPr/>
            <p:nvPr/>
          </p:nvPicPr>
          <p:blipFill>
            <a:blip r:embed="rId2"/>
            <a:stretch/>
          </p:blipFill>
          <p:spPr>
            <a:xfrm>
              <a:off x="5334120" y="5097600"/>
              <a:ext cx="3687480" cy="16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7011720" y="63244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ксперимент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Neely (197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овалась задача «лексического решения»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нужно как можно быстрее сказать является ли предъявленный набор букв словом или нет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варительных стим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RD, BODY, BUILDING, 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ова после предварительных стимулов могли быть следующих категор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RD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иды пт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DY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оительные матери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ILDING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асти 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XX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тицы, части тела и стройматериалы с равной вероятн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ротк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e.g., 250ms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длинны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e.g., 2,000ms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тервалы между предварительным и целевым стимулом (ИПЦ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280" y="-72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Внимание как предвосхищение. Праймин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RD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жидается название птиц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RD – robi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дроз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корение времени реакции на слова, означающие птиц и для длинных и для коротких ИЦП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DY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жидается название стройматериал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DY – door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двер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корение времени реакции на слова, означающие стройматериалы для длинных ИЦПС, но не для коротких ИЦП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DY – hear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сердц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медление времени реакции на слова, означающие части тела для длинных ИЦПС, но ускорение реакции – для коротких ИЦП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ксперимент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Neely (1977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результ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52280" y="-72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Внимание как предвосхищение. Праймин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0" y="61722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о есть сначала идёт автоматическая преднастройка, ориентирующаяся на смысл читаемого слова, а затем произвольная перенастройка в соответствии с условиями зад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актический прим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47676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152280" y="266688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Нейрофизиологический субстрат вним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0" name=""/>
          <p:cNvGraphicFramePr/>
          <p:nvPr/>
        </p:nvGraphicFramePr>
        <p:xfrm>
          <a:off x="228600" y="914400"/>
          <a:ext cx="8763120" cy="5672160"/>
        </p:xfrm>
        <a:graphic>
          <a:graphicData uri="http://schemas.openxmlformats.org/drawingml/2006/table">
            <a:tbl>
              <a:tblPr/>
              <a:tblGrid>
                <a:gridCol w="1898640"/>
                <a:gridCol w="2557440"/>
                <a:gridCol w="4307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унк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Структуры моз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5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Сеть исполнения и контро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ор цели и управление поведением, направленным на эту цель; детекция ошибок; разрешение конфликтов; подавление рефлекторных реакций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«нисходящее влияние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Медиальные области лобной доли, включая переднюю часть поясной извилины и дополнительную моторную область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Передняя дорсолатеральная область лобной доли (префронтальная кора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Базальные ганглии (стриарная система) – в особенности хвостатое яд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Сеть пробуж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ояние бодрствования и готовности к действиям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общий уровень активности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rousal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Правая лобная доля (в особенности верхняя часть поля 6)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Правая теменная дол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Голубое пятно (источник норадреналина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Холинергические яд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Сеть ориентир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иентировочная реакция на сенсорные стиму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«восходящее влияние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Теменная дол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Веретеновидная (фузиформная) извилина (при зрительной стимуляци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51" name=""/>
          <p:cNvSpPr/>
          <p:nvPr/>
        </p:nvSpPr>
        <p:spPr>
          <a:xfrm>
            <a:off x="609480" y="152280"/>
            <a:ext cx="80010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гласно точке зрени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М.Позне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в мозге человека существуют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три нервные сети внима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609480" y="457200"/>
            <a:ext cx="784872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временной нейрофизиологической литературе выделяют две формы индукции вним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осходящее влия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«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ottom-u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luenc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воздействием сенсорной стимуляции процесс распространяется от структур низкого уровня (в том числе стволовые сенсорные образования и стволовая ретикулярная формация) вверх (на кору больших полушар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исходящее влия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«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op-dow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luenc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шие области (префронтальные и другие области коры больших полушарий) запускают некоторый процесс, распространяющийся на мозговые структуры более низкого уров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188880" y="6324480"/>
            <a:ext cx="579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эксперимент с использовавшими/неиспользовавшими страте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763120" cy="415908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152280" y="152280"/>
            <a:ext cx="883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Синдром одностороннего игнорировани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нарушение внимания при повреждениях правой теменной об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04920" y="6400800"/>
            <a:ext cx="883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Позволил определить область коры, управляющую вниманием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533520"/>
            <a:ext cx="8763120" cy="609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Непроизвольное внима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вязано с рефлекторными установками. Оно устанавливается и поддерживается независимо от сознательного намерения человека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Свойства действующих на него раздражителей, их интенсивность или новизна, эмоциональная окрашенность, связь с влечениями, потребностями или интересами приводит к тому, что определенные предметы, явления или лица завладевают нашим вниманием и приковывают его на время к себе. Это первичная форма внимания. Она является непосредственным и непроизвольным продуктом интереса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роизвольное внима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это сознательно направляемое и регулируемое внимание, в котором субъект сознательно избирает объект, на который оно направляется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Этот термин служит для обозначения того центрального по своему значению факта, что познание человека, как и его деятельность, поднимается до уровня сознательной организованности, а не совершается лишь самотеком, стихийно, под властью извне действующих сил. Так называемое произвольное внимание имеет место там, где предмет, на который направляется внимание, сам по себе его не привлекает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Непроизвольное внима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обычно представляется как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ассивно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роизвольно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как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активно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Джеймс). Первое направляют независящие от нас факторы: внезапно раздавшийся шум, яркая окраска, ощущение голода; второе направляем мы с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С. Л. Рубинштейн. Основы общей психологии. СПб., 1998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-72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Внимание: произвольное и непроизво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954120" y="6553080"/>
            <a:ext cx="218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анимрованные банне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762120" y="946080"/>
            <a:ext cx="7315200" cy="554364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3962520" y="990720"/>
            <a:ext cx="41148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1143000"/>
            <a:ext cx="4191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повреждениях левой теменной области правостороннее игнорирование выражено слабо. Таким образом, зрительное внимание контролируется главным образом правой теменной кор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" descr=""/>
          <p:cNvPicPr/>
          <p:nvPr/>
        </p:nvPicPr>
        <p:blipFill>
          <a:blip r:embed="rId1"/>
          <a:stretch/>
        </p:blipFill>
        <p:spPr>
          <a:xfrm>
            <a:off x="0" y="1930320"/>
            <a:ext cx="9144000" cy="319104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2595960" y="5105520"/>
            <a:ext cx="29361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нимание направлено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евую половину поля зр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099120" y="5105520"/>
            <a:ext cx="30398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нимание направлено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авую половину поля зр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286000" y="60948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омографическое подтвержд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>
            <a:off x="152280" y="1351080"/>
            <a:ext cx="8839440" cy="499572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/>
          <p:nvPr/>
        </p:nvSpPr>
        <p:spPr>
          <a:xfrm>
            <a:off x="2743200" y="38088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Запись одиночных нейронов в зрительной коре обезья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152280" y="-72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Внимание: ито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52280" y="457200"/>
            <a:ext cx="8839440" cy="62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. Внимание – это фокусирование на одном из нескольких имеющихся объектов для повышения эффективности работы над текущей задач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. Для разных модальностей наиболее адекватны разные модели внимания: для слуха – модель переменной селекции (аттенюатора), для зрения – модель внимания как «трансфокатора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3. В то же время внимание – не просто пассивный «фильтр», но и активный процесс, основанный на предвосхищении событий и синтезе восприят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4. Непроизвольное внимание пассивно («следует за событиями»), произвольное – активн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5. Для обеспечения направленного внимания необходима совместная активность всех участвующих в задаче областей мозга и эти области могут меняться от задачи к задаче. В то же время существует и общий «центр управления вниманием» в правой теменной коре, координирующий и направляющий эту активнос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2975040" y="3355920"/>
            <a:ext cx="1515960" cy="927000"/>
          </a:xfrm>
          <a:prstGeom prst="rect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615000" y="3355920"/>
            <a:ext cx="1517760" cy="927000"/>
          </a:xfrm>
          <a:prstGeom prst="rect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553080" y="3657600"/>
            <a:ext cx="1744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og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522680" y="3584520"/>
            <a:ext cx="752760" cy="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522680" y="4054320"/>
            <a:ext cx="752760" cy="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192400" y="3584520"/>
            <a:ext cx="752400" cy="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192400" y="4054320"/>
            <a:ext cx="752400" cy="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447920" y="2590920"/>
            <a:ext cx="5749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ttenuation (Treisma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8163000" y="3819600"/>
            <a:ext cx="679320" cy="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048120" y="5549760"/>
            <a:ext cx="1515960" cy="927360"/>
          </a:xfrm>
          <a:prstGeom prst="rect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116160" y="586116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295280" y="5791320"/>
            <a:ext cx="797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378400" y="5549760"/>
            <a:ext cx="1515960" cy="927360"/>
          </a:xfrm>
          <a:prstGeom prst="rect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334120" y="5867280"/>
            <a:ext cx="1744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og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594320" y="5778360"/>
            <a:ext cx="752400" cy="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594320" y="6248520"/>
            <a:ext cx="752400" cy="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265480" y="5778360"/>
            <a:ext cx="752400" cy="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265480" y="6248520"/>
            <a:ext cx="752400" cy="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447920" y="4648320"/>
            <a:ext cx="7391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Late Filtering (Deutsch &amp; Deutsch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924600" y="5778360"/>
            <a:ext cx="679680" cy="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924600" y="6248520"/>
            <a:ext cx="679680" cy="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543800" y="5105520"/>
            <a:ext cx="973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8163000" y="5778360"/>
            <a:ext cx="752400" cy="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7634160" y="6019920"/>
            <a:ext cx="498600" cy="37944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634160" y="5549760"/>
            <a:ext cx="498600" cy="37800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634160" y="6019920"/>
            <a:ext cx="49860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7634160" y="6013080"/>
            <a:ext cx="498600" cy="39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305320" y="3903840"/>
            <a:ext cx="497160" cy="37908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5305320" y="3433680"/>
            <a:ext cx="497160" cy="37944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305320" y="3903840"/>
            <a:ext cx="497160" cy="37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5305320" y="3897000"/>
            <a:ext cx="497160" cy="39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832360" y="3584520"/>
            <a:ext cx="752760" cy="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815080" y="4132440"/>
            <a:ext cx="788760" cy="0"/>
          </a:xfrm>
          <a:prstGeom prst="line">
            <a:avLst/>
          </a:prstGeom>
          <a:ln w="1260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4917240" y="2990880"/>
            <a:ext cx="1470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tenu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901960" y="1474920"/>
            <a:ext cx="1517760" cy="927000"/>
          </a:xfrm>
          <a:prstGeom prst="rect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970360" y="1782720"/>
            <a:ext cx="1525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295280" y="1782720"/>
            <a:ext cx="798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232240" y="2022480"/>
            <a:ext cx="497160" cy="37944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5105520" y="1143000"/>
            <a:ext cx="1017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759280" y="1703520"/>
            <a:ext cx="752760" cy="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541920" y="1474920"/>
            <a:ext cx="1517760" cy="927000"/>
          </a:xfrm>
          <a:prstGeom prst="rect">
            <a:avLst/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477120" y="1752480"/>
            <a:ext cx="1744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og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449600" y="1703520"/>
            <a:ext cx="752760" cy="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449600" y="2173320"/>
            <a:ext cx="752760" cy="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119320" y="1703520"/>
            <a:ext cx="752400" cy="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119320" y="2173320"/>
            <a:ext cx="752400" cy="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8089920" y="2016000"/>
            <a:ext cx="752400" cy="0"/>
          </a:xfrm>
          <a:prstGeom prst="line">
            <a:avLst/>
          </a:prstGeom>
          <a:ln w="507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371600" y="609480"/>
            <a:ext cx="57466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Early Filtering (Broadbent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232240" y="1552680"/>
            <a:ext cx="497160" cy="37944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232240" y="2022480"/>
            <a:ext cx="49716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232240" y="2016000"/>
            <a:ext cx="497160" cy="39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295280" y="3581280"/>
            <a:ext cx="798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971800" y="365760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2514600" cy="2819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24" name="" descr=""/>
          <p:cNvPicPr/>
          <p:nvPr/>
        </p:nvPicPr>
        <p:blipFill>
          <a:blip r:embed="rId2"/>
          <a:stretch/>
        </p:blipFill>
        <p:spPr>
          <a:xfrm>
            <a:off x="2666880" y="3809880"/>
            <a:ext cx="2438640" cy="2830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grpSp>
        <p:nvGrpSpPr>
          <p:cNvPr id="725" name=""/>
          <p:cNvGrpSpPr/>
          <p:nvPr/>
        </p:nvGrpSpPr>
        <p:grpSpPr>
          <a:xfrm>
            <a:off x="152280" y="4343400"/>
            <a:ext cx="2514240" cy="2286000"/>
            <a:chOff x="152280" y="4343400"/>
            <a:chExt cx="2514240" cy="2286000"/>
          </a:xfrm>
        </p:grpSpPr>
        <p:pic>
          <p:nvPicPr>
            <p:cNvPr id="726" name="" descr=""/>
            <p:cNvPicPr/>
            <p:nvPr/>
          </p:nvPicPr>
          <p:blipFill>
            <a:blip r:embed="rId3"/>
            <a:stretch/>
          </p:blipFill>
          <p:spPr>
            <a:xfrm>
              <a:off x="152280" y="4343400"/>
              <a:ext cx="2514240" cy="228600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sp>
          <p:nvSpPr>
            <p:cNvPr id="727" name=""/>
            <p:cNvSpPr/>
            <p:nvPr/>
          </p:nvSpPr>
          <p:spPr>
            <a:xfrm>
              <a:off x="1764360" y="5451840"/>
              <a:ext cx="740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и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2666880" y="762120"/>
            <a:ext cx="2438280" cy="2286000"/>
            <a:chOff x="2666880" y="762120"/>
            <a:chExt cx="2438280" cy="2286000"/>
          </a:xfrm>
        </p:grpSpPr>
        <p:pic>
          <p:nvPicPr>
            <p:cNvPr id="729" name="" descr=""/>
            <p:cNvPicPr/>
            <p:nvPr/>
          </p:nvPicPr>
          <p:blipFill>
            <a:blip r:embed="rId4"/>
            <a:stretch/>
          </p:blipFill>
          <p:spPr>
            <a:xfrm>
              <a:off x="2666880" y="762120"/>
              <a:ext cx="2438280" cy="228600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sp>
          <p:nvSpPr>
            <p:cNvPr id="730" name=""/>
            <p:cNvSpPr/>
            <p:nvPr/>
          </p:nvSpPr>
          <p:spPr>
            <a:xfrm>
              <a:off x="4324320" y="983160"/>
              <a:ext cx="740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и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5257800" y="990720"/>
            <a:ext cx="3886200" cy="4572000"/>
            <a:chOff x="5257800" y="990720"/>
            <a:chExt cx="3886200" cy="4572000"/>
          </a:xfrm>
        </p:grpSpPr>
        <p:pic>
          <p:nvPicPr>
            <p:cNvPr id="732" name="" descr=""/>
            <p:cNvPicPr/>
            <p:nvPr/>
          </p:nvPicPr>
          <p:blipFill>
            <a:blip r:embed="rId5"/>
            <a:stretch/>
          </p:blipFill>
          <p:spPr>
            <a:xfrm>
              <a:off x="5257800" y="1867320"/>
              <a:ext cx="3886200" cy="369540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sp>
          <p:nvSpPr>
            <p:cNvPr id="733" name=""/>
            <p:cNvSpPr/>
            <p:nvPr/>
          </p:nvSpPr>
          <p:spPr>
            <a:xfrm>
              <a:off x="5257800" y="990720"/>
              <a:ext cx="3886200" cy="824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Амплитуда комплекса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1-P2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была значимо выше после Стерео, чем после Моно тонов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зличие реакций на «сложные» и «простые» стиму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133720" y="609480"/>
            <a:ext cx="4724280" cy="4240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37" name=""/>
          <p:cNvSpPr/>
          <p:nvPr/>
        </p:nvSpPr>
        <p:spPr>
          <a:xfrm>
            <a:off x="2133720" y="4800600"/>
            <a:ext cx="4724280" cy="1739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группе Не Использовавших Стратегию Затылочная область значимо «быстрее» чем в группе Использовавших Стратегию. В Лобной области соотношение противополож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исходящее влияние при восприятии неоднозначных стиму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9" name=""/>
          <p:cNvGrpSpPr/>
          <p:nvPr/>
        </p:nvGrpSpPr>
        <p:grpSpPr>
          <a:xfrm>
            <a:off x="762120" y="1676520"/>
            <a:ext cx="7632720" cy="3436920"/>
            <a:chOff x="762120" y="1676520"/>
            <a:chExt cx="7632720" cy="3436920"/>
          </a:xfrm>
        </p:grpSpPr>
        <p:pic>
          <p:nvPicPr>
            <p:cNvPr id="740" name="" descr=""/>
            <p:cNvPicPr/>
            <p:nvPr/>
          </p:nvPicPr>
          <p:blipFill>
            <a:blip r:embed="rId1"/>
            <a:stretch/>
          </p:blipFill>
          <p:spPr>
            <a:xfrm>
              <a:off x="4572360" y="1676520"/>
              <a:ext cx="3822480" cy="343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1" name="" descr=""/>
            <p:cNvPicPr/>
            <p:nvPr/>
          </p:nvPicPr>
          <p:blipFill>
            <a:blip r:embed="rId2"/>
            <a:stretch/>
          </p:blipFill>
          <p:spPr>
            <a:xfrm>
              <a:off x="762120" y="1676520"/>
              <a:ext cx="3810240" cy="34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2" name=""/>
          <p:cNvSpPr/>
          <p:nvPr/>
        </p:nvSpPr>
        <p:spPr>
          <a:xfrm>
            <a:off x="0" y="6858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ет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-ERD.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заимодействие «Группа электродов * Стратегия»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Временных интервалах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250-375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375-500 ms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OVA: F</a:t>
            </a:r>
            <a:r>
              <a:rPr b="1" lang="tr-TR" sz="1600" spc="-1" strike="noStrike">
                <a:solidFill>
                  <a:srgbClr val="ffffff"/>
                </a:solidFill>
                <a:latin typeface="Arial"/>
              </a:rPr>
              <a:t>(1.4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tr-TR" sz="1600" spc="-1" strike="noStrike">
                <a:solidFill>
                  <a:srgbClr val="ffffff"/>
                </a:solidFill>
                <a:latin typeface="Arial"/>
              </a:rPr>
              <a:t>, 31.3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tr-TR" sz="1600" spc="-1" strike="noStrike">
                <a:solidFill>
                  <a:srgbClr val="ffffff"/>
                </a:solidFill>
                <a:latin typeface="Arial"/>
              </a:rPr>
              <a:t>)=4.17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, p=0.036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1600" spc="-1" strike="noStrike">
                <a:solidFill>
                  <a:srgbClr val="ffffff"/>
                </a:solidFill>
                <a:latin typeface="Arial"/>
              </a:rPr>
              <a:t>F (1.63, 35.9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tr-TR" sz="1600" spc="-1" strike="noStrike">
                <a:solidFill>
                  <a:srgbClr val="ffffff"/>
                </a:solidFill>
                <a:latin typeface="Arial"/>
              </a:rPr>
              <a:t>)=4.00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, p=0.034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ответствен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52280" y="5181480"/>
            <a:ext cx="8839440" cy="1434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та2-ERD в Лобных областях значимо сильнее в группе Использовавших Стратегию, чем в группе Не Использовавших Стратегию в интервале 250-500 ms. Теменные области в интервале 250-375 ms демонстрируют противоположное соотнош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и результаты согласуются с распределением латентностей пик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N2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исходящее влияние при восприятии неоднозначных стиму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6" name=""/>
          <p:cNvGraphicFramePr/>
          <p:nvPr/>
        </p:nvGraphicFramePr>
        <p:xfrm>
          <a:off x="228600" y="3886200"/>
          <a:ext cx="8763120" cy="2144880"/>
        </p:xfrm>
        <a:graphic>
          <a:graphicData uri="http://schemas.openxmlformats.org/drawingml/2006/table">
            <a:tbl>
              <a:tblPr/>
              <a:tblGrid>
                <a:gridCol w="1898640"/>
                <a:gridCol w="2557440"/>
                <a:gridCol w="4307040"/>
              </a:tblGrid>
              <a:tr h="21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Сеть исполнения и контро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ор цели и управление поведением, направленным на эту цель; детекция ошибок; разрешение конфликтов; подавление рефлекторных реак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иальные области лобной доли, включая переднюю часть поясной извилины и дополнительную моторную область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няя дорсолатеральная область лобной доли (префронтальная кора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зальные ганглии (стриарная система) – в особенности хвостатое яд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2280" y="-6084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Непроизвольное вним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риентировочный рефлекс (ОР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– наиболее изученная форма непроизвольного вним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1676520"/>
            <a:ext cx="49532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психофизиологии непроизвольное внимание тесно связано с понятием ориентировочной реакци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рефлекс «что такое?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пецифическая реакция на новиз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Р составляет основу непроизвольного вним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219640" y="2362320"/>
            <a:ext cx="3924360" cy="29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7" name=""/>
          <p:cNvGraphicFramePr/>
          <p:nvPr/>
        </p:nvGraphicFramePr>
        <p:xfrm>
          <a:off x="152280" y="4267080"/>
          <a:ext cx="8763120" cy="1704960"/>
        </p:xfrm>
        <a:graphic>
          <a:graphicData uri="http://schemas.openxmlformats.org/drawingml/2006/table">
            <a:tbl>
              <a:tblPr/>
              <a:tblGrid>
                <a:gridCol w="1898640"/>
                <a:gridCol w="2557440"/>
                <a:gridCol w="4307040"/>
              </a:tblGrid>
              <a:tr h="17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Сеть пробуж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ояние бодрствования и готовности к действия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ая лобная доля (в особенности верхняя часть поля 6)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ая теменная дол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убое пятно (источник норадреналина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линергические яд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8" name=""/>
          <p:cNvGraphicFramePr/>
          <p:nvPr/>
        </p:nvGraphicFramePr>
        <p:xfrm>
          <a:off x="228600" y="5486400"/>
          <a:ext cx="8763120" cy="873000"/>
        </p:xfrm>
        <a:graphic>
          <a:graphicData uri="http://schemas.openxmlformats.org/drawingml/2006/table">
            <a:tbl>
              <a:tblPr/>
              <a:tblGrid>
                <a:gridCol w="1898640"/>
                <a:gridCol w="2557440"/>
                <a:gridCol w="430704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Сеть ориентир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иентировочная реакция на сенсорные стиму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енная дол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етеновидная (фузиформная) извилина (при зрительной стимуляци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52280" y="-6084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Непроизвольное вним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685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риентировочный рефлек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2057400"/>
            <a:ext cx="586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значение ОР – обеспечить лучшее восприятие нового стиму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ормозная функция ОР - прерывание текуще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пособствует формированию условного рефлек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4d4d4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явления О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Н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-37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локада альфа-ритм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-37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иление высокочастотных колеб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-37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ст возбудимости, реактивности и лабильности нейронов к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гетативная НС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-37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ширение зрач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-37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величение кожной проводимос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-37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нижение частоты сердечных сокраще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-37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ст дыхательной аритм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-37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ширение сосудов голов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-37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жение сосудов р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оторная сфер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-37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величение мышечного тонус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-37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вышенная готовность к моторным реакц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ведени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-37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ворот голов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-37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вижение глаз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-37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стораживание ушей в направлении нового стимула (у животны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-6084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Непроизвольное вним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риентировочный рефлек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15:04:17Z</dcterms:created>
  <dc:creator>lea</dc:creator>
  <dc:description/>
  <dc:language>en-US</dc:language>
  <cp:lastModifiedBy>Neurosoft</cp:lastModifiedBy>
  <dcterms:modified xsi:type="dcterms:W3CDTF">2009-10-03T05:01:09Z</dcterms:modified>
  <cp:revision>63</cp:revision>
  <dc:subject/>
  <dc:title>Слайд 1</dc:title>
</cp:coreProperties>
</file>