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7880" y="736200"/>
            <a:ext cx="491328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FE06-8296-49C8-B951-5AECDABBFB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250A-B29C-4693-8D78-D2A6F24AA7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8FC9-0D6E-405A-8B9D-23417EED9F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0D4-A549-4A42-8B31-EDC0AC48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0FE-1C92-4275-AC89-D6952301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6B7-7DAD-49DE-BF44-07025499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534-0291-4CEA-96A4-7D09B540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EDB-C98C-43E6-BB78-58B18BA8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EE8-E64B-429A-85B9-D90D4AEE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17D-827F-47FE-BDD9-C889CB32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C10-4178-4270-AA6E-84F27DE5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A23-6464-4965-A0C2-E07989BD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BB3-E256-4629-ACD3-F472E213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416-4513-4FD0-A799-6BC11998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BCC9-535C-4B57-8E00-73198CCF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539E-2F42-4BE9-831C-925D86A667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кция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Раскраска граф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Эйлеровы граф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амильтоновы граф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блема четырех крас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76464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а возникла в математике в середине 19 век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воначально вопрос формулировался так: сколько нужно красок для раскраски любой географической карты, при которой соседние страны раскрашены в разные цвета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Достаточно ли четырех красок для раскраски любой географической карты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статочно ли четырех красок, чтобы раскрасить любой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 планарный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аф (граф, в котором можно так расположить вершины, что ребра, соединяющие их,  не пересекаются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олилиния 4"/>
          <p:cNvSpPr/>
          <p:nvPr/>
        </p:nvSpPr>
        <p:spPr>
          <a:xfrm>
            <a:off x="1195560" y="3819600"/>
            <a:ext cx="1728720" cy="1312920"/>
          </a:xfrm>
          <a:prstGeom prst="pi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олилиния 5"/>
          <p:cNvSpPr/>
          <p:nvPr/>
        </p:nvSpPr>
        <p:spPr>
          <a:xfrm>
            <a:off x="2550960" y="3465360"/>
            <a:ext cx="1845000" cy="1714680"/>
          </a:xfrm>
          <a:prstGeom prst="pi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олилиния 6"/>
          <p:cNvSpPr/>
          <p:nvPr/>
        </p:nvSpPr>
        <p:spPr>
          <a:xfrm>
            <a:off x="1859040" y="4956120"/>
            <a:ext cx="2415960" cy="1820880"/>
          </a:xfrm>
          <a:prstGeom prst="pi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олилиния 7"/>
          <p:cNvSpPr/>
          <p:nvPr/>
        </p:nvSpPr>
        <p:spPr>
          <a:xfrm>
            <a:off x="4145040" y="5191200"/>
            <a:ext cx="2908080" cy="1504800"/>
          </a:xfrm>
          <a:prstGeom prst="pi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олилиния 8"/>
          <p:cNvSpPr/>
          <p:nvPr/>
        </p:nvSpPr>
        <p:spPr>
          <a:xfrm>
            <a:off x="4143240" y="3571920"/>
            <a:ext cx="2198880" cy="2049480"/>
          </a:xfrm>
          <a:prstGeom prst="pi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1928880" y="442908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3214800" y="407196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11"/>
          <p:cNvSpPr/>
          <p:nvPr/>
        </p:nvSpPr>
        <p:spPr>
          <a:xfrm>
            <a:off x="2786040" y="571500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2"/>
          <p:cNvSpPr/>
          <p:nvPr/>
        </p:nvSpPr>
        <p:spPr>
          <a:xfrm>
            <a:off x="4000680" y="507204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13"/>
          <p:cNvSpPr/>
          <p:nvPr/>
        </p:nvSpPr>
        <p:spPr>
          <a:xfrm>
            <a:off x="5000760" y="428616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14"/>
          <p:cNvSpPr/>
          <p:nvPr/>
        </p:nvSpPr>
        <p:spPr>
          <a:xfrm>
            <a:off x="5357880" y="585792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15"/>
          <p:cNvSpPr/>
          <p:nvPr/>
        </p:nvSpPr>
        <p:spPr>
          <a:xfrm>
            <a:off x="6786720" y="400068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17"/>
          <p:cNvSpPr/>
          <p:nvPr/>
        </p:nvSpPr>
        <p:spPr>
          <a:xfrm>
            <a:off x="2232720" y="4734000"/>
            <a:ext cx="605160" cy="1033560"/>
          </a:xfrm>
          <a:prstGeom prst="line">
            <a:avLst/>
          </a:prstGeom>
          <a:ln w="316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18"/>
          <p:cNvSpPr/>
          <p:nvPr/>
        </p:nvSpPr>
        <p:spPr>
          <a:xfrm>
            <a:off x="3090240" y="6019920"/>
            <a:ext cx="2266920" cy="17280"/>
          </a:xfrm>
          <a:prstGeom prst="line">
            <a:avLst/>
          </a:prstGeom>
          <a:ln w="316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21"/>
          <p:cNvSpPr/>
          <p:nvPr/>
        </p:nvSpPr>
        <p:spPr>
          <a:xfrm flipV="1">
            <a:off x="2286000" y="4376520"/>
            <a:ext cx="981000" cy="231480"/>
          </a:xfrm>
          <a:prstGeom prst="line">
            <a:avLst/>
          </a:prstGeom>
          <a:ln w="316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24"/>
          <p:cNvSpPr/>
          <p:nvPr/>
        </p:nvSpPr>
        <p:spPr>
          <a:xfrm flipH="1">
            <a:off x="3090960" y="4429080"/>
            <a:ext cx="301680" cy="1338480"/>
          </a:xfrm>
          <a:prstGeom prst="line">
            <a:avLst/>
          </a:prstGeom>
          <a:ln w="316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27"/>
          <p:cNvSpPr/>
          <p:nvPr/>
        </p:nvSpPr>
        <p:spPr>
          <a:xfrm>
            <a:off x="3519360" y="4376880"/>
            <a:ext cx="533520" cy="747720"/>
          </a:xfrm>
          <a:prstGeom prst="line">
            <a:avLst/>
          </a:prstGeom>
          <a:ln w="316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30"/>
          <p:cNvSpPr/>
          <p:nvPr/>
        </p:nvSpPr>
        <p:spPr>
          <a:xfrm flipH="1">
            <a:off x="3142800" y="5376960"/>
            <a:ext cx="909720" cy="517320"/>
          </a:xfrm>
          <a:prstGeom prst="line">
            <a:avLst/>
          </a:prstGeom>
          <a:ln w="316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36"/>
          <p:cNvSpPr/>
          <p:nvPr/>
        </p:nvSpPr>
        <p:spPr>
          <a:xfrm flipH="1" flipV="1">
            <a:off x="4304880" y="5376600"/>
            <a:ext cx="1104840" cy="533160"/>
          </a:xfrm>
          <a:prstGeom prst="line">
            <a:avLst/>
          </a:prstGeom>
          <a:ln w="316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39"/>
          <p:cNvSpPr/>
          <p:nvPr/>
        </p:nvSpPr>
        <p:spPr>
          <a:xfrm>
            <a:off x="5305320" y="4591080"/>
            <a:ext cx="231840" cy="1266840"/>
          </a:xfrm>
          <a:prstGeom prst="line">
            <a:avLst/>
          </a:prstGeom>
          <a:ln w="316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44"/>
          <p:cNvSpPr/>
          <p:nvPr/>
        </p:nvSpPr>
        <p:spPr>
          <a:xfrm flipH="1">
            <a:off x="4304880" y="4591080"/>
            <a:ext cx="747720" cy="533520"/>
          </a:xfrm>
          <a:prstGeom prst="line">
            <a:avLst/>
          </a:prstGeom>
          <a:ln w="316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47"/>
          <p:cNvSpPr/>
          <p:nvPr/>
        </p:nvSpPr>
        <p:spPr>
          <a:xfrm flipH="1" flipV="1">
            <a:off x="3571560" y="4251240"/>
            <a:ext cx="1428840" cy="214560"/>
          </a:xfrm>
          <a:prstGeom prst="line">
            <a:avLst/>
          </a:prstGeom>
          <a:ln w="316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50"/>
          <p:cNvSpPr/>
          <p:nvPr/>
        </p:nvSpPr>
        <p:spPr>
          <a:xfrm flipH="1">
            <a:off x="5357880" y="4305240"/>
            <a:ext cx="1481040" cy="160560"/>
          </a:xfrm>
          <a:prstGeom prst="line">
            <a:avLst/>
          </a:prstGeom>
          <a:ln w="316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53"/>
          <p:cNvSpPr/>
          <p:nvPr/>
        </p:nvSpPr>
        <p:spPr>
          <a:xfrm flipH="1">
            <a:off x="5662080" y="4357800"/>
            <a:ext cx="1303560" cy="1552320"/>
          </a:xfrm>
          <a:prstGeom prst="line">
            <a:avLst/>
          </a:prstGeom>
          <a:ln w="316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57"/>
          <p:cNvSpPr/>
          <p:nvPr/>
        </p:nvSpPr>
        <p:spPr>
          <a:xfrm>
            <a:off x="3519360" y="4124160"/>
            <a:ext cx="3267360" cy="55800"/>
          </a:xfrm>
          <a:prstGeom prst="line">
            <a:avLst/>
          </a:prstGeom>
          <a:ln w="316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Скругленная соединительная линия 63"/>
          <p:cNvCxnSpPr>
            <a:stCxn id="112" idx="0"/>
            <a:endCxn id="118" idx="1"/>
          </p:cNvCxnSpPr>
          <p:nvPr/>
        </p:nvCxnSpPr>
        <p:spPr>
          <a:xfrm flipH="1" flipV="1" rot="5400000">
            <a:off x="4283640" y="1874160"/>
            <a:ext cx="376920" cy="4732920"/>
          </a:xfrm>
          <a:prstGeom prst="curvedConnector5">
            <a:avLst>
              <a:gd name="adj1" fmla="val 284321"/>
              <a:gd name="adj2" fmla="val 50000"/>
              <a:gd name="adj3" fmla="val 284321"/>
            </a:avLst>
          </a:prstGeom>
          <a:ln w="31680">
            <a:solidFill>
              <a:srgbClr val="4a7ebb"/>
            </a:solidFill>
            <a:prstDash val="dash"/>
            <a:miter/>
          </a:ln>
        </p:spPr>
      </p:cxnSp>
      <p:cxnSp>
        <p:nvCxnSpPr>
          <p:cNvPr id="133" name="Скругленная соединительная линия 66"/>
          <p:cNvCxnSpPr>
            <a:stCxn id="114" idx="4"/>
            <a:endCxn id="118" idx="5"/>
          </p:cNvCxnSpPr>
          <p:nvPr/>
        </p:nvCxnSpPr>
        <p:spPr>
          <a:xfrm flipH="1" flipV="1" rot="5400000">
            <a:off x="4142880" y="3124440"/>
            <a:ext cx="1767600" cy="4128120"/>
          </a:xfrm>
          <a:prstGeom prst="curvedConnector5">
            <a:avLst>
              <a:gd name="adj1" fmla="val -36300"/>
              <a:gd name="adj2" fmla="val 50000"/>
              <a:gd name="adj3" fmla="val -36300"/>
            </a:avLst>
          </a:prstGeom>
          <a:ln w="31680">
            <a:solidFill>
              <a:srgbClr val="4a7ebb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49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49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66"/>
                                      </p:to>
                                    </p:animClr>
                                    <p:set>
                                      <p:cBhvr>
                                        <p:cTn id="5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5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66"/>
                                      </p:to>
                                    </p:animClr>
                                    <p:set>
                                      <p:cBhvr>
                                        <p:cTn id="51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1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блема четырех крас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8568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 проблема вызвала большой интерес в математи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ть свидетельства, что ей занимались известные математики Мебиус и де Морга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880 году А. Компе опубликовал положительное решение проблемы четырех крас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ко в 1890 году Р. Хивуд обнаружил ошибку в этом доказательстве. Он доказал, что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любой планарный граф можно раскрасить пятью красками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этого появлялось довольно много «доказательств» гипотезы четырех красок и «контрпримеров» к ней, в которых обнаруживались ошиб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0" y="54900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69 году Х. Хели свел проблему четырех красок к исследованию множества С так называемых неустранимых конфигураций. Множество С является конечным. Но довольно большим (порядка нескольких тысяч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колькими годами позже, в 1976 году математикам К. Аппелю и В. Хейкену удалось показать, что все конфигурации из множества С можно правильно раскрасить в четыре цвета. В возникающем при этом переборе существенно использовался компьюте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ое решение проблемы четырех красок долгое время не признавалось многими математиками, поскольку его сложно повторить. Однако сейчас практически общепризнано, что К. Аппелем и В. Хейкеном доказана гипотеза четырех крас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йлеровы граф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928800"/>
            <a:ext cx="822960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граф имеет цикл (не обязательно простой), содержащий все ребра графа по одному разу, то такой цикл называется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эйлеровым цикло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а граф называется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эйлеровым графо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йлеров цикл содержит не только все ребра, но и все вершины графа (возможно по несколько раз). Ясно, что эйлеровым может быть только связный граф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йлеров граф можно нарисовать на бумаге, не отрывая от нее карандаша. Вышеопределенные понятия распространяются аналогично на мультиграф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3"/>
          <p:cNvSpPr/>
          <p:nvPr/>
        </p:nvSpPr>
        <p:spPr>
          <a:xfrm>
            <a:off x="857160" y="4857840"/>
            <a:ext cx="21456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4"/>
          <p:cNvSpPr/>
          <p:nvPr/>
        </p:nvSpPr>
        <p:spPr>
          <a:xfrm>
            <a:off x="1428840" y="628668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5"/>
          <p:cNvSpPr/>
          <p:nvPr/>
        </p:nvSpPr>
        <p:spPr>
          <a:xfrm>
            <a:off x="1428840" y="4143240"/>
            <a:ext cx="214200" cy="21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6"/>
          <p:cNvSpPr/>
          <p:nvPr/>
        </p:nvSpPr>
        <p:spPr>
          <a:xfrm>
            <a:off x="2000160" y="4857840"/>
            <a:ext cx="21456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7"/>
          <p:cNvSpPr/>
          <p:nvPr/>
        </p:nvSpPr>
        <p:spPr>
          <a:xfrm>
            <a:off x="2000160" y="5643720"/>
            <a:ext cx="21456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8"/>
          <p:cNvSpPr/>
          <p:nvPr/>
        </p:nvSpPr>
        <p:spPr>
          <a:xfrm>
            <a:off x="857160" y="5572080"/>
            <a:ext cx="21456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0"/>
          <p:cNvSpPr/>
          <p:nvPr/>
        </p:nvSpPr>
        <p:spPr>
          <a:xfrm flipV="1">
            <a:off x="963720" y="5073480"/>
            <a:ext cx="1440" cy="500400"/>
          </a:xfrm>
          <a:prstGeom prst="line">
            <a:avLst/>
          </a:prstGeom>
          <a:ln w="63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1"/>
          <p:cNvSpPr/>
          <p:nvPr/>
        </p:nvSpPr>
        <p:spPr>
          <a:xfrm>
            <a:off x="1071720" y="4965840"/>
            <a:ext cx="928440" cy="1440"/>
          </a:xfrm>
          <a:prstGeom prst="line">
            <a:avLst/>
          </a:prstGeom>
          <a:ln w="63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2"/>
          <p:cNvSpPr/>
          <p:nvPr/>
        </p:nvSpPr>
        <p:spPr>
          <a:xfrm flipH="1" flipV="1">
            <a:off x="1611360" y="4325760"/>
            <a:ext cx="495360" cy="532080"/>
          </a:xfrm>
          <a:prstGeom prst="line">
            <a:avLst/>
          </a:prstGeom>
          <a:ln w="63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3"/>
          <p:cNvSpPr/>
          <p:nvPr/>
        </p:nvSpPr>
        <p:spPr>
          <a:xfrm flipH="1" flipV="1">
            <a:off x="1039680" y="5040360"/>
            <a:ext cx="992160" cy="635040"/>
          </a:xfrm>
          <a:prstGeom prst="line">
            <a:avLst/>
          </a:prstGeom>
          <a:ln w="63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4"/>
          <p:cNvSpPr/>
          <p:nvPr/>
        </p:nvSpPr>
        <p:spPr>
          <a:xfrm flipV="1">
            <a:off x="2106720" y="5073480"/>
            <a:ext cx="1440" cy="571680"/>
          </a:xfrm>
          <a:prstGeom prst="line">
            <a:avLst/>
          </a:prstGeom>
          <a:ln w="63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5"/>
          <p:cNvSpPr/>
          <p:nvPr/>
        </p:nvSpPr>
        <p:spPr>
          <a:xfrm flipV="1">
            <a:off x="963720" y="4250880"/>
            <a:ext cx="465120" cy="606600"/>
          </a:xfrm>
          <a:prstGeom prst="line">
            <a:avLst/>
          </a:prstGeom>
          <a:ln w="63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8"/>
          <p:cNvSpPr/>
          <p:nvPr/>
        </p:nvSpPr>
        <p:spPr>
          <a:xfrm flipV="1">
            <a:off x="1071720" y="5040000"/>
            <a:ext cx="960120" cy="639720"/>
          </a:xfrm>
          <a:prstGeom prst="line">
            <a:avLst/>
          </a:prstGeom>
          <a:ln w="63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9"/>
          <p:cNvSpPr/>
          <p:nvPr/>
        </p:nvSpPr>
        <p:spPr>
          <a:xfrm flipH="1">
            <a:off x="1039680" y="5750640"/>
            <a:ext cx="960480" cy="3240"/>
          </a:xfrm>
          <a:prstGeom prst="line">
            <a:avLst/>
          </a:prstGeom>
          <a:ln w="63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35"/>
          <p:cNvSpPr/>
          <p:nvPr/>
        </p:nvSpPr>
        <p:spPr>
          <a:xfrm flipV="1">
            <a:off x="1643040" y="5857920"/>
            <a:ext cx="463680" cy="536400"/>
          </a:xfrm>
          <a:prstGeom prst="line">
            <a:avLst/>
          </a:prstGeom>
          <a:ln w="63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38"/>
          <p:cNvSpPr/>
          <p:nvPr/>
        </p:nvSpPr>
        <p:spPr>
          <a:xfrm flipH="1" flipV="1">
            <a:off x="963720" y="5786280"/>
            <a:ext cx="496800" cy="532080"/>
          </a:xfrm>
          <a:prstGeom prst="line">
            <a:avLst/>
          </a:prstGeom>
          <a:ln w="63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42"/>
          <p:cNvSpPr/>
          <p:nvPr/>
        </p:nvSpPr>
        <p:spPr>
          <a:xfrm>
            <a:off x="3500280" y="6072120"/>
            <a:ext cx="214560" cy="21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43"/>
          <p:cNvSpPr/>
          <p:nvPr/>
        </p:nvSpPr>
        <p:spPr>
          <a:xfrm>
            <a:off x="4857840" y="614376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44"/>
          <p:cNvSpPr/>
          <p:nvPr/>
        </p:nvSpPr>
        <p:spPr>
          <a:xfrm>
            <a:off x="3286080" y="500076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45"/>
          <p:cNvSpPr/>
          <p:nvPr/>
        </p:nvSpPr>
        <p:spPr>
          <a:xfrm>
            <a:off x="5143680" y="507204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46"/>
          <p:cNvSpPr/>
          <p:nvPr/>
        </p:nvSpPr>
        <p:spPr>
          <a:xfrm>
            <a:off x="4214880" y="450072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47"/>
          <p:cNvSpPr/>
          <p:nvPr/>
        </p:nvSpPr>
        <p:spPr>
          <a:xfrm flipV="1">
            <a:off x="3682440" y="5254200"/>
            <a:ext cx="1492200" cy="849240"/>
          </a:xfrm>
          <a:prstGeom prst="line">
            <a:avLst/>
          </a:prstGeom>
          <a:ln w="63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50"/>
          <p:cNvSpPr/>
          <p:nvPr/>
        </p:nvSpPr>
        <p:spPr>
          <a:xfrm flipH="1" flipV="1">
            <a:off x="3468240" y="5183280"/>
            <a:ext cx="1420920" cy="992160"/>
          </a:xfrm>
          <a:prstGeom prst="line">
            <a:avLst/>
          </a:prstGeom>
          <a:ln w="63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51"/>
          <p:cNvSpPr/>
          <p:nvPr/>
        </p:nvSpPr>
        <p:spPr>
          <a:xfrm flipH="1" flipV="1">
            <a:off x="4397040" y="4682880"/>
            <a:ext cx="568440" cy="1460520"/>
          </a:xfrm>
          <a:prstGeom prst="line">
            <a:avLst/>
          </a:prstGeom>
          <a:ln w="63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2"/>
          <p:cNvSpPr/>
          <p:nvPr/>
        </p:nvSpPr>
        <p:spPr>
          <a:xfrm flipV="1">
            <a:off x="3606120" y="4683240"/>
            <a:ext cx="639720" cy="1388880"/>
          </a:xfrm>
          <a:prstGeom prst="line">
            <a:avLst/>
          </a:prstGeom>
          <a:ln w="63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53"/>
          <p:cNvSpPr/>
          <p:nvPr/>
        </p:nvSpPr>
        <p:spPr>
          <a:xfrm>
            <a:off x="3500280" y="5108400"/>
            <a:ext cx="1643400" cy="71640"/>
          </a:xfrm>
          <a:prstGeom prst="line">
            <a:avLst/>
          </a:prstGeom>
          <a:ln w="63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4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5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5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6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7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7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8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9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9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2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3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3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4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4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онард Эйлер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1707-1783) первым в своей знаменитой задаче о Кёнигсбергских мостах рассмотрел вопрос о существовании таких циклов в граф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1428840"/>
            <a:ext cx="87296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ёнигсберг (Калининград) расположен на обоих берегах реки Преголя и на двух островах этой реки. Берега реки и два острова соединены семью мостами, как показано на кар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736 г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Можно ли начав с некоторой точки, совершить прогулку и вернуться в исходную точку, пройдя по каждому мосту ровно один ра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3" descr="Карта Кёнигсберга и эквивалентный ей граф"/>
          <p:cNvPicPr/>
          <p:nvPr/>
        </p:nvPicPr>
        <p:blipFill>
          <a:blip r:embed="rId1"/>
          <a:stretch/>
        </p:blipFill>
        <p:spPr>
          <a:xfrm>
            <a:off x="357120" y="3643200"/>
            <a:ext cx="85010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орема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76500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неориентированный граф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вязен и в нем более одной вершины, то следующие утверждения эквивалентн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эйлеров граф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ая верши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меет четную степен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жество ребер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можно разбить на простые цикл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2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– эйлеров граф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йлеров цикл проходя через каждую вершину, входит в нее по одному ребру, выходит по другому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аждая вершина инцидентна четному числу ребер. Цикл содержит все ребра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тность степей всех верш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се степени четны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строим цикл, содержащий все ребра. Начнем строить цепь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произвольной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будем продолжать ее насколько это возможно, выбирая каждый раз новое ребр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.к. Степени вершин четны, т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пав в очередную отличную от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ршину, будем иметь 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поряжении еще непройденное ребро. Добавим его в цепь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роение цепи закончится в вершине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Если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ржит вс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бра, то построение закончено. Инач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далим из графа все ребр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надлежие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мотрим гра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полученный в результате удаления этих ребе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ли вершины только четных степей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удет име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ршины только четных степей. В силу связности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удут име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тя бы одну общую вершину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чиная с вершины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роим цикл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 ч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икл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 от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соответственно. Получим новый цикл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торый начинается в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проходит по всем ребр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затем все ребр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возвращается в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ребрам из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налогично продолжим процесс до получения эйлерова цикл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4427640" y="189000"/>
            <a:ext cx="2919600" cy="2630520"/>
            <a:chOff x="4427640" y="189000"/>
            <a:chExt cx="2919600" cy="2630520"/>
          </a:xfrm>
        </p:grpSpPr>
        <p:sp>
          <p:nvSpPr>
            <p:cNvPr id="173" name="Line 4"/>
            <p:cNvSpPr/>
            <p:nvPr/>
          </p:nvSpPr>
          <p:spPr>
            <a:xfrm flipH="1">
              <a:off x="5200920" y="660600"/>
              <a:ext cx="773640" cy="10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"/>
            <p:cNvSpPr/>
            <p:nvPr/>
          </p:nvSpPr>
          <p:spPr>
            <a:xfrm>
              <a:off x="5201280" y="1697400"/>
              <a:ext cx="135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5975280" y="660600"/>
              <a:ext cx="579240" cy="10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 flipH="1">
              <a:off x="4813560" y="660600"/>
              <a:ext cx="116136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4813560" y="943200"/>
              <a:ext cx="387360" cy="7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5975280" y="660600"/>
              <a:ext cx="1063080" cy="37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0"/>
            <p:cNvSpPr/>
            <p:nvPr/>
          </p:nvSpPr>
          <p:spPr>
            <a:xfrm flipH="1">
              <a:off x="6554160" y="1036440"/>
              <a:ext cx="483480" cy="6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 flipH="1">
              <a:off x="5974920" y="1697400"/>
              <a:ext cx="579240" cy="75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2"/>
            <p:cNvSpPr/>
            <p:nvPr/>
          </p:nvSpPr>
          <p:spPr>
            <a:xfrm flipH="1" flipV="1">
              <a:off x="5200920" y="1697040"/>
              <a:ext cx="773640" cy="75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3"/>
            <p:cNvSpPr/>
            <p:nvPr/>
          </p:nvSpPr>
          <p:spPr>
            <a:xfrm>
              <a:off x="6556320" y="1697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4"/>
            <p:cNvSpPr/>
            <p:nvPr/>
          </p:nvSpPr>
          <p:spPr>
            <a:xfrm>
              <a:off x="4427640" y="849240"/>
              <a:ext cx="41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5788080" y="189000"/>
              <a:ext cx="622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6"/>
            <p:cNvSpPr/>
            <p:nvPr/>
          </p:nvSpPr>
          <p:spPr>
            <a:xfrm>
              <a:off x="7040160" y="849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7"/>
            <p:cNvSpPr/>
            <p:nvPr/>
          </p:nvSpPr>
          <p:spPr>
            <a:xfrm>
              <a:off x="5783040" y="2451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8"/>
            <p:cNvSpPr/>
            <p:nvPr/>
          </p:nvSpPr>
          <p:spPr>
            <a:xfrm>
              <a:off x="4912920" y="1697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0"/>
          <p:cNvSpPr/>
          <p:nvPr/>
        </p:nvSpPr>
        <p:spPr>
          <a:xfrm>
            <a:off x="2987640" y="5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609300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8640" y="857160"/>
            <a:ext cx="1285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ь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Группа 44"/>
          <p:cNvGrpSpPr/>
          <p:nvPr/>
        </p:nvGrpSpPr>
        <p:grpSpPr>
          <a:xfrm>
            <a:off x="1547640" y="1700280"/>
            <a:ext cx="3403800" cy="1842480"/>
            <a:chOff x="1547640" y="1700280"/>
            <a:chExt cx="3403800" cy="1842480"/>
          </a:xfrm>
        </p:grpSpPr>
        <p:sp>
          <p:nvSpPr>
            <p:cNvPr id="192" name="Line 42"/>
            <p:cNvSpPr/>
            <p:nvPr/>
          </p:nvSpPr>
          <p:spPr>
            <a:xfrm>
              <a:off x="2640960" y="3137040"/>
              <a:ext cx="139644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44"/>
            <p:cNvSpPr/>
            <p:nvPr/>
          </p:nvSpPr>
          <p:spPr>
            <a:xfrm flipH="1">
              <a:off x="2241360" y="2100240"/>
              <a:ext cx="1198440" cy="282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5"/>
            <p:cNvSpPr/>
            <p:nvPr/>
          </p:nvSpPr>
          <p:spPr>
            <a:xfrm>
              <a:off x="2241720" y="2382840"/>
              <a:ext cx="399240" cy="753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6"/>
            <p:cNvSpPr/>
            <p:nvPr/>
          </p:nvSpPr>
          <p:spPr>
            <a:xfrm>
              <a:off x="3440160" y="2100240"/>
              <a:ext cx="1096920" cy="3762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7"/>
            <p:cNvSpPr/>
            <p:nvPr/>
          </p:nvSpPr>
          <p:spPr>
            <a:xfrm flipH="1">
              <a:off x="4037400" y="2476440"/>
              <a:ext cx="499320" cy="66024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50"/>
            <p:cNvSpPr/>
            <p:nvPr/>
          </p:nvSpPr>
          <p:spPr>
            <a:xfrm>
              <a:off x="4044600" y="313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1843920" y="2289240"/>
              <a:ext cx="43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52"/>
            <p:cNvSpPr/>
            <p:nvPr/>
          </p:nvSpPr>
          <p:spPr>
            <a:xfrm>
              <a:off x="3197880" y="1700280"/>
              <a:ext cx="622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3"/>
            <p:cNvSpPr/>
            <p:nvPr/>
          </p:nvSpPr>
          <p:spPr>
            <a:xfrm>
              <a:off x="4543920" y="2289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5"/>
            <p:cNvSpPr/>
            <p:nvPr/>
          </p:nvSpPr>
          <p:spPr>
            <a:xfrm>
              <a:off x="2359800" y="3137040"/>
              <a:ext cx="622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56"/>
            <p:cNvSpPr/>
            <p:nvPr/>
          </p:nvSpPr>
          <p:spPr>
            <a:xfrm>
              <a:off x="1547640" y="2781360"/>
              <a:ext cx="61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57"/>
            <p:cNvSpPr/>
            <p:nvPr/>
          </p:nvSpPr>
          <p:spPr>
            <a:xfrm>
              <a:off x="4356360" y="2924280"/>
              <a:ext cx="59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”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59"/>
          <p:cNvSpPr/>
          <p:nvPr/>
        </p:nvSpPr>
        <p:spPr>
          <a:xfrm>
            <a:off x="403920" y="4149720"/>
            <a:ext cx="1285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ь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44"/>
          <p:cNvGrpSpPr/>
          <p:nvPr/>
        </p:nvGrpSpPr>
        <p:grpSpPr>
          <a:xfrm>
            <a:off x="2627280" y="3789360"/>
            <a:ext cx="1800360" cy="1950120"/>
            <a:chOff x="2627280" y="3789360"/>
            <a:chExt cx="1800360" cy="1950120"/>
          </a:xfrm>
        </p:grpSpPr>
        <p:sp>
          <p:nvSpPr>
            <p:cNvPr id="206" name="Line 61"/>
            <p:cNvSpPr/>
            <p:nvPr/>
          </p:nvSpPr>
          <p:spPr>
            <a:xfrm flipH="1">
              <a:off x="2916360" y="4149720"/>
              <a:ext cx="57600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62"/>
            <p:cNvSpPr/>
            <p:nvPr/>
          </p:nvSpPr>
          <p:spPr>
            <a:xfrm>
              <a:off x="2916360" y="4653000"/>
              <a:ext cx="57600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3"/>
            <p:cNvSpPr/>
            <p:nvPr/>
          </p:nvSpPr>
          <p:spPr>
            <a:xfrm flipV="1">
              <a:off x="3492360" y="4723920"/>
              <a:ext cx="57492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64"/>
            <p:cNvSpPr/>
            <p:nvPr/>
          </p:nvSpPr>
          <p:spPr>
            <a:xfrm flipH="1" flipV="1">
              <a:off x="3492000" y="4149720"/>
              <a:ext cx="57492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65"/>
            <p:cNvSpPr/>
            <p:nvPr/>
          </p:nvSpPr>
          <p:spPr>
            <a:xfrm>
              <a:off x="3348000" y="3789360"/>
              <a:ext cx="36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66"/>
            <p:cNvSpPr/>
            <p:nvPr/>
          </p:nvSpPr>
          <p:spPr>
            <a:xfrm>
              <a:off x="4067280" y="4508640"/>
              <a:ext cx="36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67"/>
            <p:cNvSpPr/>
            <p:nvPr/>
          </p:nvSpPr>
          <p:spPr>
            <a:xfrm>
              <a:off x="3348000" y="5229360"/>
              <a:ext cx="36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68"/>
            <p:cNvSpPr/>
            <p:nvPr/>
          </p:nvSpPr>
          <p:spPr>
            <a:xfrm>
              <a:off x="2627280" y="4508640"/>
              <a:ext cx="36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ы поиска эйлерова цик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8920" y="857160"/>
            <a:ext cx="8713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лгоритм Флёри (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ожность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(n*(n+m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ребуется занумеровать ребра графа числами 1, 2, …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так, чтобы номер, присвоенный ребру, указывал, каким по счету это ребро проходится в эйлеровом цикл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чиная с произвольной вершины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сваиваем произвольному ребру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мер 1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тем вычеркиваем ребро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 графа и переходим в вершину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ршина, в которую мы пришли в результате выполнения предыдущего шага, и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мер, присвоенный некоторому ребру на этом шаге. Выбираем любое ребро, инцидентное вершине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причем </a:t>
            </a:r>
            <a:r>
              <a:rPr b="0" i="1" lang="ru-RU" sz="2200" spc="-1" strike="noStrike">
                <a:solidFill>
                  <a:srgbClr val="0000ff"/>
                </a:solidFill>
                <a:latin typeface="Calibri"/>
              </a:rPr>
              <a:t>мост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бираем только в том случае, если нет других возможностей; присваиваем выбранному ребру номер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+ 1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роходим по нему в следующую вершину 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черкиваем  его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лгоритм заканчивается, когда все ребра вычеркну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ff"/>
                </a:solidFill>
                <a:latin typeface="Calibri"/>
              </a:rPr>
              <a:t>Мост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бро, удаление которого из графа приводит к тому, что граф распадается на несколько компонент связ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Овал 3"/>
          <p:cNvSpPr/>
          <p:nvPr/>
        </p:nvSpPr>
        <p:spPr>
          <a:xfrm>
            <a:off x="2500200" y="3357720"/>
            <a:ext cx="357480" cy="357120"/>
          </a:xfrm>
          <a:prstGeom prst="ellipse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4"/>
          <p:cNvSpPr/>
          <p:nvPr/>
        </p:nvSpPr>
        <p:spPr>
          <a:xfrm>
            <a:off x="3571920" y="257184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5"/>
          <p:cNvSpPr/>
          <p:nvPr/>
        </p:nvSpPr>
        <p:spPr>
          <a:xfrm>
            <a:off x="5572080" y="342900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6"/>
          <p:cNvSpPr/>
          <p:nvPr/>
        </p:nvSpPr>
        <p:spPr>
          <a:xfrm>
            <a:off x="5214960" y="207180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8"/>
          <p:cNvSpPr/>
          <p:nvPr/>
        </p:nvSpPr>
        <p:spPr>
          <a:xfrm>
            <a:off x="3357720" y="485784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9"/>
          <p:cNvSpPr/>
          <p:nvPr/>
        </p:nvSpPr>
        <p:spPr>
          <a:xfrm>
            <a:off x="5500800" y="514368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15"/>
          <p:cNvSpPr/>
          <p:nvPr/>
        </p:nvSpPr>
        <p:spPr>
          <a:xfrm flipH="1">
            <a:off x="2804760" y="2876400"/>
            <a:ext cx="819000" cy="53352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6"/>
          <p:cNvSpPr/>
          <p:nvPr/>
        </p:nvSpPr>
        <p:spPr>
          <a:xfrm>
            <a:off x="5519160" y="2376360"/>
            <a:ext cx="231480" cy="105264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17"/>
          <p:cNvSpPr/>
          <p:nvPr/>
        </p:nvSpPr>
        <p:spPr>
          <a:xfrm>
            <a:off x="3876120" y="2876400"/>
            <a:ext cx="1747800" cy="60516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18"/>
          <p:cNvSpPr/>
          <p:nvPr/>
        </p:nvSpPr>
        <p:spPr>
          <a:xfrm flipV="1">
            <a:off x="3535200" y="2928960"/>
            <a:ext cx="214560" cy="192888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19"/>
          <p:cNvSpPr/>
          <p:nvPr/>
        </p:nvSpPr>
        <p:spPr>
          <a:xfrm>
            <a:off x="2677320" y="3714840"/>
            <a:ext cx="857160" cy="11430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20"/>
          <p:cNvSpPr/>
          <p:nvPr/>
        </p:nvSpPr>
        <p:spPr>
          <a:xfrm flipH="1">
            <a:off x="5680080" y="3786120"/>
            <a:ext cx="71280" cy="135756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1"/>
          <p:cNvSpPr/>
          <p:nvPr/>
        </p:nvSpPr>
        <p:spPr>
          <a:xfrm flipH="1">
            <a:off x="3661920" y="3733920"/>
            <a:ext cx="1962360" cy="117612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2"/>
          <p:cNvSpPr/>
          <p:nvPr/>
        </p:nvSpPr>
        <p:spPr>
          <a:xfrm flipH="1" flipV="1">
            <a:off x="3714840" y="5037120"/>
            <a:ext cx="1838160" cy="41112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23"/>
          <p:cNvSpPr/>
          <p:nvPr/>
        </p:nvSpPr>
        <p:spPr>
          <a:xfrm flipH="1">
            <a:off x="3929040" y="2248920"/>
            <a:ext cx="1285920" cy="50004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2"/>
          <p:cNvSpPr/>
          <p:nvPr/>
        </p:nvSpPr>
        <p:spPr>
          <a:xfrm>
            <a:off x="2859480" y="28576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83"/>
          <p:cNvSpPr/>
          <p:nvPr/>
        </p:nvSpPr>
        <p:spPr>
          <a:xfrm>
            <a:off x="4573800" y="27147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84"/>
          <p:cNvSpPr/>
          <p:nvPr/>
        </p:nvSpPr>
        <p:spPr>
          <a:xfrm>
            <a:off x="5645520" y="25718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85"/>
          <p:cNvSpPr/>
          <p:nvPr/>
        </p:nvSpPr>
        <p:spPr>
          <a:xfrm>
            <a:off x="4287960" y="20718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86"/>
          <p:cNvSpPr/>
          <p:nvPr/>
        </p:nvSpPr>
        <p:spPr>
          <a:xfrm>
            <a:off x="3359520" y="35002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7"/>
          <p:cNvSpPr/>
          <p:nvPr/>
        </p:nvSpPr>
        <p:spPr>
          <a:xfrm>
            <a:off x="4287960" y="52149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88"/>
          <p:cNvSpPr/>
          <p:nvPr/>
        </p:nvSpPr>
        <p:spPr>
          <a:xfrm>
            <a:off x="5716800" y="42861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9"/>
          <p:cNvSpPr/>
          <p:nvPr/>
        </p:nvSpPr>
        <p:spPr>
          <a:xfrm>
            <a:off x="4502520" y="3929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90"/>
          <p:cNvSpPr/>
          <p:nvPr/>
        </p:nvSpPr>
        <p:spPr>
          <a:xfrm>
            <a:off x="2787840" y="41432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3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краска граф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Пус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– неориентированный граф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натуральное числ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{1,…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} называется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раскраск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раф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краска называется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правильн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если для любых смежных вершин x,y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V справедливо неравенство f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≠ f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 Число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личество красо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аскраск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Наименьшее число красок, необходимое для правильной раскраски граф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ывается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хроматическим числом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ф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ьную раскраску таким числом красок будем называт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птимальн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оматическое число обозначается через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лгоритм поиска эйлерового цикла (О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79280" y="98064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чиная с произвольной вершины, строим путь, удаляя ребр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поминая вершины в стеке, до тех пор пока множеств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меж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чередной вершины не окажется пустым, чт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значает, что пу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длинить нельз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метим, что при этом мы с необходимостью придем в ту вершину, 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торой начали. В противном случае это означал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ы, что вершин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ет нечетную степень, что невозможно п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лови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аким образом, из графа были удалены ребра цикла, 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ршины цик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ыли сохранены в стеке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метим, что пр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м степени всех вершин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тались четными. Дале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ршин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водится в качестве первой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ршины эйлерового цикла, 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цесс продолжается, начиная с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ршины, стоящей 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ерш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ек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лгорит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7142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ход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эйлеров граф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заданный списками смежности (Γ[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] — список вершин смежных с вершиной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ход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следовательность вершин эйлерового цикл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 := Ø { стек для хранения вершин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бра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v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V { произвольная вершина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v → S { положить v в стек S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к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 ≠ 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полня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v ← S;  v → S { v — верхний элемент стека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v] = 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 ← S;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ач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бра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Γ[v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{ взять первую вершину из списка смежности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u → 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Γ[v] = Γ[v] \ {u}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Γ[u] = Γ[u] \ {v} { удалить ребро (v, u)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ец ес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ец п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1000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2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курсивная реализ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id cycle_search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рем любое непройденное ребр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тить и удалить из спис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ycle_search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вести_вершину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ф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-раскрашиваемый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йле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о ры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1426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ан набор костяшек домин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ужно определить, можно ли из них построить рыбу (так расположить костяшки, чтобы они были все использованы, и последовательность начиналась и заканчивалась одним и тем же число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Овал 3"/>
          <p:cNvSpPr/>
          <p:nvPr/>
        </p:nvSpPr>
        <p:spPr>
          <a:xfrm>
            <a:off x="1714680" y="385776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4"/>
          <p:cNvSpPr/>
          <p:nvPr/>
        </p:nvSpPr>
        <p:spPr>
          <a:xfrm>
            <a:off x="3214800" y="3643200"/>
            <a:ext cx="357120" cy="3574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5"/>
          <p:cNvSpPr/>
          <p:nvPr/>
        </p:nvSpPr>
        <p:spPr>
          <a:xfrm>
            <a:off x="1643040" y="614376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6"/>
          <p:cNvSpPr/>
          <p:nvPr/>
        </p:nvSpPr>
        <p:spPr>
          <a:xfrm>
            <a:off x="928800" y="507204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7"/>
          <p:cNvSpPr/>
          <p:nvPr/>
        </p:nvSpPr>
        <p:spPr>
          <a:xfrm>
            <a:off x="4214880" y="457200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8"/>
          <p:cNvSpPr/>
          <p:nvPr/>
        </p:nvSpPr>
        <p:spPr>
          <a:xfrm>
            <a:off x="4071960" y="564372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9"/>
          <p:cNvSpPr/>
          <p:nvPr/>
        </p:nvSpPr>
        <p:spPr>
          <a:xfrm>
            <a:off x="3429000" y="635796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5"/>
          <p:cNvSpPr/>
          <p:nvPr/>
        </p:nvSpPr>
        <p:spPr>
          <a:xfrm flipH="1">
            <a:off x="1106640" y="4162320"/>
            <a:ext cx="660240" cy="90972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6"/>
          <p:cNvSpPr/>
          <p:nvPr/>
        </p:nvSpPr>
        <p:spPr>
          <a:xfrm flipH="1">
            <a:off x="1820520" y="3948120"/>
            <a:ext cx="1446120" cy="219564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7"/>
          <p:cNvSpPr/>
          <p:nvPr/>
        </p:nvSpPr>
        <p:spPr>
          <a:xfrm flipH="1">
            <a:off x="1285920" y="4750560"/>
            <a:ext cx="2928960" cy="50004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8"/>
          <p:cNvSpPr/>
          <p:nvPr/>
        </p:nvSpPr>
        <p:spPr>
          <a:xfrm>
            <a:off x="1106640" y="5429160"/>
            <a:ext cx="588960" cy="766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19"/>
          <p:cNvSpPr/>
          <p:nvPr/>
        </p:nvSpPr>
        <p:spPr>
          <a:xfrm flipV="1">
            <a:off x="2000160" y="5822640"/>
            <a:ext cx="2071800" cy="50004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20"/>
          <p:cNvSpPr/>
          <p:nvPr/>
        </p:nvSpPr>
        <p:spPr>
          <a:xfrm>
            <a:off x="1947960" y="6448320"/>
            <a:ext cx="1481040" cy="8892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21"/>
          <p:cNvSpPr/>
          <p:nvPr/>
        </p:nvSpPr>
        <p:spPr>
          <a:xfrm>
            <a:off x="2019240" y="4162320"/>
            <a:ext cx="1462320" cy="224784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22"/>
          <p:cNvSpPr/>
          <p:nvPr/>
        </p:nvSpPr>
        <p:spPr>
          <a:xfrm flipH="1">
            <a:off x="3785760" y="5948280"/>
            <a:ext cx="338040" cy="58896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23"/>
          <p:cNvSpPr/>
          <p:nvPr/>
        </p:nvSpPr>
        <p:spPr>
          <a:xfrm flipH="1">
            <a:off x="2018880" y="3822840"/>
            <a:ext cx="1195560" cy="8712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24"/>
          <p:cNvSpPr/>
          <p:nvPr/>
        </p:nvSpPr>
        <p:spPr>
          <a:xfrm>
            <a:off x="3518640" y="3948120"/>
            <a:ext cx="747720" cy="67644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25"/>
          <p:cNvSpPr/>
          <p:nvPr/>
        </p:nvSpPr>
        <p:spPr>
          <a:xfrm flipH="1">
            <a:off x="1947960" y="4876920"/>
            <a:ext cx="2319120" cy="131904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26"/>
          <p:cNvSpPr/>
          <p:nvPr/>
        </p:nvSpPr>
        <p:spPr>
          <a:xfrm flipH="1">
            <a:off x="4249440" y="4929120"/>
            <a:ext cx="142920" cy="7146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28"/>
          <p:cNvSpPr/>
          <p:nvPr/>
        </p:nvSpPr>
        <p:spPr>
          <a:xfrm>
            <a:off x="1233360" y="5376960"/>
            <a:ext cx="2890800" cy="31896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29"/>
          <p:cNvSpPr/>
          <p:nvPr/>
        </p:nvSpPr>
        <p:spPr>
          <a:xfrm flipH="1">
            <a:off x="1820880" y="4214880"/>
            <a:ext cx="71280" cy="192888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30"/>
          <p:cNvSpPr/>
          <p:nvPr/>
        </p:nvSpPr>
        <p:spPr>
          <a:xfrm>
            <a:off x="3391920" y="4000680"/>
            <a:ext cx="214200" cy="235728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мильтоновы пути и цик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0920" y="713880"/>
            <a:ext cx="8642160" cy="24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Гамильтоновым циклом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ут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называют простой цикл (путь), содержащий все вершины граф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ф, содержащий гамильтонов цикл, называется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гамильтоновым графом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орема (Дирак, 1952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 в простом графе с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ршинами  д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й вершины степень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/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граф является гамильтоновым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Рисунок 3" descr="http://www.intuit.ru/department/algorithms/gaa/8/8-1.gif"/>
          <p:cNvPicPr/>
          <p:nvPr/>
        </p:nvPicPr>
        <p:blipFill>
          <a:blip r:embed="rId1"/>
          <a:stretch/>
        </p:blipFill>
        <p:spPr>
          <a:xfrm>
            <a:off x="214200" y="3357720"/>
            <a:ext cx="85010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1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Поиск всех гамильтоновых циклов в графе. Перебор с возвра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-360" y="836280"/>
            <a:ext cx="878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уже найден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шин цикла. Рассмотрим ребр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ходящие из последней вершины. Если среди них име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просмотренное, ведущее в непросмотренную вершину, 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ючаем вершину в цикл и помечаем е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подходящей вершины нет, то возвращаемся в предыдущу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шину и пытаемся найти ребро, ведущее в непросмотренну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ши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просмотрели все вершины и вернулись в начальную, 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мильтонов цикл построе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мер ит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сив для хранения порядка просмотра верш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ew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сив признак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мотрена вершина или 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трица сме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2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2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Gm(int k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,j,v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=st[k-1]; //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номер последней верши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j=0; j&lt;n; j++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v,j]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≠ 0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есть ребр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v,j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(k==n)&amp;&amp;(j==0))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ывод цикл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new[j]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[k]=j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[j]=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m(k+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=1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поиск другого цик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 функции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[0]=0; new[0]=0; Gm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2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2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2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ругая реализ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m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int v, int w, int d) {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d ==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w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Adj[v]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visited[v]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для) всех вершин 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Adj[v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if (!visited[t]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if (sear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m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t, w, d-1)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visited[v]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ьная верш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5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v — последняя найденная верши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d — оставшаяся длина гамильтонова цик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2" dur="indefinite" restart="never" nodeType="tmRoot">
          <p:childTnLst>
            <p:seq>
              <p:cTn id="1583" dur="indefinite" nodeType="mainSeq">
                <p:childTnLst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горит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Поиск в глубину в дереве пу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07172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брать произвольную вершину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PA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(a)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V(a) //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ершины, смежные с 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к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ATH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≠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ыполня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o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A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(x)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≠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зять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(x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(x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(x) -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ершин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находится в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PATH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PA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(y)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V(y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PATH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содержит все вершин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межна с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ыдать цик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нач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удалить вершину 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PA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8" dur="indefinite" restart="never" nodeType="tmRoot">
          <p:childTnLst>
            <p:seq>
              <p:cTn id="1639" dur="indefinite" nodeType="mainSeq">
                <p:childTnLst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1" dur="1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1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9" dur="10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3" dur="10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0" dur="100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100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4" dur="1000"/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8" dur="1000"/>
                                        <p:tgtEl>
                                          <p:spTgt spid="2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2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2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1000"/>
                                        <p:tgtEl>
                                          <p:spTgt spid="2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2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2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1000"/>
                                        <p:tgtEl>
                                          <p:spTgt spid="2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2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2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4786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= 3                                              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=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http://pgap.chat.ru/zap/images/zap250.gif"/>
          <p:cNvPicPr/>
          <p:nvPr/>
        </p:nvPicPr>
        <p:blipFill>
          <a:blip r:embed="rId1"/>
          <a:stretch/>
        </p:blipFill>
        <p:spPr>
          <a:xfrm>
            <a:off x="214200" y="1214280"/>
            <a:ext cx="8643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68360" y="6922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тот алгоритм есть поиск в глубину, только не в самом графе, а в дереве путей. Вершинами этого дерева являются всевозможные простые пути, начинающиеся в вершине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а ребро дерева соединяет два пути, один из которых получается из другого добавлением одной вершины в конц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Рисунок 3" descr="http://www.intuit.ru/department/algorithms/gaa/8/8-2.gif"/>
          <p:cNvPicPr/>
          <p:nvPr/>
        </p:nvPicPr>
        <p:blipFill>
          <a:blip r:embed="rId1"/>
          <a:stretch/>
        </p:blipFill>
        <p:spPr>
          <a:xfrm>
            <a:off x="500040" y="3214800"/>
            <a:ext cx="82868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вязь между эйлеровыми и гамильтоновыми цикл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57168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Реберным графом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ru-RU" sz="27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графа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называется граф имеющий столько же вершин, сколько ребер у графа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Ребро между двумя вершинами графа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ru-RU" sz="27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уществует тогда и только тогда, когда ребра графа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соответствующие этим двум вершинам, смежны (т. е. инцидентны одной и той же вершине графа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Рисунок 3" descr="Исходный граф и соответствующий ему реберный"/>
          <p:cNvPicPr/>
          <p:nvPr/>
        </p:nvPicPr>
        <p:blipFill>
          <a:blip r:embed="rId1"/>
          <a:stretch/>
        </p:blipFill>
        <p:spPr>
          <a:xfrm>
            <a:off x="500040" y="2928960"/>
            <a:ext cx="76438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орема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ют место следующие утверждения о взаимоотношениях между эйлеровыми и гамильтоновыми циклам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меет эйлеров цикл, т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меет как эйлеров, так и гамильтонов цикл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меет гамильтонов цикл, т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акже имеет гамильтонов цик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7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а составления распис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785520"/>
            <a:ext cx="86868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положим, что в учебном центре надо провести несколько занятий за кратчайшее врем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ительность всех занятий одинакова, например, один час. Некоторые занятия не могут проводиться одновременно, например, это занятия в одной и той же учебной группе (по разным предметам), или занятия проводит один и тот же преподавател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решения задачи построим граф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вершинам которого взаимнооднозначно соответствуют занятия. Две вершины соединены ребром, если соответствующие занятия нельзя проводить одновремен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сно, что правильная раскраска граф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G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яет расписание, удовлетворяющее требованиям несовместимости по времени: занятия, соответствующие вершинам, окрашенным одинаково, можно проводить одновремен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раведливо и обратное, любое такое расписание определяет правильную раскраску графа G. Следовательно, кратчайшее время необходимое для проведения всех занятий равно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а из оптимальной раскраски граф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лучается необходимое распис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а распределения ресур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8568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о выполнить некоторое множество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{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} рабо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ется множество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{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} ресурсов, требуемых для выполнения этих рабо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аждая работа использует часть указанных ресурсов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Одновременно могут выполняться работы, использующие разные ресурс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се работы выполняются за одно и то же время 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жно распределить ресурсы так, чтобы общее время выполнения всех работ было минималь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им граф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 множеством вершин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Две различные вершин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’ граф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межны тогда и только тогда, когда для выполнения рабо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’ требуется хотя бы один общий ресур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именьшее время выполнения всех работ равно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тимальная раскраска графа G определяет распределение ресур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а экономии памя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57132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положим, что необходимо написать программу для вычисления функции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Вычисление этой функции разбито на ряд блоков, у каждого из блоков имеются входные и выходные переменны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http://pgap.chat.ru/zap/images/zap251.gif"/>
          <p:cNvPicPr/>
          <p:nvPr/>
        </p:nvPicPr>
        <p:blipFill>
          <a:blip r:embed="rId1"/>
          <a:stretch/>
        </p:blipFill>
        <p:spPr>
          <a:xfrm>
            <a:off x="285840" y="1500120"/>
            <a:ext cx="8858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79280" y="404640"/>
            <a:ext cx="8715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положим, что значения переменной занимают одну ячейку памя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ача состоит в том, чтобы определить наименьшее число ячеек памяти, необходимое для хранения указанных в блок–схеме переменны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шить эту задачу можно следующим образом. На множестве переменных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{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} введем структуру графа: две переменных соединим ребром, если времена их жизни пересекаются. Полученный граф будем называть графом несовместимости переменны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чения переменных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могу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занимать одну ячейку памяти тогда и только тогда, когда переменные соединены ребром в графе несовместим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овательно, задача экономии памяти сводится к нахождению оптимальной раскраски графа несовместим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http://pgap.chat.ru/zap/images/zap252.gif"/>
          <p:cNvPicPr/>
          <p:nvPr/>
        </p:nvPicPr>
        <p:blipFill>
          <a:blip r:embed="rId1"/>
          <a:stretch/>
        </p:blipFill>
        <p:spPr>
          <a:xfrm>
            <a:off x="1143000" y="4071960"/>
            <a:ext cx="6715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лгоритм последовательной раскра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713880"/>
            <a:ext cx="822960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орядочиваем вершины графа G: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{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}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ршину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красим первой краск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положим, что вершины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уже раскрашены и на это использовано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асок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на раскрашенные вершины, смежные с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использованы все краски, то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раскрашиваем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1 краско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среди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k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асок найдется краска, которая не использована для вершин, смежных с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то вершину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красим этой краск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3"/>
          <p:cNvSpPr/>
          <p:nvPr/>
        </p:nvSpPr>
        <p:spPr>
          <a:xfrm>
            <a:off x="1928880" y="421488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4"/>
          <p:cNvSpPr/>
          <p:nvPr/>
        </p:nvSpPr>
        <p:spPr>
          <a:xfrm>
            <a:off x="3214800" y="407196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5"/>
          <p:cNvSpPr/>
          <p:nvPr/>
        </p:nvSpPr>
        <p:spPr>
          <a:xfrm>
            <a:off x="3071880" y="514368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6"/>
          <p:cNvSpPr/>
          <p:nvPr/>
        </p:nvSpPr>
        <p:spPr>
          <a:xfrm>
            <a:off x="1857240" y="5286240"/>
            <a:ext cx="357480" cy="3574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7"/>
          <p:cNvSpPr/>
          <p:nvPr/>
        </p:nvSpPr>
        <p:spPr>
          <a:xfrm>
            <a:off x="4214880" y="457200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8"/>
          <p:cNvSpPr/>
          <p:nvPr/>
        </p:nvSpPr>
        <p:spPr>
          <a:xfrm>
            <a:off x="4071960" y="564372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9"/>
          <p:cNvSpPr/>
          <p:nvPr/>
        </p:nvSpPr>
        <p:spPr>
          <a:xfrm>
            <a:off x="2857680" y="607212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0"/>
          <p:cNvSpPr/>
          <p:nvPr/>
        </p:nvSpPr>
        <p:spPr>
          <a:xfrm>
            <a:off x="5286240" y="3857760"/>
            <a:ext cx="35748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1"/>
          <p:cNvSpPr/>
          <p:nvPr/>
        </p:nvSpPr>
        <p:spPr>
          <a:xfrm>
            <a:off x="5429160" y="4786200"/>
            <a:ext cx="357120" cy="3574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2"/>
          <p:cNvSpPr/>
          <p:nvPr/>
        </p:nvSpPr>
        <p:spPr>
          <a:xfrm>
            <a:off x="5572080" y="5786280"/>
            <a:ext cx="357120" cy="3574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3"/>
          <p:cNvSpPr/>
          <p:nvPr/>
        </p:nvSpPr>
        <p:spPr>
          <a:xfrm>
            <a:off x="6357960" y="407196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4"/>
          <p:cNvSpPr/>
          <p:nvPr/>
        </p:nvSpPr>
        <p:spPr>
          <a:xfrm>
            <a:off x="6500880" y="500076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6"/>
          <p:cNvSpPr/>
          <p:nvPr/>
        </p:nvSpPr>
        <p:spPr>
          <a:xfrm flipH="1">
            <a:off x="2034720" y="4572000"/>
            <a:ext cx="71640" cy="71424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7"/>
          <p:cNvSpPr/>
          <p:nvPr/>
        </p:nvSpPr>
        <p:spPr>
          <a:xfrm flipH="1">
            <a:off x="3249360" y="4429080"/>
            <a:ext cx="142920" cy="7146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20"/>
          <p:cNvSpPr/>
          <p:nvPr/>
        </p:nvSpPr>
        <p:spPr>
          <a:xfrm>
            <a:off x="2233440" y="4519440"/>
            <a:ext cx="890640" cy="67644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3"/>
          <p:cNvSpPr/>
          <p:nvPr/>
        </p:nvSpPr>
        <p:spPr>
          <a:xfrm flipV="1">
            <a:off x="2214720" y="5322600"/>
            <a:ext cx="857160" cy="14292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7"/>
          <p:cNvSpPr/>
          <p:nvPr/>
        </p:nvSpPr>
        <p:spPr>
          <a:xfrm>
            <a:off x="3376440" y="5448240"/>
            <a:ext cx="695520" cy="37476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31"/>
          <p:cNvSpPr/>
          <p:nvPr/>
        </p:nvSpPr>
        <p:spPr>
          <a:xfrm flipH="1">
            <a:off x="3035160" y="5500800"/>
            <a:ext cx="214560" cy="57132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36"/>
          <p:cNvSpPr/>
          <p:nvPr/>
        </p:nvSpPr>
        <p:spPr>
          <a:xfrm>
            <a:off x="2161440" y="5591160"/>
            <a:ext cx="747720" cy="53352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39"/>
          <p:cNvSpPr/>
          <p:nvPr/>
        </p:nvSpPr>
        <p:spPr>
          <a:xfrm flipH="1">
            <a:off x="3214800" y="5948280"/>
            <a:ext cx="909360" cy="30312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42"/>
          <p:cNvSpPr/>
          <p:nvPr/>
        </p:nvSpPr>
        <p:spPr>
          <a:xfrm flipH="1">
            <a:off x="2233440" y="4251240"/>
            <a:ext cx="981360" cy="1584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46"/>
          <p:cNvSpPr/>
          <p:nvPr/>
        </p:nvSpPr>
        <p:spPr>
          <a:xfrm>
            <a:off x="3518640" y="4376880"/>
            <a:ext cx="747720" cy="24768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49"/>
          <p:cNvSpPr/>
          <p:nvPr/>
        </p:nvSpPr>
        <p:spPr>
          <a:xfrm flipH="1">
            <a:off x="3376440" y="4876920"/>
            <a:ext cx="890640" cy="31896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52"/>
          <p:cNvSpPr/>
          <p:nvPr/>
        </p:nvSpPr>
        <p:spPr>
          <a:xfrm flipH="1">
            <a:off x="4249440" y="4929120"/>
            <a:ext cx="142920" cy="7146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55"/>
          <p:cNvSpPr/>
          <p:nvPr/>
        </p:nvSpPr>
        <p:spPr>
          <a:xfrm flipH="1">
            <a:off x="4519440" y="4162320"/>
            <a:ext cx="819360" cy="46224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58"/>
          <p:cNvSpPr/>
          <p:nvPr/>
        </p:nvSpPr>
        <p:spPr>
          <a:xfrm>
            <a:off x="4572000" y="4751280"/>
            <a:ext cx="857160" cy="21456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62"/>
          <p:cNvSpPr/>
          <p:nvPr/>
        </p:nvSpPr>
        <p:spPr>
          <a:xfrm>
            <a:off x="4519440" y="4876920"/>
            <a:ext cx="1105200" cy="96192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65"/>
          <p:cNvSpPr/>
          <p:nvPr/>
        </p:nvSpPr>
        <p:spPr>
          <a:xfrm>
            <a:off x="5734080" y="5091120"/>
            <a:ext cx="17280" cy="69516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69"/>
          <p:cNvSpPr/>
          <p:nvPr/>
        </p:nvSpPr>
        <p:spPr>
          <a:xfrm>
            <a:off x="5465160" y="4214880"/>
            <a:ext cx="142920" cy="57132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72"/>
          <p:cNvSpPr/>
          <p:nvPr/>
        </p:nvSpPr>
        <p:spPr>
          <a:xfrm flipH="1">
            <a:off x="5877000" y="5305320"/>
            <a:ext cx="676080" cy="53352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76"/>
          <p:cNvSpPr/>
          <p:nvPr/>
        </p:nvSpPr>
        <p:spPr>
          <a:xfrm>
            <a:off x="5786280" y="4965840"/>
            <a:ext cx="714600" cy="2142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79"/>
          <p:cNvSpPr/>
          <p:nvPr/>
        </p:nvSpPr>
        <p:spPr>
          <a:xfrm flipH="1">
            <a:off x="5734080" y="4376880"/>
            <a:ext cx="676080" cy="46188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82"/>
          <p:cNvSpPr/>
          <p:nvPr/>
        </p:nvSpPr>
        <p:spPr>
          <a:xfrm flipH="1" flipV="1">
            <a:off x="5643720" y="4036680"/>
            <a:ext cx="714240" cy="2142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5"/>
          <p:cNvSpPr/>
          <p:nvPr/>
        </p:nvSpPr>
        <p:spPr>
          <a:xfrm>
            <a:off x="7715160" y="3929040"/>
            <a:ext cx="571680" cy="368280"/>
          </a:xfrm>
          <a:prstGeom prst="rect">
            <a:avLst/>
          </a:prstGeom>
          <a:solidFill>
            <a:srgbClr val="4bacc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6"/>
          <p:cNvSpPr/>
          <p:nvPr/>
        </p:nvSpPr>
        <p:spPr>
          <a:xfrm>
            <a:off x="7715160" y="4357800"/>
            <a:ext cx="571680" cy="368280"/>
          </a:xfrm>
          <a:prstGeom prst="rect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7"/>
          <p:cNvSpPr/>
          <p:nvPr/>
        </p:nvSpPr>
        <p:spPr>
          <a:xfrm>
            <a:off x="7715160" y="4857840"/>
            <a:ext cx="571680" cy="368280"/>
          </a:xfrm>
          <a:prstGeom prst="rect">
            <a:avLst/>
          </a:prstGeom>
          <a:solidFill>
            <a:srgbClr val="00b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8"/>
          <p:cNvSpPr/>
          <p:nvPr/>
        </p:nvSpPr>
        <p:spPr>
          <a:xfrm>
            <a:off x="7715160" y="5357880"/>
            <a:ext cx="571680" cy="368280"/>
          </a:xfrm>
          <a:prstGeom prst="rect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32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3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33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66"/>
                                      </p:to>
                                    </p:animClr>
                                    <p:set>
                                      <p:cBhvr>
                                        <p:cTn id="33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34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34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35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35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66"/>
                                      </p:to>
                                    </p:animClr>
                                    <p:set>
                                      <p:cBhvr>
                                        <p:cTn id="36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36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37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3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краска реб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ерная раскраска называется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правильной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смежные ребра имеют различные цв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ф, допускающий правильную реберную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краску, называется реберн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-раскрашиваемы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2:08:00Z</dcterms:created>
  <dc:creator>Admin</dc:creator>
  <dc:description/>
  <dc:language>en-US</dc:language>
  <cp:lastModifiedBy>Tatyana Churina</cp:lastModifiedBy>
  <dcterms:modified xsi:type="dcterms:W3CDTF">2011-04-18T13:14:28Z</dcterms:modified>
  <cp:revision>90</cp:revision>
  <dc:subject/>
  <dc:title>Лекция 12</dc:title>
</cp:coreProperties>
</file>