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0A5B-CF43-4A4A-8C68-2740E48E9C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D95-2784-4B29-85B7-84F72998A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E55-C50E-420E-8717-C23A354C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AEC-E6DB-4838-8C2C-D56FFF8B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6B5-3F47-48E9-BA6D-D12C3BFF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CDF-8BA1-45A9-87CB-84A220EB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D0E8-B030-4A65-8154-B4B39395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73F2-12D4-4B79-954F-5E0DA4EE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3F2E-4002-436E-80CB-3317C5E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E11-F709-452F-BACF-7D1C04D4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FC5D-28C6-4A67-94F2-20949F3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AE32-3975-4F74-AE21-11499648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863-3096-41E3-83B2-CDFE1F0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555-2E6E-4E0A-9363-9E09F16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E987-F504-48CF-9F47-B9A5CE9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4B6A-0FB8-4C5B-9C62-061E56F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7204-F2E9-4FFC-BF4F-F120711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B73-3102-4F8C-92CA-E46FF12C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E7B3-4B0D-4D46-90A2-581F7B93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9F4E-16F7-4931-8430-8551EEDC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D120-4A7B-436E-B7C9-1814C36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6AAD-7ED6-4BC0-A7FA-A52F1DDC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EE33-832E-4FC0-88C7-C9AF6F3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D039-4DE3-4C21-BFF4-7791C01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2C7-E731-4605-AF6A-42843D7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6DE8-6BA3-4AEF-85EE-4AB083E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2F89-406F-49CB-A3F0-7858114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FDEC-91B3-41DF-BFED-56A46A9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F932-241C-4920-8B2C-5DA9B9A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55EC-54FD-4329-89C4-6B1729E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535A-CB45-438E-AF50-4FCA5040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AFE7-69DC-41F5-9AC0-5C982049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CF23-6CD2-406B-BE3C-856F2228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5213-6046-4B91-B9D3-46FC65CC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24B5-5BBF-45FF-A669-1786F52F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A33-3B1F-45EE-B5A8-7658811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6048-198A-4206-8E50-FFDC6D1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3730-0884-4386-A7F0-D6A6579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66C4-A787-47E5-8366-3030902D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1F62-826B-4C37-BAB6-D279422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FE9D-834F-4438-BDAB-0AA6220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6386-3F36-4FD7-AF1F-A3D6D63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A2FB-7A80-429B-A8CA-6C03463D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239B-281A-4D09-8731-1A0502E6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BE75-9114-4A90-B141-F74B3B5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D6CF-9A33-4A17-B6C8-D0B7F7AE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F78-EC25-4E03-8E1B-78B563C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E35C-6BFD-451B-A4CC-5F0ABD1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8DAD-D8FA-4AED-A926-6EBDD52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58AD-1C33-4197-8F88-80174FC9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F753-C809-4E60-BFC5-F90E021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4499-6F04-4FDB-96F7-3EE957B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5193-47FD-4F49-94C8-F84195E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AA0E9-8ABD-45FF-8131-7796084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7D17-052E-4D7F-A57C-A01EF9C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5290-75D5-4B45-B7B2-24E0AD2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F904-C4C5-4DD6-BF43-B5446700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B6B-4BD4-42B1-883C-5A1AB599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DC8A-3BFF-47C6-A7A6-B71572FA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E6C9-A98E-4F62-95E1-BB9689D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EFB8-E374-4FF7-9783-7FA72A1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0D83-EDAD-468F-8CEF-4939F23E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2152-1A23-47F6-9442-B01AD968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0274-4B8E-4D44-AF46-73BFE489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B18C-E137-44DE-A84A-AA54079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2B9A-7754-439A-91E3-B66F1DD1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A90C-6172-4D73-828B-6F6133C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B79D-0536-4728-809A-C5D0B58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EDC-C982-4778-B487-1F0DB16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B22C-2743-4EA9-BAFF-AB1D2BD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E059-1E84-473F-B8C1-18E35A8F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5A1B5-89EC-417D-99EB-A8F957A5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9DFD-B3C7-4302-8CD4-DFF56EC4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2E47-C753-41DE-9C71-67501A7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9063-D12E-4E39-A21A-16FC0716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EFF7-0C86-425D-BA1B-97D18A9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DF19-DEB5-48F0-B6D3-FB8B83B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FB79-3FA4-4D89-8532-1EF02BC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7331-7C7B-4070-8239-4F4CFDC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D45-C8FA-4F3D-8849-D886586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3B118-9E83-4681-8CDA-503E6FB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D082-3091-4F66-A715-F913404C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17516-D4C6-42A9-8D6F-50658FE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3339-2DAF-484B-B7AA-38448B79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8C87-529C-4466-B953-1A894C60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499-85FE-4CFD-AA55-2D635264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EC57-2D89-450A-BB76-9C067E493F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73CB-52C3-419B-98E0-589D108D7C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EA28-C620-4109-B400-84301315E8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CAF-2D0D-4014-BD8E-23794F3193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802-6DE5-4B01-86ED-75B2E4FAA9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A5F-DC2A-4AE8-8DC1-94A3FA97CB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B185-8DC1-4BA5-90AA-5A2981DADF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654c"/>
                </a:solidFill>
                <a:latin typeface="Corbel"/>
              </a:rPr>
              <a:t>Лекции</a:t>
            </a:r>
            <a:r>
              <a:rPr b="0" lang="en-US" sz="40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en-US" sz="4000" spc="-1" strike="noStrike">
                <a:solidFill>
                  <a:srgbClr val="c0654c"/>
                </a:solidFill>
                <a:latin typeface="Times New Roman"/>
              </a:rPr>
              <a:t>6-</a:t>
            </a:r>
            <a:r>
              <a:rPr b="0" lang="ru-RU" sz="4000" spc="-1" strike="noStrike">
                <a:solidFill>
                  <a:srgbClr val="c0654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654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Сортиров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ортировка бинарными включения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нахождения места дл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 элемента можно использовать метод  бинарного  поиска  элемента в отсортированном массиве, в котором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м шаге выполняется ~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ен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сего будет произведено ~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ен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количество пересылок в этом методе не изменит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2314"/>
                </a:solidFill>
                <a:latin typeface="Corbel"/>
              </a:rPr>
              <a:t>Сортировка включениями с убывающим шагом. Метод Шелла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12536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ар, Флойд, Шел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алгоритмов сортировки, перемещающих в последовательности запись вправо или влево только на одну позицию, среднее время работы будет в лучшем случае пропорциональн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телось бы, чтобы записи перемещались «большими скачками, а не  короткими шажками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. Шелл предложил в 1959 г. метод, названный сортировко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 убывающим шаг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 работы сортировки Шелл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ервом проходе выделим в подпоследовательности элементы, отстоящие друг от друг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четыре позици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ные 4 последовательности отсортируем на месте независимо друг от друга методом простых включен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процесс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4-сортировкой.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6" name="Группа 50"/>
          <p:cNvGrpSpPr/>
          <p:nvPr/>
        </p:nvGrpSpPr>
        <p:grpSpPr>
          <a:xfrm>
            <a:off x="1857240" y="2285640"/>
            <a:ext cx="5523840" cy="1072080"/>
            <a:chOff x="1857240" y="2285640"/>
            <a:chExt cx="5523840" cy="1072080"/>
          </a:xfrm>
        </p:grpSpPr>
        <p:sp>
          <p:nvSpPr>
            <p:cNvPr id="357" name="TextBox 4"/>
            <p:cNvSpPr/>
            <p:nvPr/>
          </p:nvSpPr>
          <p:spPr>
            <a:xfrm>
              <a:off x="2067840" y="2643120"/>
              <a:ext cx="53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0654c"/>
                  </a:solidFill>
                  <a:latin typeface="Arial"/>
                </a:rPr>
                <a:t>4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1600" spc="-1" strike="noStrike">
                  <a:solidFill>
                    <a:srgbClr val="feb80a"/>
                  </a:solidFill>
                  <a:latin typeface="Arial"/>
                </a:rPr>
                <a:t>51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611617"/>
                  </a:solidFill>
                  <a:latin typeface="Arial"/>
                </a:rPr>
                <a:t>8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3b1d15"/>
                  </a:solidFill>
                  <a:latin typeface="Arial"/>
                </a:rPr>
                <a:t>38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c0654c"/>
                  </a:solidFill>
                  <a:latin typeface="Arial"/>
                </a:rPr>
                <a:t>90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feb80a"/>
                  </a:solidFill>
                  <a:latin typeface="Arial"/>
                </a:rPr>
                <a:t>14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611617"/>
                  </a:solidFill>
                  <a:latin typeface="Arial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3b1d15"/>
                  </a:solidFill>
                  <a:latin typeface="Arial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Группа 49"/>
            <p:cNvGrpSpPr/>
            <p:nvPr/>
          </p:nvGrpSpPr>
          <p:grpSpPr>
            <a:xfrm>
              <a:off x="1857240" y="2285640"/>
              <a:ext cx="5073480" cy="1072080"/>
              <a:chOff x="1857240" y="2285640"/>
              <a:chExt cx="5073480" cy="1072080"/>
            </a:xfrm>
          </p:grpSpPr>
          <p:sp>
            <p:nvSpPr>
              <p:cNvPr id="359" name="Прямая соединительная линия 6"/>
              <p:cNvSpPr/>
              <p:nvPr/>
            </p:nvSpPr>
            <p:spPr>
              <a:xfrm flipH="1">
                <a:off x="1857240" y="2928960"/>
                <a:ext cx="1440" cy="214200"/>
              </a:xfrm>
              <a:prstGeom prst="line">
                <a:avLst/>
              </a:prstGeom>
              <a:ln w="2556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Прямая соединительная линия 7"/>
              <p:cNvSpPr/>
              <p:nvPr/>
            </p:nvSpPr>
            <p:spPr>
              <a:xfrm>
                <a:off x="1858680" y="3143520"/>
                <a:ext cx="2927160" cy="0"/>
              </a:xfrm>
              <a:prstGeom prst="line">
                <a:avLst/>
              </a:prstGeom>
              <a:ln w="2556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Прямая соединительная линия 8"/>
              <p:cNvSpPr/>
              <p:nvPr/>
            </p:nvSpPr>
            <p:spPr>
              <a:xfrm flipH="1">
                <a:off x="4786200" y="2928960"/>
                <a:ext cx="1440" cy="214200"/>
              </a:xfrm>
              <a:prstGeom prst="line">
                <a:avLst/>
              </a:prstGeom>
              <a:ln w="2556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Прямая соединительная линия 9"/>
              <p:cNvSpPr/>
              <p:nvPr/>
            </p:nvSpPr>
            <p:spPr>
              <a:xfrm flipH="1">
                <a:off x="2714400" y="2928960"/>
                <a:ext cx="1440" cy="428760"/>
              </a:xfrm>
              <a:prstGeom prst="line">
                <a:avLst/>
              </a:prstGeom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Прямая соединительная линия 10"/>
              <p:cNvSpPr/>
              <p:nvPr/>
            </p:nvSpPr>
            <p:spPr>
              <a:xfrm>
                <a:off x="2715840" y="3357720"/>
                <a:ext cx="2855880" cy="0"/>
              </a:xfrm>
              <a:prstGeom prst="line">
                <a:avLst/>
              </a:prstGeom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Прямая соединительная линия 11"/>
              <p:cNvSpPr/>
              <p:nvPr/>
            </p:nvSpPr>
            <p:spPr>
              <a:xfrm flipH="1">
                <a:off x="5572080" y="2928960"/>
                <a:ext cx="1440" cy="428760"/>
              </a:xfrm>
              <a:prstGeom prst="line">
                <a:avLst/>
              </a:prstGeom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Прямая соединительная линия 12"/>
              <p:cNvSpPr/>
              <p:nvPr/>
            </p:nvSpPr>
            <p:spPr>
              <a:xfrm flipH="1">
                <a:off x="3357360" y="2428920"/>
                <a:ext cx="1440" cy="285840"/>
              </a:xfrm>
              <a:prstGeom prst="line">
                <a:avLst/>
              </a:prstGeom>
              <a:ln w="25560">
                <a:solidFill>
                  <a:srgbClr val="c32d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Прямая соединительная линия 13"/>
              <p:cNvSpPr/>
              <p:nvPr/>
            </p:nvSpPr>
            <p:spPr>
              <a:xfrm>
                <a:off x="3357360" y="2428920"/>
                <a:ext cx="2786040" cy="1440"/>
              </a:xfrm>
              <a:prstGeom prst="line">
                <a:avLst/>
              </a:prstGeom>
              <a:ln w="25560">
                <a:solidFill>
                  <a:srgbClr val="c32d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Прямая соединительная линия 14"/>
              <p:cNvSpPr/>
              <p:nvPr/>
            </p:nvSpPr>
            <p:spPr>
              <a:xfrm flipH="1">
                <a:off x="6143400" y="2428920"/>
                <a:ext cx="1440" cy="285840"/>
              </a:xfrm>
              <a:prstGeom prst="line">
                <a:avLst/>
              </a:prstGeom>
              <a:ln w="25560">
                <a:solidFill>
                  <a:srgbClr val="c32d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Прямая соединительная линия 15"/>
              <p:cNvSpPr/>
              <p:nvPr/>
            </p:nvSpPr>
            <p:spPr>
              <a:xfrm flipV="1">
                <a:off x="4071600" y="2285640"/>
                <a:ext cx="1440" cy="4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Прямая соединительная линия 16"/>
              <p:cNvSpPr/>
              <p:nvPr/>
            </p:nvSpPr>
            <p:spPr>
              <a:xfrm>
                <a:off x="4071600" y="2286000"/>
                <a:ext cx="28573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Прямая соединительная линия 17"/>
              <p:cNvSpPr/>
              <p:nvPr/>
            </p:nvSpPr>
            <p:spPr>
              <a:xfrm flipV="1">
                <a:off x="6929280" y="2285640"/>
                <a:ext cx="1440" cy="4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2314"/>
                </a:solidFill>
                <a:latin typeface="Corbel"/>
              </a:rPr>
              <a:t>Пример работы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ортировки</a:t>
            </a:r>
            <a:r>
              <a:rPr b="0" lang="ru-RU" sz="2700" spc="-1" strike="noStrike">
                <a:solidFill>
                  <a:srgbClr val="572314"/>
                </a:solidFill>
                <a:latin typeface="Corbel"/>
              </a:rPr>
              <a:t> Шелла, продолжение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42640" y="642960"/>
            <a:ext cx="7791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4-сортировки получим последователь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_______________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|                       |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            |                         |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0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14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38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9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51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|__________|__________|__________|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ледующем шаге элементы, отстоящие друг от друга на две позиции, объединяются в подпоследовательности и сортируются  простыми вставками независимо друг от друг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процесс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2-сортировк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2-сортировки получим последовательность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14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38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51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9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сортируют методом простых вставо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последнему шагу элементы довольно хорошо упорядочены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требуется мало перемещен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ный процесс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-сортировк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Выбор шага в сортировке Шелл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280" y="714240"/>
            <a:ext cx="83883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ртировке методом Шелла можно использовать любую убывающую последовательность шаг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,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выбрать некоторую хорошую последовательность шагов сортировки, нужно проанализировать время работы как функцию от этих шаг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сих пор не удалось найти наилучшую возможную последовательность шаго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больши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 примечательный факт, что элементы последовательностей приращений не должны быть кратны друг друг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яет на каждом проходе сортировки перемешивать цепочки,  которые ранее никак не взаимодействовал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ательно, чтобы взаимодействие между разными цепочками  происходило как можно чащ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н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, 121, 40, 13,  4, 1,  гд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,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, 31, 15,  7,  3,  1,    гд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1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= 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 эффективности метод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99640" y="98064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Утвержд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отсортированная последователь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сортируется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, то она остаетс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отсортированн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→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ждым следующим шагом сортировки с убывающим приращением количество отсортированных элементов в последовательности возрастает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следовательности шагов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, ..., 9, 5, 3, 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пересылок пропорциона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1.2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следовательности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1, ..., 15, 7, 3, 1 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1.2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следовательности (3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)/2, ..., 40, 13, 4, 1 —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ая оценка: величина порядка  </a:t>
            </a: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N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alibri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лгоритм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71360" y="713880"/>
            <a:ext cx="80722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тавка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— номер первого элемента последовательно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h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величина шаг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 процедуры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Пусть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– номер первого элемента в несортированной части массив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b + h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= A[i]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i – h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Все элементы из отсортированной части, больш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, сдвинуть на величину шаг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вправо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j+h] = A[j]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j – h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Элемент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поставить на свое место по порядку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i + h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роцедур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лгоритм, продолж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42640" y="785880"/>
            <a:ext cx="7791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Основ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Выбор начального шаг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3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3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Сортировк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по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 шагом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тавка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1) / 3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ортировка простым выбор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16000" y="836640"/>
            <a:ext cx="7499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тоды сортировки посредством выбора основаны на идее многократного выбор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 шаге выбирается наименьший элемент из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ходной последовательност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меняется местами с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им образом, после шаг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первом месте во входной последовательности будет находиться наименьший элемен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тем этот элемент перемещается из входной в готовую последовательност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выбора наименьшего элемента из входной последовательн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торяется до тех пор, пока в ней останется только один элемен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ллюстрируем этот метод на той же последовательн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51  8  38  90  14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6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м шаге находим наименьший элемент 2, обмениваем его с первым элементом 40 и перемещаем в готовую последовательность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38  90  14  40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38  90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40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14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3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90  51  40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14  38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9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51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14  38   40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5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90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14  38   40  51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9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 8  14  38   40  51  63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Задача сортировк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Задача сортировки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стоит в том, чтоб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порядочить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ъектов  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... ,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еставить их в такой последовательности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..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pN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тобы их ключи расположились в неубывающем порядк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&lt; ... &lt;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pN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4991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сужд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116000" y="836640"/>
            <a:ext cx="7499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ный метод в некотором смысле противоположен сортиров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ыми включения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ортировке простым выбором рассматриваются все элементы входной последовательности и для фиксированного места из нее выбирается наименьший элемент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не возникает необходимости "сдвига" участка массива, поскольку выбранный элемент вставляется всегда в конец готовой последовательности. Вытесняемый же элемент достаточно переставить на освободившееся место в несортированной входной ча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лгорит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71280" y="764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но разделить массив А на отсортированную и несортированную части. Сначала весь массив — это несортированная ча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икл п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шаг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номер первого элемента в несортированной части масси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Найти минимальный элемент в несортированной части массив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икл п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шаг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А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цик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Найденный минимальный элемент поменять местами 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первым элементом несортированной част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мен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Он будет последним элементом новой сортированн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части массив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цик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1001520" y="176040"/>
            <a:ext cx="7830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ort_by_selection(key a[], int N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 i,j,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=0; 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-1; i++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=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]) /*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хранит индекс текущего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      /*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ального элемент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!=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=a[i]; a[i]=a[k]; a[k]=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499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42560" y="76500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равнений 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м шаге не зависит от начального поряд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м шаге первый элемент сравнивается с остальны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ами, на втором шаге число сравнений будет —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 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число сравнений ес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=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+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+ ... + 1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1)/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е число пересыло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а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как 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ждом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ходе выполняется обмен найденного минимального элемента с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оятность того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й элемент уже стоит на месте, невелика, поэтому средняя оцен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а к максимально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, продолж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1600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видим, что число сравнений в методе выбора всегда равно максимальному числу сравнений в методе простых включений, в то время как число перемещений, наоборот, минимально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спомнить, что сравниваются ключи позиций, а перемещаются записи целиком, то метод выбора, экономящий число перемещений может на практике оказаться предпочтительн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499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ирамидальная сортиров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42640" y="928440"/>
            <a:ext cx="77914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ортировке методом простого выбора на каждом шаге выполняется линейный поиск минимального элемента. Линейная сложность этого поиска делает сложность всей сортировки квадратичн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озможно ли найти минимальный элемент за время лучшее линейного?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азывается, что это возможно, если использовать на каждом следующем шаге информацию о взаимных отношениях элементов, накопленную на предыдущих шага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я бинарного выбора может быть эффективно применена, если организовать входные данные в виде так называемой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пирамиды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л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балансированного бинарного дерева пои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 поддерживать их в этом виде в процессе сортиров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 сортировки с использованием такой пирамиды был предложен Р. У. Флойдом в 1964 г. под названи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p sort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пирамидальной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сортировки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сортировки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куче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4991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войство пирамид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16000" y="76500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дана последователь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образует пирамиду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последовательност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полнены следующие услов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пирамиду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 ≤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пирами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гда образуют тривиальные пирамиды, поскольку для них приведенные условия имеют ложные посыл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элемен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пирамиду, то и каждый элемент последовательности образует пирамид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м случае будем говорить, что вся последовательность является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полной пирамид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7862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олная пирамида при </a:t>
            </a: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n</a:t>
            </a:r>
            <a:r>
              <a:rPr b="0" i="1" lang="ru-RU" sz="28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=</a:t>
            </a:r>
            <a:r>
              <a:rPr b="0" lang="ru-RU" sz="2800" spc="-1" strike="noStrike">
                <a:solidFill>
                  <a:srgbClr val="572314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5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42640" y="713880"/>
            <a:ext cx="80010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ая пирамида может быть изображена в виде корневого бинарного дерева, в котором элемент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ыновьями элем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 в любом узле численно не меньше всех своих потомков,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шина полной пирамид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ит максимальный элемент вс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0" name="Group 33"/>
          <p:cNvGrpSpPr/>
          <p:nvPr/>
        </p:nvGrpSpPr>
        <p:grpSpPr>
          <a:xfrm>
            <a:off x="1835280" y="2781360"/>
            <a:ext cx="5357160" cy="3143160"/>
            <a:chOff x="1835280" y="2781360"/>
            <a:chExt cx="5357160" cy="3143160"/>
          </a:xfrm>
        </p:grpSpPr>
        <p:sp>
          <p:nvSpPr>
            <p:cNvPr id="401" name="Овал 3"/>
            <p:cNvSpPr/>
            <p:nvPr/>
          </p:nvSpPr>
          <p:spPr>
            <a:xfrm>
              <a:off x="4478400" y="278136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Овал 4"/>
            <p:cNvSpPr/>
            <p:nvPr/>
          </p:nvSpPr>
          <p:spPr>
            <a:xfrm>
              <a:off x="597852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Овал 5"/>
            <p:cNvSpPr/>
            <p:nvPr/>
          </p:nvSpPr>
          <p:spPr>
            <a:xfrm>
              <a:off x="547848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Овал 6"/>
            <p:cNvSpPr/>
            <p:nvPr/>
          </p:nvSpPr>
          <p:spPr>
            <a:xfrm>
              <a:off x="476388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Овал 7"/>
            <p:cNvSpPr/>
            <p:nvPr/>
          </p:nvSpPr>
          <p:spPr>
            <a:xfrm>
              <a:off x="419256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Овал 8"/>
            <p:cNvSpPr/>
            <p:nvPr/>
          </p:nvSpPr>
          <p:spPr>
            <a:xfrm>
              <a:off x="3477960" y="5567400"/>
              <a:ext cx="50004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9"/>
            <p:cNvSpPr/>
            <p:nvPr/>
          </p:nvSpPr>
          <p:spPr>
            <a:xfrm>
              <a:off x="262080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Овал 10"/>
            <p:cNvSpPr/>
            <p:nvPr/>
          </p:nvSpPr>
          <p:spPr>
            <a:xfrm>
              <a:off x="669276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Овал 11"/>
            <p:cNvSpPr/>
            <p:nvPr/>
          </p:nvSpPr>
          <p:spPr>
            <a:xfrm>
              <a:off x="1835280" y="556740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Овал 12"/>
            <p:cNvSpPr/>
            <p:nvPr/>
          </p:nvSpPr>
          <p:spPr>
            <a:xfrm>
              <a:off x="6335640" y="456732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Овал 13"/>
            <p:cNvSpPr/>
            <p:nvPr/>
          </p:nvSpPr>
          <p:spPr>
            <a:xfrm>
              <a:off x="5121360" y="456732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Овал 14"/>
            <p:cNvSpPr/>
            <p:nvPr/>
          </p:nvSpPr>
          <p:spPr>
            <a:xfrm>
              <a:off x="3835440" y="456732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Овал 15"/>
            <p:cNvSpPr/>
            <p:nvPr/>
          </p:nvSpPr>
          <p:spPr>
            <a:xfrm>
              <a:off x="2334960" y="4567320"/>
              <a:ext cx="50004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16"/>
            <p:cNvSpPr/>
            <p:nvPr/>
          </p:nvSpPr>
          <p:spPr>
            <a:xfrm>
              <a:off x="5621400" y="3709800"/>
              <a:ext cx="499680" cy="35748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17"/>
            <p:cNvSpPr/>
            <p:nvPr/>
          </p:nvSpPr>
          <p:spPr>
            <a:xfrm>
              <a:off x="3263760" y="3638520"/>
              <a:ext cx="49968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9"/>
            <p:cNvSpPr/>
            <p:nvPr/>
          </p:nvSpPr>
          <p:spPr>
            <a:xfrm flipH="1">
              <a:off x="2084400" y="4871880"/>
              <a:ext cx="32328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20"/>
            <p:cNvSpPr/>
            <p:nvPr/>
          </p:nvSpPr>
          <p:spPr>
            <a:xfrm flipH="1">
              <a:off x="3695400" y="3084480"/>
              <a:ext cx="860040" cy="6048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ая соединительная линия 21"/>
            <p:cNvSpPr/>
            <p:nvPr/>
          </p:nvSpPr>
          <p:spPr>
            <a:xfrm flipH="1">
              <a:off x="3727080" y="4871880"/>
              <a:ext cx="18036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22"/>
            <p:cNvSpPr/>
            <p:nvPr/>
          </p:nvSpPr>
          <p:spPr>
            <a:xfrm>
              <a:off x="2761560" y="4871880"/>
              <a:ext cx="10764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ая соединительная линия 23"/>
            <p:cNvSpPr/>
            <p:nvPr/>
          </p:nvSpPr>
          <p:spPr>
            <a:xfrm>
              <a:off x="4262400" y="4871880"/>
              <a:ext cx="18072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24"/>
            <p:cNvSpPr/>
            <p:nvPr/>
          </p:nvSpPr>
          <p:spPr>
            <a:xfrm flipH="1">
              <a:off x="2588760" y="3941640"/>
              <a:ext cx="752040" cy="6238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34"/>
            <p:cNvSpPr/>
            <p:nvPr/>
          </p:nvSpPr>
          <p:spPr>
            <a:xfrm>
              <a:off x="3692520" y="3943440"/>
              <a:ext cx="393120" cy="6238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37"/>
            <p:cNvSpPr/>
            <p:nvPr/>
          </p:nvSpPr>
          <p:spPr>
            <a:xfrm>
              <a:off x="6762600" y="4871880"/>
              <a:ext cx="18072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38"/>
            <p:cNvSpPr/>
            <p:nvPr/>
          </p:nvSpPr>
          <p:spPr>
            <a:xfrm>
              <a:off x="6048360" y="4014720"/>
              <a:ext cx="537840" cy="5526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39"/>
            <p:cNvSpPr/>
            <p:nvPr/>
          </p:nvSpPr>
          <p:spPr>
            <a:xfrm flipH="1">
              <a:off x="6224400" y="4876920"/>
              <a:ext cx="179280" cy="69516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40"/>
            <p:cNvSpPr/>
            <p:nvPr/>
          </p:nvSpPr>
          <p:spPr>
            <a:xfrm>
              <a:off x="5547600" y="4871880"/>
              <a:ext cx="180360" cy="6955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41"/>
            <p:cNvSpPr/>
            <p:nvPr/>
          </p:nvSpPr>
          <p:spPr>
            <a:xfrm flipH="1">
              <a:off x="5009760" y="4876920"/>
              <a:ext cx="178920" cy="69516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ая соединительная линия 42"/>
            <p:cNvSpPr/>
            <p:nvPr/>
          </p:nvSpPr>
          <p:spPr>
            <a:xfrm flipH="1">
              <a:off x="5371920" y="4014720"/>
              <a:ext cx="321840" cy="5526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43"/>
            <p:cNvSpPr/>
            <p:nvPr/>
          </p:nvSpPr>
          <p:spPr>
            <a:xfrm>
              <a:off x="4900680" y="3090960"/>
              <a:ext cx="788400" cy="6760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934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имер полной пирамиды при </a:t>
            </a: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n</a:t>
            </a:r>
            <a:r>
              <a:rPr b="0" i="1" lang="ru-RU" sz="28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=</a:t>
            </a:r>
            <a:r>
              <a:rPr b="0" lang="ru-RU" sz="2800" spc="-1" strike="noStrike">
                <a:solidFill>
                  <a:srgbClr val="572314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2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00000" y="475920"/>
            <a:ext cx="78631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число элементов в полной пирамиде не равно 2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й нижний уровень дерева будет неполным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ющих сыновей можно достроить, добавив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рамиду несколько заключительных «минимальных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ов 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, не нарушающих условия пирами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, упорядоченная по убыванию, являе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й пирамидой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последовательность из 12 элемент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, 11, 7, 8, 10, 6, 3, 2, 1, 5, 9, 4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ется полной пирамидой с вершиной 1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2" name="Group 33"/>
          <p:cNvGrpSpPr/>
          <p:nvPr/>
        </p:nvGrpSpPr>
        <p:grpSpPr>
          <a:xfrm>
            <a:off x="1979640" y="3645000"/>
            <a:ext cx="5357880" cy="2643120"/>
            <a:chOff x="1979640" y="3645000"/>
            <a:chExt cx="5357880" cy="2643120"/>
          </a:xfrm>
        </p:grpSpPr>
        <p:sp>
          <p:nvSpPr>
            <p:cNvPr id="433" name="Овал 3"/>
            <p:cNvSpPr/>
            <p:nvPr/>
          </p:nvSpPr>
          <p:spPr>
            <a:xfrm>
              <a:off x="4480200" y="3645000"/>
              <a:ext cx="50004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Овал 4"/>
            <p:cNvSpPr/>
            <p:nvPr/>
          </p:nvSpPr>
          <p:spPr>
            <a:xfrm>
              <a:off x="6123240" y="5859360"/>
              <a:ext cx="500040" cy="42876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Овал 5"/>
            <p:cNvSpPr/>
            <p:nvPr/>
          </p:nvSpPr>
          <p:spPr>
            <a:xfrm>
              <a:off x="5480280" y="578808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Овал 6"/>
            <p:cNvSpPr/>
            <p:nvPr/>
          </p:nvSpPr>
          <p:spPr>
            <a:xfrm>
              <a:off x="4765680" y="578808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Овал 7"/>
            <p:cNvSpPr/>
            <p:nvPr/>
          </p:nvSpPr>
          <p:spPr>
            <a:xfrm>
              <a:off x="4194360" y="578808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Овал 8"/>
            <p:cNvSpPr/>
            <p:nvPr/>
          </p:nvSpPr>
          <p:spPr>
            <a:xfrm>
              <a:off x="3479760" y="5788080"/>
              <a:ext cx="50040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9"/>
            <p:cNvSpPr/>
            <p:nvPr/>
          </p:nvSpPr>
          <p:spPr>
            <a:xfrm>
              <a:off x="2765520" y="578808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10"/>
            <p:cNvSpPr/>
            <p:nvPr/>
          </p:nvSpPr>
          <p:spPr>
            <a:xfrm>
              <a:off x="6837480" y="5859360"/>
              <a:ext cx="500040" cy="42876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11"/>
            <p:cNvSpPr/>
            <p:nvPr/>
          </p:nvSpPr>
          <p:spPr>
            <a:xfrm>
              <a:off x="1979640" y="578808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2"/>
            <p:cNvSpPr/>
            <p:nvPr/>
          </p:nvSpPr>
          <p:spPr>
            <a:xfrm>
              <a:off x="6408720" y="5002200"/>
              <a:ext cx="500040" cy="42876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3"/>
            <p:cNvSpPr/>
            <p:nvPr/>
          </p:nvSpPr>
          <p:spPr>
            <a:xfrm>
              <a:off x="5265720" y="5002200"/>
              <a:ext cx="500040" cy="42876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4"/>
            <p:cNvSpPr/>
            <p:nvPr/>
          </p:nvSpPr>
          <p:spPr>
            <a:xfrm>
              <a:off x="3837240" y="4930920"/>
              <a:ext cx="500040" cy="42840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5"/>
            <p:cNvSpPr/>
            <p:nvPr/>
          </p:nvSpPr>
          <p:spPr>
            <a:xfrm>
              <a:off x="2551320" y="4930920"/>
              <a:ext cx="50004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6"/>
            <p:cNvSpPr/>
            <p:nvPr/>
          </p:nvSpPr>
          <p:spPr>
            <a:xfrm>
              <a:off x="5694480" y="4073400"/>
              <a:ext cx="500040" cy="50004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Овал 17"/>
            <p:cNvSpPr/>
            <p:nvPr/>
          </p:nvSpPr>
          <p:spPr>
            <a:xfrm>
              <a:off x="3337200" y="4145040"/>
              <a:ext cx="500040" cy="357120"/>
            </a:xfrm>
            <a:prstGeom prst="ellipse">
              <a:avLst/>
            </a:prstGeom>
            <a:noFill/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8"/>
            <p:cNvSpPr/>
            <p:nvPr/>
          </p:nvSpPr>
          <p:spPr>
            <a:xfrm flipH="1">
              <a:off x="2227320" y="5235480"/>
              <a:ext cx="395280" cy="5526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9"/>
            <p:cNvSpPr/>
            <p:nvPr/>
          </p:nvSpPr>
          <p:spPr>
            <a:xfrm flipH="1">
              <a:off x="3763800" y="3949560"/>
              <a:ext cx="788760" cy="2476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20"/>
            <p:cNvSpPr/>
            <p:nvPr/>
          </p:nvSpPr>
          <p:spPr>
            <a:xfrm flipH="1">
              <a:off x="3729240" y="5295960"/>
              <a:ext cx="180720" cy="4921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21"/>
            <p:cNvSpPr/>
            <p:nvPr/>
          </p:nvSpPr>
          <p:spPr>
            <a:xfrm>
              <a:off x="2977560" y="5235480"/>
              <a:ext cx="36360" cy="55260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22"/>
            <p:cNvSpPr/>
            <p:nvPr/>
          </p:nvSpPr>
          <p:spPr>
            <a:xfrm>
              <a:off x="4263480" y="5295960"/>
              <a:ext cx="181080" cy="4921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23"/>
            <p:cNvSpPr/>
            <p:nvPr/>
          </p:nvSpPr>
          <p:spPr>
            <a:xfrm flipH="1">
              <a:off x="2800080" y="4449600"/>
              <a:ext cx="609480" cy="4813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24"/>
            <p:cNvSpPr/>
            <p:nvPr/>
          </p:nvSpPr>
          <p:spPr>
            <a:xfrm>
              <a:off x="3763440" y="4449600"/>
              <a:ext cx="322200" cy="4813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ая соединительная линия 25"/>
            <p:cNvSpPr/>
            <p:nvPr/>
          </p:nvSpPr>
          <p:spPr>
            <a:xfrm>
              <a:off x="6835320" y="5367240"/>
              <a:ext cx="252360" cy="4921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ая соединительная линия 26"/>
            <p:cNvSpPr/>
            <p:nvPr/>
          </p:nvSpPr>
          <p:spPr>
            <a:xfrm>
              <a:off x="6120720" y="4500360"/>
              <a:ext cx="538200" cy="5018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ая соединительная линия 27"/>
            <p:cNvSpPr/>
            <p:nvPr/>
          </p:nvSpPr>
          <p:spPr>
            <a:xfrm flipH="1">
              <a:off x="6373800" y="5367240"/>
              <a:ext cx="108000" cy="4921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28"/>
            <p:cNvSpPr/>
            <p:nvPr/>
          </p:nvSpPr>
          <p:spPr>
            <a:xfrm>
              <a:off x="5692320" y="5367240"/>
              <a:ext cx="37800" cy="4208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29"/>
            <p:cNvSpPr/>
            <p:nvPr/>
          </p:nvSpPr>
          <p:spPr>
            <a:xfrm flipH="1">
              <a:off x="5016240" y="5367240"/>
              <a:ext cx="322200" cy="4208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30"/>
            <p:cNvSpPr/>
            <p:nvPr/>
          </p:nvSpPr>
          <p:spPr>
            <a:xfrm flipH="1">
              <a:off x="5516280" y="4500360"/>
              <a:ext cx="250920" cy="5018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31"/>
            <p:cNvSpPr/>
            <p:nvPr/>
          </p:nvSpPr>
          <p:spPr>
            <a:xfrm>
              <a:off x="4907160" y="3949560"/>
              <a:ext cx="860400" cy="19692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я метода пирамидальной сортировк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755640" y="642960"/>
            <a:ext cx="8640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к сортировке: входная неупорядоченная последовательность перестраивается в пирами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ртировка: входная и готовая последовательности хранятся в одном массиве, причем готовая последовательность формируетс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хво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ива, а входная остается в начале масси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ой реализации метода является следующая процедура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просеи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в последова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образуют пирамиду. Требуется перестроить последовательность так, чтобы пирамиду образовывал элемен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ждой итерации цикла наибольший из трех элементо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утем обмена оказывается в корне текущего поддерева, что обеспечивает истинность условий пирамиды в этом корн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ри этом изменяется корень левого или правого поддерева, то просеивание продолжается для н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войство устойчивости сортиров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ртировка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orbel"/>
              </a:rPr>
              <a:t>устойчивой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она  удовлетворяет условию,  согласно которому записи с одинаковыми ключами остаются в прежнем  порядк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устойчивой сортировке относительный порядок элементов с одинаковыми ключами не мен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1179000" y="286560"/>
            <a:ext cx="6727320" cy="47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Просеять (</a:t>
            </a:r>
            <a:r>
              <a:rPr b="0" i="1" lang="en-US" sz="2400" spc="-1" strike="noStrike">
                <a:solidFill>
                  <a:srgbClr val="996633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996633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996633"/>
                </a:solidFill>
                <a:latin typeface="Times New Roman"/>
              </a:rPr>
              <a:t> n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кл      /* цикл просеива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ддеревья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 1 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нач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 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;      /* условие пирамиды 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о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меня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   /*просеять в левое поддерево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 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&gt; 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   /*просеять в правое, если оно есть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меня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 цик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остроение пирамид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71640" y="1125360"/>
            <a:ext cx="7719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52   81   42   23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76   91   63   37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2   81   42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   76   91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63   37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2   81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63   20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76   91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 37   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2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91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63  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76   42   23   37   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81   91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  20   </a:t>
            </a:r>
            <a:r>
              <a:rPr b="0" lang="en-US" sz="20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76   42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 37   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   81   76   63   20   52   42   23   37   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67" name="Прямая со стрелкой 3"/>
          <p:cNvCxnSpPr/>
          <p:nvPr/>
        </p:nvCxnSpPr>
        <p:spPr>
          <a:xfrm>
            <a:off x="4643280" y="2214720"/>
            <a:ext cx="228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68" name="Прямая со стрелкой 4"/>
          <p:cNvCxnSpPr/>
          <p:nvPr/>
        </p:nvCxnSpPr>
        <p:spPr>
          <a:xfrm>
            <a:off x="4286160" y="2571840"/>
            <a:ext cx="164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69" name="Прямая со стрелкой 5"/>
          <p:cNvCxnSpPr/>
          <p:nvPr/>
        </p:nvCxnSpPr>
        <p:spPr>
          <a:xfrm>
            <a:off x="3786120" y="29289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0" name="Прямая со стрелкой 6"/>
          <p:cNvCxnSpPr/>
          <p:nvPr/>
        </p:nvCxnSpPr>
        <p:spPr>
          <a:xfrm>
            <a:off x="3357720" y="33577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1" name="Прямая со стрелкой 7"/>
          <p:cNvCxnSpPr/>
          <p:nvPr/>
        </p:nvCxnSpPr>
        <p:spPr>
          <a:xfrm>
            <a:off x="3000240" y="3714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2" name="Прямая со стрелкой 8"/>
          <p:cNvCxnSpPr/>
          <p:nvPr/>
        </p:nvCxnSpPr>
        <p:spPr>
          <a:xfrm>
            <a:off x="3928680" y="371484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914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ортиров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0080" y="642960"/>
            <a:ext cx="7934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ждом шаге сортировки первый элемент масс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. е. максимальный элемент пирамиды, переносится в начало готовой последовательности путем обмена с последним элементом пирамиды, занимающим его место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м остаток входной последовательности вновь перестраивается в пирамиду, обеспечивая корректность следующего шаг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чал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го шага элемент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 предположению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ят входную последовательность как пирамиду, 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упорядоченную по возрастанию готовую последовательность (изначально пустую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м шаге текущий максимальный элемент пирамид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мениваетс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новясь началом новой готовой последовательности, где он будет новым минимальным элементом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ходная последовательность (пирамида) при этом претерпевает д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теряет последний элемент, что не нарушает условий пирамиды ни в одном узл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первый элемент становится произвольным, что может нарушать условие пирамиды только в первом уз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49952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ортировка, продолже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11600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для новой входной последовательн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 пирамиды выполнены для всех элементов, кроме первого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процедуры просеивания к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станавливает полную пирамиду 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что обеспечивает условия осуществимости следующего шаг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071720" y="135000"/>
          <a:ext cx="5786280" cy="672300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63320"/>
                <a:gridCol w="500040"/>
                <a:gridCol w="482760"/>
                <a:gridCol w="482400"/>
                <a:gridCol w="481320"/>
                <a:gridCol w="422280"/>
                <a:gridCol w="542880"/>
                <a:gridCol w="446040"/>
                <a:gridCol w="517320"/>
                <a:gridCol w="482760"/>
              </a:tblGrid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78" name="Прямая со стрелкой 81"/>
          <p:cNvCxnSpPr/>
          <p:nvPr/>
        </p:nvCxnSpPr>
        <p:spPr>
          <a:xfrm>
            <a:off x="2857680" y="1071720"/>
            <a:ext cx="100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9" name="Прямая соединительная линия 82"/>
          <p:cNvSpPr/>
          <p:nvPr/>
        </p:nvSpPr>
        <p:spPr>
          <a:xfrm>
            <a:off x="4500720" y="328608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Группа 70"/>
          <p:cNvGrpSpPr/>
          <p:nvPr/>
        </p:nvGrpSpPr>
        <p:grpSpPr>
          <a:xfrm>
            <a:off x="2214360" y="785880"/>
            <a:ext cx="4429440" cy="5715360"/>
            <a:chOff x="2214360" y="785880"/>
            <a:chExt cx="4429440" cy="5715360"/>
          </a:xfrm>
        </p:grpSpPr>
        <p:cxnSp>
          <p:nvCxnSpPr>
            <p:cNvPr id="481" name="Прямая со стрелкой 84"/>
            <p:cNvCxnSpPr/>
            <p:nvPr/>
          </p:nvCxnSpPr>
          <p:spPr>
            <a:xfrm>
              <a:off x="2214360" y="785880"/>
              <a:ext cx="44298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82" name="Прямая со стрелкой 85"/>
            <p:cNvCxnSpPr/>
            <p:nvPr/>
          </p:nvCxnSpPr>
          <p:spPr>
            <a:xfrm>
              <a:off x="2287080" y="1071360"/>
              <a:ext cx="2912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83" name="Прямая со стрелкой 86"/>
            <p:cNvCxnSpPr/>
            <p:nvPr/>
          </p:nvCxnSpPr>
          <p:spPr>
            <a:xfrm>
              <a:off x="3738600" y="1143000"/>
              <a:ext cx="2180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84" name="Прямая соединительная линия 87"/>
            <p:cNvSpPr/>
            <p:nvPr/>
          </p:nvSpPr>
          <p:spPr>
            <a:xfrm>
              <a:off x="2649600" y="107136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88"/>
            <p:cNvSpPr/>
            <p:nvPr/>
          </p:nvSpPr>
          <p:spPr>
            <a:xfrm>
              <a:off x="5627880" y="107136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6" name="Прямая со стрелкой 89"/>
            <p:cNvCxnSpPr/>
            <p:nvPr/>
          </p:nvCxnSpPr>
          <p:spPr>
            <a:xfrm>
              <a:off x="2214720" y="1500120"/>
              <a:ext cx="4066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87" name="Прямая со стрелкой 90"/>
            <p:cNvCxnSpPr/>
            <p:nvPr/>
          </p:nvCxnSpPr>
          <p:spPr>
            <a:xfrm>
              <a:off x="2287080" y="1857240"/>
              <a:ext cx="943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88" name="Прямая со стрелкой 91"/>
            <p:cNvCxnSpPr/>
            <p:nvPr/>
          </p:nvCxnSpPr>
          <p:spPr>
            <a:xfrm>
              <a:off x="3230280" y="1857240"/>
              <a:ext cx="1453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89" name="Прямая соединительная линия 92"/>
            <p:cNvSpPr/>
            <p:nvPr/>
          </p:nvSpPr>
          <p:spPr>
            <a:xfrm>
              <a:off x="2649600" y="178596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93"/>
            <p:cNvSpPr/>
            <p:nvPr/>
          </p:nvSpPr>
          <p:spPr>
            <a:xfrm>
              <a:off x="4610160" y="178596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Прямая со стрелкой 94"/>
            <p:cNvCxnSpPr/>
            <p:nvPr/>
          </p:nvCxnSpPr>
          <p:spPr>
            <a:xfrm>
              <a:off x="2287080" y="2214360"/>
              <a:ext cx="34124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2" name="Прямая со стрелкой 95"/>
            <p:cNvCxnSpPr/>
            <p:nvPr/>
          </p:nvCxnSpPr>
          <p:spPr>
            <a:xfrm>
              <a:off x="2214720" y="2571840"/>
              <a:ext cx="5814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3" name="Прямая со стрелкой 96"/>
            <p:cNvCxnSpPr/>
            <p:nvPr/>
          </p:nvCxnSpPr>
          <p:spPr>
            <a:xfrm>
              <a:off x="3230280" y="2571840"/>
              <a:ext cx="508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94" name="Прямая соединительная линия 97"/>
            <p:cNvSpPr/>
            <p:nvPr/>
          </p:nvSpPr>
          <p:spPr>
            <a:xfrm>
              <a:off x="2649600" y="250020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98"/>
            <p:cNvSpPr/>
            <p:nvPr/>
          </p:nvSpPr>
          <p:spPr>
            <a:xfrm>
              <a:off x="3667320" y="250020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Прямая со стрелкой 99"/>
            <p:cNvCxnSpPr/>
            <p:nvPr/>
          </p:nvCxnSpPr>
          <p:spPr>
            <a:xfrm>
              <a:off x="2214720" y="2928960"/>
              <a:ext cx="29055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7" name="Прямая со стрелкой 100"/>
            <p:cNvCxnSpPr/>
            <p:nvPr/>
          </p:nvCxnSpPr>
          <p:spPr>
            <a:xfrm>
              <a:off x="2214720" y="3286080"/>
              <a:ext cx="1016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8" name="Прямая со стрелкой 101"/>
            <p:cNvCxnSpPr/>
            <p:nvPr/>
          </p:nvCxnSpPr>
          <p:spPr>
            <a:xfrm>
              <a:off x="2214720" y="3641760"/>
              <a:ext cx="2396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99" name="Прямая соединительная линия 102"/>
            <p:cNvSpPr/>
            <p:nvPr/>
          </p:nvSpPr>
          <p:spPr>
            <a:xfrm>
              <a:off x="2649600" y="3927600"/>
              <a:ext cx="65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Прямая со стрелкой 103"/>
            <p:cNvCxnSpPr/>
            <p:nvPr/>
          </p:nvCxnSpPr>
          <p:spPr>
            <a:xfrm>
              <a:off x="2214720" y="4000680"/>
              <a:ext cx="799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01" name="Прямая со стрелкой 104"/>
            <p:cNvCxnSpPr/>
            <p:nvPr/>
          </p:nvCxnSpPr>
          <p:spPr>
            <a:xfrm>
              <a:off x="2285640" y="4357800"/>
              <a:ext cx="1888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02" name="Прямая соединительная линия 105"/>
            <p:cNvSpPr/>
            <p:nvPr/>
          </p:nvSpPr>
          <p:spPr>
            <a:xfrm>
              <a:off x="2577960" y="4641840"/>
              <a:ext cx="72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Прямая со стрелкой 106"/>
            <p:cNvCxnSpPr/>
            <p:nvPr/>
          </p:nvCxnSpPr>
          <p:spPr>
            <a:xfrm>
              <a:off x="2214360" y="5070600"/>
              <a:ext cx="1524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04" name="Прямая соединительная линия 107"/>
            <p:cNvSpPr/>
            <p:nvPr/>
          </p:nvSpPr>
          <p:spPr>
            <a:xfrm>
              <a:off x="2577960" y="5356440"/>
              <a:ext cx="72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Прямая со стрелкой 108"/>
            <p:cNvCxnSpPr/>
            <p:nvPr/>
          </p:nvCxnSpPr>
          <p:spPr>
            <a:xfrm>
              <a:off x="2214720" y="5785200"/>
              <a:ext cx="1016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06" name="Прямая соединительная линия 109"/>
            <p:cNvSpPr/>
            <p:nvPr/>
          </p:nvSpPr>
          <p:spPr>
            <a:xfrm>
              <a:off x="2577960" y="6070680"/>
              <a:ext cx="21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Прямая со стрелкой 110"/>
            <p:cNvCxnSpPr/>
            <p:nvPr/>
          </p:nvCxnSpPr>
          <p:spPr>
            <a:xfrm>
              <a:off x="2287080" y="6499440"/>
              <a:ext cx="362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508" name="Группа 99"/>
          <p:cNvGrpSpPr/>
          <p:nvPr/>
        </p:nvGrpSpPr>
        <p:grpSpPr>
          <a:xfrm>
            <a:off x="2427120" y="571680"/>
            <a:ext cx="3861000" cy="6287760"/>
            <a:chOff x="2427120" y="571680"/>
            <a:chExt cx="3861000" cy="6287760"/>
          </a:xfrm>
        </p:grpSpPr>
        <p:sp>
          <p:nvSpPr>
            <p:cNvPr id="509" name="Прямая соединительная линия 112"/>
            <p:cNvSpPr/>
            <p:nvPr/>
          </p:nvSpPr>
          <p:spPr>
            <a:xfrm flipH="1">
              <a:off x="6286680" y="571680"/>
              <a:ext cx="14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Прямая соединительная линия 113"/>
            <p:cNvSpPr/>
            <p:nvPr/>
          </p:nvSpPr>
          <p:spPr>
            <a:xfrm flipH="1">
              <a:off x="6286680" y="1143000"/>
              <a:ext cx="14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Прямая соединительная линия 114"/>
            <p:cNvSpPr/>
            <p:nvPr/>
          </p:nvSpPr>
          <p:spPr>
            <a:xfrm flipH="1">
              <a:off x="4929120" y="3357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Прямая соединительная линия 115"/>
            <p:cNvSpPr/>
            <p:nvPr/>
          </p:nvSpPr>
          <p:spPr>
            <a:xfrm flipH="1">
              <a:off x="4929120" y="300024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116"/>
            <p:cNvSpPr/>
            <p:nvPr/>
          </p:nvSpPr>
          <p:spPr>
            <a:xfrm flipH="1">
              <a:off x="5357880" y="22860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Прямая соединительная линия 117"/>
            <p:cNvSpPr/>
            <p:nvPr/>
          </p:nvSpPr>
          <p:spPr>
            <a:xfrm flipH="1">
              <a:off x="5357880" y="26431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Прямая соединительная линия 118"/>
            <p:cNvSpPr/>
            <p:nvPr/>
          </p:nvSpPr>
          <p:spPr>
            <a:xfrm flipH="1">
              <a:off x="5857920" y="157176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119"/>
            <p:cNvSpPr/>
            <p:nvPr/>
          </p:nvSpPr>
          <p:spPr>
            <a:xfrm flipH="1">
              <a:off x="5857920" y="192888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120"/>
            <p:cNvSpPr/>
            <p:nvPr/>
          </p:nvSpPr>
          <p:spPr>
            <a:xfrm flipH="1">
              <a:off x="4429080" y="371484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121"/>
            <p:cNvSpPr/>
            <p:nvPr/>
          </p:nvSpPr>
          <p:spPr>
            <a:xfrm flipH="1">
              <a:off x="4429080" y="414324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122"/>
            <p:cNvSpPr/>
            <p:nvPr/>
          </p:nvSpPr>
          <p:spPr>
            <a:xfrm flipV="1">
              <a:off x="4000320" y="47858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23"/>
            <p:cNvSpPr/>
            <p:nvPr/>
          </p:nvSpPr>
          <p:spPr>
            <a:xfrm flipH="1">
              <a:off x="4000320" y="442908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Прямая соединительная линия 124"/>
            <p:cNvSpPr/>
            <p:nvPr/>
          </p:nvSpPr>
          <p:spPr>
            <a:xfrm flipH="1">
              <a:off x="3536640" y="513576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Прямая соединительная линия 125"/>
            <p:cNvSpPr/>
            <p:nvPr/>
          </p:nvSpPr>
          <p:spPr>
            <a:xfrm flipH="1">
              <a:off x="3536640" y="551016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Прямая соединительная линия 126"/>
            <p:cNvSpPr/>
            <p:nvPr/>
          </p:nvSpPr>
          <p:spPr>
            <a:xfrm flipH="1">
              <a:off x="3019320" y="58849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127"/>
            <p:cNvSpPr/>
            <p:nvPr/>
          </p:nvSpPr>
          <p:spPr>
            <a:xfrm flipH="1">
              <a:off x="3019320" y="625968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128"/>
            <p:cNvSpPr/>
            <p:nvPr/>
          </p:nvSpPr>
          <p:spPr>
            <a:xfrm flipH="1">
              <a:off x="2427120" y="6573960"/>
              <a:ext cx="1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Группа 139"/>
          <p:cNvGrpSpPr/>
          <p:nvPr/>
        </p:nvGrpSpPr>
        <p:grpSpPr>
          <a:xfrm>
            <a:off x="7076520" y="571680"/>
            <a:ext cx="1352880" cy="1980000"/>
            <a:chOff x="7076520" y="571680"/>
            <a:chExt cx="1352880" cy="1980000"/>
          </a:xfrm>
        </p:grpSpPr>
        <p:grpSp>
          <p:nvGrpSpPr>
            <p:cNvPr id="527" name="Группа 110"/>
            <p:cNvGrpSpPr/>
            <p:nvPr/>
          </p:nvGrpSpPr>
          <p:grpSpPr>
            <a:xfrm>
              <a:off x="7076520" y="571680"/>
              <a:ext cx="1352880" cy="623160"/>
              <a:chOff x="7076520" y="571680"/>
              <a:chExt cx="1352880" cy="623160"/>
            </a:xfrm>
          </p:grpSpPr>
          <p:sp>
            <p:nvSpPr>
              <p:cNvPr id="528" name="TextBox 101"/>
              <p:cNvSpPr/>
              <p:nvPr/>
            </p:nvSpPr>
            <p:spPr>
              <a:xfrm>
                <a:off x="7156080" y="85752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Box 102"/>
              <p:cNvSpPr/>
              <p:nvPr/>
            </p:nvSpPr>
            <p:spPr>
              <a:xfrm>
                <a:off x="7076520" y="57168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Группа 111"/>
            <p:cNvGrpSpPr/>
            <p:nvPr/>
          </p:nvGrpSpPr>
          <p:grpSpPr>
            <a:xfrm>
              <a:off x="7076520" y="1214280"/>
              <a:ext cx="1352880" cy="623160"/>
              <a:chOff x="7076520" y="1214280"/>
              <a:chExt cx="1352880" cy="623160"/>
            </a:xfrm>
          </p:grpSpPr>
          <p:sp>
            <p:nvSpPr>
              <p:cNvPr id="531" name="TextBox 112"/>
              <p:cNvSpPr/>
              <p:nvPr/>
            </p:nvSpPr>
            <p:spPr>
              <a:xfrm>
                <a:off x="7156080" y="150012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Box 113"/>
              <p:cNvSpPr/>
              <p:nvPr/>
            </p:nvSpPr>
            <p:spPr>
              <a:xfrm>
                <a:off x="7076520" y="121428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Группа 114"/>
            <p:cNvGrpSpPr/>
            <p:nvPr/>
          </p:nvGrpSpPr>
          <p:grpSpPr>
            <a:xfrm>
              <a:off x="7076520" y="1928520"/>
              <a:ext cx="1352880" cy="623160"/>
              <a:chOff x="7076520" y="1928520"/>
              <a:chExt cx="1352880" cy="623160"/>
            </a:xfrm>
          </p:grpSpPr>
          <p:sp>
            <p:nvSpPr>
              <p:cNvPr id="534" name="TextBox 115"/>
              <p:cNvSpPr/>
              <p:nvPr/>
            </p:nvSpPr>
            <p:spPr>
              <a:xfrm>
                <a:off x="7156080" y="221436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Box 116"/>
              <p:cNvSpPr/>
              <p:nvPr/>
            </p:nvSpPr>
            <p:spPr>
              <a:xfrm>
                <a:off x="7076520" y="192852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Группа 140"/>
          <p:cNvGrpSpPr/>
          <p:nvPr/>
        </p:nvGrpSpPr>
        <p:grpSpPr>
          <a:xfrm>
            <a:off x="7005240" y="4786200"/>
            <a:ext cx="1352880" cy="1605240"/>
            <a:chOff x="7005240" y="4786200"/>
            <a:chExt cx="1352880" cy="1605240"/>
          </a:xfrm>
        </p:grpSpPr>
        <p:grpSp>
          <p:nvGrpSpPr>
            <p:cNvPr id="537" name="Группа 110"/>
            <p:cNvGrpSpPr/>
            <p:nvPr/>
          </p:nvGrpSpPr>
          <p:grpSpPr>
            <a:xfrm>
              <a:off x="7005240" y="4786200"/>
              <a:ext cx="1352880" cy="623160"/>
              <a:chOff x="7005240" y="4786200"/>
              <a:chExt cx="1352880" cy="623160"/>
            </a:xfrm>
          </p:grpSpPr>
          <p:sp>
            <p:nvSpPr>
              <p:cNvPr id="538" name="TextBox 148"/>
              <p:cNvSpPr/>
              <p:nvPr/>
            </p:nvSpPr>
            <p:spPr>
              <a:xfrm>
                <a:off x="7084800" y="507204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Box 149"/>
              <p:cNvSpPr/>
              <p:nvPr/>
            </p:nvSpPr>
            <p:spPr>
              <a:xfrm>
                <a:off x="7005240" y="478620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Группа 111"/>
            <p:cNvGrpSpPr/>
            <p:nvPr/>
          </p:nvGrpSpPr>
          <p:grpSpPr>
            <a:xfrm>
              <a:off x="7005240" y="5429520"/>
              <a:ext cx="1352880" cy="623160"/>
              <a:chOff x="7005240" y="5429520"/>
              <a:chExt cx="1352880" cy="623160"/>
            </a:xfrm>
          </p:grpSpPr>
          <p:sp>
            <p:nvSpPr>
              <p:cNvPr id="541" name="TextBox 146"/>
              <p:cNvSpPr/>
              <p:nvPr/>
            </p:nvSpPr>
            <p:spPr>
              <a:xfrm>
                <a:off x="7084800" y="571536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Box 147"/>
              <p:cNvSpPr/>
              <p:nvPr/>
            </p:nvSpPr>
            <p:spPr>
              <a:xfrm>
                <a:off x="7005240" y="542952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TextBox 145"/>
            <p:cNvSpPr/>
            <p:nvPr/>
          </p:nvSpPr>
          <p:spPr>
            <a:xfrm>
              <a:off x="7005240" y="605412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м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Группа 160"/>
          <p:cNvGrpSpPr/>
          <p:nvPr/>
        </p:nvGrpSpPr>
        <p:grpSpPr>
          <a:xfrm>
            <a:off x="7076520" y="2714760"/>
            <a:ext cx="1352880" cy="1980000"/>
            <a:chOff x="7076520" y="2714760"/>
            <a:chExt cx="1352880" cy="1980000"/>
          </a:xfrm>
        </p:grpSpPr>
        <p:grpSp>
          <p:nvGrpSpPr>
            <p:cNvPr id="545" name="Группа 110"/>
            <p:cNvGrpSpPr/>
            <p:nvPr/>
          </p:nvGrpSpPr>
          <p:grpSpPr>
            <a:xfrm>
              <a:off x="7076520" y="2714760"/>
              <a:ext cx="1352880" cy="623160"/>
              <a:chOff x="7076520" y="2714760"/>
              <a:chExt cx="1352880" cy="623160"/>
            </a:xfrm>
          </p:grpSpPr>
          <p:sp>
            <p:nvSpPr>
              <p:cNvPr id="546" name="TextBox 168"/>
              <p:cNvSpPr/>
              <p:nvPr/>
            </p:nvSpPr>
            <p:spPr>
              <a:xfrm>
                <a:off x="7156080" y="300060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Box 169"/>
              <p:cNvSpPr/>
              <p:nvPr/>
            </p:nvSpPr>
            <p:spPr>
              <a:xfrm>
                <a:off x="7076520" y="271476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Группа 111"/>
            <p:cNvGrpSpPr/>
            <p:nvPr/>
          </p:nvGrpSpPr>
          <p:grpSpPr>
            <a:xfrm>
              <a:off x="7076520" y="3357360"/>
              <a:ext cx="1352880" cy="623160"/>
              <a:chOff x="7076520" y="3357360"/>
              <a:chExt cx="1352880" cy="623160"/>
            </a:xfrm>
          </p:grpSpPr>
          <p:sp>
            <p:nvSpPr>
              <p:cNvPr id="549" name="TextBox 166"/>
              <p:cNvSpPr/>
              <p:nvPr/>
            </p:nvSpPr>
            <p:spPr>
              <a:xfrm>
                <a:off x="7156080" y="364320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Box 167"/>
              <p:cNvSpPr/>
              <p:nvPr/>
            </p:nvSpPr>
            <p:spPr>
              <a:xfrm>
                <a:off x="7076520" y="335736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Группа 114"/>
            <p:cNvGrpSpPr/>
            <p:nvPr/>
          </p:nvGrpSpPr>
          <p:grpSpPr>
            <a:xfrm>
              <a:off x="7076520" y="4071600"/>
              <a:ext cx="1352880" cy="623160"/>
              <a:chOff x="7076520" y="4071600"/>
              <a:chExt cx="1352880" cy="623160"/>
            </a:xfrm>
          </p:grpSpPr>
          <p:sp>
            <p:nvSpPr>
              <p:cNvPr id="552" name="TextBox 164"/>
              <p:cNvSpPr/>
              <p:nvPr/>
            </p:nvSpPr>
            <p:spPr>
              <a:xfrm>
                <a:off x="7156080" y="4357440"/>
                <a:ext cx="127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сеивани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Box 165"/>
              <p:cNvSpPr/>
              <p:nvPr/>
            </p:nvSpPr>
            <p:spPr>
              <a:xfrm>
                <a:off x="7076520" y="4071600"/>
                <a:ext cx="71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ме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1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лгорит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00080" y="785880"/>
            <a:ext cx="79344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Просеивание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– номер элемента, который нужно просе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– номер последнего элемента массив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 процедур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2*i &lt;= 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2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r+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A[r] &lt; A[r+1]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r + 1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-тый элемент массива ставится на то место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где он удовлетворяет свойству пирами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[i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max(A[2*i], A[2*i + 1]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[i] &lt; A[r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r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 выход из процедуры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роцедур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Алгоритм, продолже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71360" y="928440"/>
            <a:ext cx="78627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Основ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Шаг 1.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Построение пирами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 2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еивание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i –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Шаг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 2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ртировка на пирамид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N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1, i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i –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еивание (1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конец основной программ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9144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ift(key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, int i, int n) {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1, r, k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t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(l=2*i)&lt;= n)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 = (l+1 &lt;= n)? l+1 : i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(a[i-1]&gt;=a[l-l])&amp;&amp;(a[i-l]&gt;=a[r-l])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 = (a[l-1]&gt;= a[r-l]) ? 1 : r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 = a[i-l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-l] = a[k-l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k-l] = t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k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042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heap_sort(key a[], int N) {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t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N/2; i &gt;= 0; i--)   /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одготов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ft (a, i, N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N-l; i &gt; 0; i--) {  /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ртиров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= a[0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0] = a[i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t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ft (a, 0, i);        /*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сеивани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499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899640" y="836280"/>
            <a:ext cx="79930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Число итераций цикла в процедуре просеивания не превосходит высоты пирамид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Высота полного бинарного дерева из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узлов, каковым является пирамида, равна [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]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Просеивание имеет логарифмическую слож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Итоговая сложность пирамидальной сортировки ~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Наилучший случай – обратное упорядочение входн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49952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96633"/>
                </a:solidFill>
                <a:latin typeface="Corbel"/>
              </a:rPr>
              <a:t>Виды сортировок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85716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тоды сортировки обычно разделяют на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две категории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внутреннюю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ртировку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массивов и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внешнюю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сортировку фай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тоды сортировки можно разбить на несколько основных классов в зависимости от лежащего в их основе приема сортиров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ключ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ор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мен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счета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дел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ия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ортировка простым обменом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16000" y="9079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 основан на принципе сравнения и обмена пар соседних элемент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м шаге сравним последний и предпоследний элементы, если они не упорядочены, поменяем их места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 проделаем то же со вторым и третьим элементами от конца массива, третьим и четвертым и т. д. до первого и второго с начала массив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выполнении этой последовательности операций меньшие элементы в каждой паре продвинутся влево, наименьший займет первое место в массив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им этот же процесс о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го до 2-го элемента, потом о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го до 3-го и т. 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й проход по массиву приводит к «всплыванию» наименьшего элемента из входной последовательности 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сто в готовую последова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991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258560" y="764640"/>
            <a:ext cx="74991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сортировки обменами покажем на примере все той же последовательности, состоящей из восьми ключей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0  51   8   38  90  14  2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40   51   8  38  90 14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40  51 14  38 90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40  51 38 63 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40 51 63 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2     8   14  38  4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1 63 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2     8   14  38  40 5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3 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2     8   14  38  40 51 6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лгоритм (метод пузырька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187280" y="836280"/>
            <a:ext cx="7499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по i от 2 до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 шагом 1 выполнять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/ проход от конца массива к начал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по j от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 шагом -1 выполня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/ если два рядом стоящих элемента нарушаю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/ порядок по возрастанию, то их поменять мес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–1]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–1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116000" y="980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сравнени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ходе равн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- 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приводит к уже известному выражению дл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+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+  ...  + 1 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∙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1)/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нимальное количество пересылок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масси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упорядочен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та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сли массив упорядочен по убывани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лучшение метода пузырька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26560" y="69192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Нередко случается, что последние проходы сортировки  простым обменом работают «вхолостую», так как элементы уже упорядочен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ин из способов улучшения алгоритма сортировки пузырьком состоит в том, чтобы запомнить, производился ли на очередном проходе какой-либо обмен. Если ни одного обмена не было, то алгоритм может закончить работ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Асимметрия метода: один неправильно расположенный «пузырек» на «тяжелом» конце почти отсортированного массива «всплывет» на место за один проход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      14        38        40        51        63        90       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авильно расположенный «камень» на «легком» конце будет «опускаться» на правильное место только только по одному шажку на каждом проход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        2         8        14        40        51      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2" name="Группа 15"/>
          <p:cNvGrpSpPr/>
          <p:nvPr/>
        </p:nvGrpSpPr>
        <p:grpSpPr>
          <a:xfrm>
            <a:off x="1116000" y="3789000"/>
            <a:ext cx="5073840" cy="286200"/>
            <a:chOff x="1116000" y="3789000"/>
            <a:chExt cx="5073840" cy="286200"/>
          </a:xfrm>
        </p:grpSpPr>
        <p:sp>
          <p:nvSpPr>
            <p:cNvPr id="573" name="Прямая соединительная линия 4"/>
            <p:cNvSpPr/>
            <p:nvPr/>
          </p:nvSpPr>
          <p:spPr>
            <a:xfrm flipH="1">
              <a:off x="6188400" y="3824280"/>
              <a:ext cx="144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Прямая соединительная линия 5"/>
            <p:cNvSpPr/>
            <p:nvPr/>
          </p:nvSpPr>
          <p:spPr>
            <a:xfrm flipH="1" flipV="1">
              <a:off x="1117440" y="4073760"/>
              <a:ext cx="5070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5" name="Прямая со стрелкой 6"/>
            <p:cNvCxnSpPr/>
            <p:nvPr/>
          </p:nvCxnSpPr>
          <p:spPr>
            <a:xfrm flipV="1">
              <a:off x="1116000" y="3789000"/>
              <a:ext cx="216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Группа 28"/>
          <p:cNvGrpSpPr/>
          <p:nvPr/>
        </p:nvGrpSpPr>
        <p:grpSpPr>
          <a:xfrm>
            <a:off x="1332000" y="5733360"/>
            <a:ext cx="4788000" cy="572040"/>
            <a:chOff x="1332000" y="5733360"/>
            <a:chExt cx="4788000" cy="572040"/>
          </a:xfrm>
        </p:grpSpPr>
        <p:sp>
          <p:nvSpPr>
            <p:cNvPr id="577" name="Прямая соединительная линия 8"/>
            <p:cNvSpPr/>
            <p:nvPr/>
          </p:nvSpPr>
          <p:spPr>
            <a:xfrm flipH="1">
              <a:off x="1332000" y="5878440"/>
              <a:ext cx="144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Прямая соединительная линия 9"/>
            <p:cNvSpPr/>
            <p:nvPr/>
          </p:nvSpPr>
          <p:spPr>
            <a:xfrm>
              <a:off x="1333440" y="6305400"/>
              <a:ext cx="47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Прямая со стрелкой 10"/>
            <p:cNvCxnSpPr/>
            <p:nvPr/>
          </p:nvCxnSpPr>
          <p:spPr>
            <a:xfrm flipV="1">
              <a:off x="6118200" y="5733360"/>
              <a:ext cx="2160" cy="57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0" name="Прямая со стрелкой 11"/>
            <p:cNvCxnSpPr/>
            <p:nvPr/>
          </p:nvCxnSpPr>
          <p:spPr>
            <a:xfrm flipV="1">
              <a:off x="5403960" y="57333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Прямая со стрелкой 12"/>
            <p:cNvCxnSpPr/>
            <p:nvPr/>
          </p:nvCxnSpPr>
          <p:spPr>
            <a:xfrm flipV="1">
              <a:off x="4618080" y="57333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2" name="Прямая со стрелкой 13"/>
            <p:cNvCxnSpPr/>
            <p:nvPr/>
          </p:nvCxnSpPr>
          <p:spPr>
            <a:xfrm flipV="1">
              <a:off x="3903480" y="57333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3" name="Прямая со стрелкой 14"/>
            <p:cNvCxnSpPr/>
            <p:nvPr/>
          </p:nvCxnSpPr>
          <p:spPr>
            <a:xfrm flipV="1">
              <a:off x="3189240" y="57333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Прямая со стрелкой 15"/>
            <p:cNvCxnSpPr/>
            <p:nvPr/>
          </p:nvCxnSpPr>
          <p:spPr>
            <a:xfrm flipV="1">
              <a:off x="2547720" y="57333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Шейкер-сортировка (алгоритм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928800" y="713880"/>
            <a:ext cx="82152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логическая переменная, принимающая истинное значение, если во время прохода по массиву были обмены двух рядом стоящих элементов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левая граница несортированной части массива, 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ее правая гран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ти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выполнять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ложь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Проход по массиву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 начала к концу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[i] &gt; A[i + 1]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переставить два рядом стоящих элемента, нарушающие порядок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);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ти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Сдвинуть правую границу влево на одну позицию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1;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934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Шейкер-сортировка (продолжение алгоритма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71360" y="928800"/>
            <a:ext cx="7862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Если были обмены во время предыдущего проход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совершить проход по массиву от конца к начал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ложь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righ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&gt; left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[i] &lt; A[i – 1]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переставить рядом стоящие элементы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нарушающие порядок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i, i–1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ти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Сдвинуть левую границу вправо на одну позици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Цикл повторять до тех пор, пок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не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останется равной значению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лож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грамм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600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haker_sort (key a[], int N)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, k, l, r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fl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x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= 0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k = N-l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 = 1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 = r; j &gt; 1; j--) {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j-1] &gt; a[j]) {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 = 0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a[j-l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;  /* позиция пузырька 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5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5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5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5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5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5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5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5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должение программ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980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 = k+1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fl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 = 1+1; j&lt;=r; j++) {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j-l] &gt; a[j]) {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   /* позиция камня 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k-1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(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 &amp;&amp; !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Анализ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71640" y="691920"/>
            <a:ext cx="76485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 N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нут показал, что среднее число сравнений пропорциональн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N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все предложенные улучшения не влияют на число обмен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амом деле, каждый обмен уменьшает число инверсий в массиве на 1, следовательно, при любом алгоритме, основанном на обмене пар соседних элементов, число необходимых перестановок одинаково и равно числу инверсий в массив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ртировка обменом и ее улучшенная сортировка хуже, чем сортиров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ями и выборо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ейкер-сортировку выгодно использовать тогда, когда масси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рядоче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Сортировка включением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71360" y="928440"/>
            <a:ext cx="78627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м условно все элементы массива 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е последовательности: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ходную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 , 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готову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... , 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которой уже отсортирован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лгоритмах, основанных на методе включения, на каждо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м  шаг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й элемент входной  последовательности вставляется в подходящее место готов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ртировка простыми включениями наиболее очевидн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2 &lt;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. 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уже отсортиров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...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ем сравнивать по очеред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 тех пор, пока не обнаружим, что элемен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вставить межд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0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элемента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этого или в процессе поиска подвинем запис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одно место вправо и переместим запис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позици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ортировка методом подсче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26920" y="907560"/>
            <a:ext cx="807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ортировке подсчетом каждый элемент поочередно сравнивается со всеми остальными и подсчитывается количество элементов, которые меньше его. Это число (+1) определяет позицию элемента в отсортированной последовательности при условии, что все элементы различн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ейшая реализация этого метода требует  дополнительного массива, в котором накапливаются отсортированные элементы. Это связано с тем, что в данном методе входная последовательность не сокращается по мере обработки элемен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Алгоритм (на одном массиве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71360" y="428400"/>
            <a:ext cx="8072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Условно разделить масси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на отсортированную и несортированную части. Пу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– номер первого элемента в несортированной части масси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&l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Посчитать количество элементов в массиве, меньш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-го элемента и записать это число в переменную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п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 шагом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&gt; A[j]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-й элемент стоит на своем месте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увеличить сортированную часть на 1 элеме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вычислить позицию, куда нужно поставить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-й элемент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r] = A[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олня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r+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поменять его местами с тем элементом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/ который в этой позиции находитс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r, i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по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ортировка с разделением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Быстрая сортировка Ч. Э. Р. Хоар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258560" y="1196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 метод сортировки, при котором обмениваются местами пары несоседних элементов, а задача сортировки последовательности рекурсивно сводится к задачам сортировки ее меньших час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устим сначала, что мы уже переупорядочили некоторым образом элементы входной последовательности, после чего оказалось возможным разделить ее на две непустые части по границе некоторого индекс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вую (индекс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ую (индекс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ем значения всех элементов левой части не превосходят значений всех элементов правой част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полнено: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овем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медиано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934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ортировка разделением, идея алгорит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28800" y="713880"/>
            <a:ext cx="821520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ортируем любым методом обмена отдельно левую часть, не затрагивая элементов правой части, а затем отдельно правую, не трогая лево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обмениваться могут только пары элементов, находящиеся в одной части, поэтому никакой обмен не нарушает свойство (*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ит, оно будет верно и для результирующей последовательности, которая в силу этого оказывается упорядоченной в цел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ртировкаРазделением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границы сортируемой подпоследова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Разделение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сти подпоследовательность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…,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а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 условию (*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определить медиану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Рекурсивный спуск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части длины 0 и 1 не сортируе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ртировкаРазделением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части длины 0 и 1 не сортируе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ртировкаРазделением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ется, что в процессе дробления исходной задачи на подзадачи мы приходим к тривиальным подзадач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ртиров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ей длины 0 и 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ходится ничего делать и для слияния решений подзадач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исходной задачи во время возврата из рекурсии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рядоченные последовательности образуются сами собой по ме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рядочения их час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же тогда фактически выполняется сортиров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фазе разделения, иллюстрируя, как хорошая подготовка условий д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я зачастую уже и дает решение!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честве критерия разделения нам понадобится так называемы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пилотируем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лассической версии алгоритма в качеств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рается произвольны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 сортируемой последовательности: первый, последний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ложенный в середине или инач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ияние его выбора 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сть алгоритма мы обсудим ниж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разделения мы соберем в левой части последова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элемент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правой — все элемент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и этом будет выполнено даже при возможном налич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инаковых элементо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еих част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м два бегущих индекса-указател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е делят разделяемую подпоследовательность на три участка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вый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ый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..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ий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евом и правом участках будут накапливаться элементы левой и правой частей, подлежащих затем рекурсивной сортировке, а в среднем находятся остальные, еще не распределенные элемен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995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цесс разделе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71360" y="999720"/>
            <a:ext cx="80722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х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проверк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не нужна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где-т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есть */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1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 в конце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х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х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икл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проверк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j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&gt;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не нужна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есть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в конце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х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 цикл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≤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о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если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нужен сдвиг индекс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для выхода из цикла */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ять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  теперь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х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на случай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: добавить в левую часть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/*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на случай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= х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добавить в правую часть */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ка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Комментарии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1360" y="999720"/>
            <a:ext cx="786276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ы по встречным индексам переносят из средней части в левую или правую элементы, строго меньшие или больши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е могут быть добавлены в эти части без перестанов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их выполнения процесс разделения либо заканчивае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с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бо пар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инверсию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следнем случае их следует обменять и включить в левую и правую ча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здесь и происходят упорядочивающие обмены с уменьшением числа инверсий в последовательности!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1116000" y="691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а того, что бегущие индексы не выходят за границ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го говоря, необходима, но фактически не нужна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м проходе выход за границы немозможен, так как в массиве есть сам элемен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ба цикла остановятся на не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онце же первого прохода происходит обмен элементов и обе части становятся не пусты, что гарантирует остановку циклов по встречным индексам в пределах интервал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а следующих проход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187280" y="620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оканчивается пр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нам еще надо определить медиан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ные границы левой части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й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+ 1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интервал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н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ожден и заполнен элемента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чему?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 элементы останутся на своих местах в процесс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ртировки (почему?), поэтому их можно исключить и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вой и правой час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нчательно границами левой части можно счита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 правой –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Пример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92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сортировки включениями покажем на приме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и, состоящей из восьми ключей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8   38  90  14  2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38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  14  2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40  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3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  14  2  63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38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9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  2  63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38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   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| 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2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14  38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   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|  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2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14  38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   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|  </a:t>
            </a:r>
            <a:r>
              <a:rPr b="0" lang="ru-RU" sz="2000" spc="-1" strike="noStrike">
                <a:solidFill>
                  <a:srgbClr val="feb80a"/>
                </a:solidFill>
                <a:latin typeface="Calibri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2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8  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14  38  </a:t>
            </a:r>
            <a:r>
              <a:rPr b="0" lang="ru-RU" sz="2000" spc="-1" strike="noStrike">
                <a:solidFill>
                  <a:srgbClr val="3891a7"/>
                </a:solidFill>
                <a:latin typeface="Calibri"/>
              </a:rPr>
              <a:t>40  51</a:t>
            </a:r>
            <a:r>
              <a:rPr b="0" lang="en-US" sz="2000" spc="-1" strike="noStrike">
                <a:solidFill>
                  <a:srgbClr val="3891a7"/>
                </a:solidFill>
                <a:latin typeface="Calibri"/>
              </a:rPr>
              <a:t>   63  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цесс разделения, пример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928440" y="1142640"/>
            <a:ext cx="8072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деление:  40    51    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8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89    1    15   6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чало: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               x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j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вый проход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                                j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Сбли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8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89    1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6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проход: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                     j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Сбли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м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                    j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1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8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89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Третий проход: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Сближение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Обм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8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89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Четвертый проход: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Сближение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613" name="Прямая со стрелкой 4"/>
          <p:cNvCxnSpPr/>
          <p:nvPr/>
        </p:nvCxnSpPr>
        <p:spPr>
          <a:xfrm>
            <a:off x="4572000" y="5295600"/>
            <a:ext cx="15184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4" name="Прямая со стрелкой 5"/>
          <p:cNvCxnSpPr/>
          <p:nvPr/>
        </p:nvCxnSpPr>
        <p:spPr>
          <a:xfrm flipH="1" flipV="1">
            <a:off x="4500000" y="5428440"/>
            <a:ext cx="1626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15" name="Группа 25"/>
          <p:cNvGrpSpPr/>
          <p:nvPr/>
        </p:nvGrpSpPr>
        <p:grpSpPr>
          <a:xfrm>
            <a:off x="2999880" y="2500200"/>
            <a:ext cx="4501440" cy="125640"/>
            <a:chOff x="2999880" y="2500200"/>
            <a:chExt cx="4501440" cy="125640"/>
          </a:xfrm>
        </p:grpSpPr>
        <p:cxnSp>
          <p:nvCxnSpPr>
            <p:cNvPr id="616" name="Прямая со стрелкой 10"/>
            <p:cNvCxnSpPr/>
            <p:nvPr/>
          </p:nvCxnSpPr>
          <p:spPr>
            <a:xfrm>
              <a:off x="3125520" y="2500200"/>
              <a:ext cx="43761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7" name="Прямая со стрелкой 11"/>
            <p:cNvCxnSpPr/>
            <p:nvPr/>
          </p:nvCxnSpPr>
          <p:spPr>
            <a:xfrm flipH="1" flipV="1">
              <a:off x="2999880" y="2622600"/>
              <a:ext cx="45014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18" name="Группа 26"/>
          <p:cNvGrpSpPr/>
          <p:nvPr/>
        </p:nvGrpSpPr>
        <p:grpSpPr>
          <a:xfrm>
            <a:off x="3785400" y="3999960"/>
            <a:ext cx="3143880" cy="145440"/>
            <a:chOff x="3785400" y="3999960"/>
            <a:chExt cx="3143880" cy="145440"/>
          </a:xfrm>
        </p:grpSpPr>
        <p:cxnSp>
          <p:nvCxnSpPr>
            <p:cNvPr id="619" name="Прямая со стрелкой 8"/>
            <p:cNvCxnSpPr/>
            <p:nvPr/>
          </p:nvCxnSpPr>
          <p:spPr>
            <a:xfrm>
              <a:off x="3785760" y="4143600"/>
              <a:ext cx="314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0" name="Прямая со стрелкой 9"/>
            <p:cNvCxnSpPr/>
            <p:nvPr/>
          </p:nvCxnSpPr>
          <p:spPr>
            <a:xfrm flipH="1" flipV="1">
              <a:off x="3785400" y="3999960"/>
              <a:ext cx="307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21" name="Line 12"/>
          <p:cNvSpPr/>
          <p:nvPr/>
        </p:nvSpPr>
        <p:spPr>
          <a:xfrm flipH="1">
            <a:off x="4859280" y="602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3"/>
          <p:cNvSpPr/>
          <p:nvPr/>
        </p:nvSpPr>
        <p:spPr>
          <a:xfrm>
            <a:off x="5508720" y="602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56"/>
          <p:cNvGrpSpPr/>
          <p:nvPr/>
        </p:nvGrpSpPr>
        <p:grpSpPr>
          <a:xfrm>
            <a:off x="0" y="357120"/>
            <a:ext cx="8543880" cy="5196600"/>
            <a:chOff x="0" y="357120"/>
            <a:chExt cx="8543880" cy="5196600"/>
          </a:xfrm>
        </p:grpSpPr>
        <p:sp>
          <p:nvSpPr>
            <p:cNvPr id="624" name="TextBox 2"/>
            <p:cNvSpPr/>
            <p:nvPr/>
          </p:nvSpPr>
          <p:spPr>
            <a:xfrm>
              <a:off x="2301480" y="357120"/>
              <a:ext cx="5018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lain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        8          38          89          51          40          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"/>
            <p:cNvSpPr/>
            <p:nvPr/>
          </p:nvSpPr>
          <p:spPr>
            <a:xfrm>
              <a:off x="0" y="1285920"/>
              <a:ext cx="3500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задачи:       15     1    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    15    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4"/>
            <p:cNvSpPr/>
            <p:nvPr/>
          </p:nvSpPr>
          <p:spPr>
            <a:xfrm>
              <a:off x="5557680" y="1071720"/>
              <a:ext cx="249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9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1     40     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     51     89     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5"/>
            <p:cNvSpPr/>
            <p:nvPr/>
          </p:nvSpPr>
          <p:spPr>
            <a:xfrm>
              <a:off x="142560" y="3286800"/>
              <a:ext cx="3786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задачи: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    8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     15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7"/>
            <p:cNvSpPr/>
            <p:nvPr/>
          </p:nvSpPr>
          <p:spPr>
            <a:xfrm>
              <a:off x="4928760" y="3215520"/>
              <a:ext cx="361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9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3     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8"/>
            <p:cNvSpPr/>
            <p:nvPr/>
          </p:nvSpPr>
          <p:spPr>
            <a:xfrm>
              <a:off x="71280" y="5216400"/>
              <a:ext cx="84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зультат:  1          8        15                           38              40           51                      63        89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Прямая соединительная линия 13"/>
            <p:cNvSpPr/>
            <p:nvPr/>
          </p:nvSpPr>
          <p:spPr>
            <a:xfrm>
              <a:off x="3928320" y="928440"/>
              <a:ext cx="3636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Прямая соединительная линия 19"/>
            <p:cNvSpPr/>
            <p:nvPr/>
          </p:nvSpPr>
          <p:spPr>
            <a:xfrm flipH="1">
              <a:off x="2071080" y="714240"/>
              <a:ext cx="5713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рямая соединительная линия 21"/>
            <p:cNvSpPr/>
            <p:nvPr/>
          </p:nvSpPr>
          <p:spPr>
            <a:xfrm>
              <a:off x="6143760" y="642600"/>
              <a:ext cx="6616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23"/>
            <p:cNvSpPr/>
            <p:nvPr/>
          </p:nvSpPr>
          <p:spPr>
            <a:xfrm>
              <a:off x="1999440" y="2143080"/>
              <a:ext cx="34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Прямая соединительная линия 25"/>
            <p:cNvSpPr/>
            <p:nvPr/>
          </p:nvSpPr>
          <p:spPr>
            <a:xfrm>
              <a:off x="1285920" y="2143080"/>
              <a:ext cx="0" cy="12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Прямая соединительная линия 27"/>
            <p:cNvSpPr/>
            <p:nvPr/>
          </p:nvSpPr>
          <p:spPr>
            <a:xfrm>
              <a:off x="1714320" y="4214880"/>
              <a:ext cx="89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Прямая соединительная линия 30"/>
            <p:cNvSpPr/>
            <p:nvPr/>
          </p:nvSpPr>
          <p:spPr>
            <a:xfrm flipH="1">
              <a:off x="1285920" y="3502080"/>
              <a:ext cx="1440" cy="15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Прямая соединительная линия 32"/>
            <p:cNvSpPr/>
            <p:nvPr/>
          </p:nvSpPr>
          <p:spPr>
            <a:xfrm flipH="1">
              <a:off x="1857240" y="4500720"/>
              <a:ext cx="14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Прямая соединительная линия 33"/>
            <p:cNvSpPr/>
            <p:nvPr/>
          </p:nvSpPr>
          <p:spPr>
            <a:xfrm flipH="1">
              <a:off x="2357280" y="4572360"/>
              <a:ext cx="14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Прямая соединительная линия 39"/>
            <p:cNvSpPr/>
            <p:nvPr/>
          </p:nvSpPr>
          <p:spPr>
            <a:xfrm flipH="1">
              <a:off x="5214960" y="2000160"/>
              <a:ext cx="78552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Прямая соединительная линия 41"/>
            <p:cNvSpPr/>
            <p:nvPr/>
          </p:nvSpPr>
          <p:spPr>
            <a:xfrm>
              <a:off x="7143840" y="2071800"/>
              <a:ext cx="14256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Прямая соединительная линия 43"/>
            <p:cNvSpPr/>
            <p:nvPr/>
          </p:nvSpPr>
          <p:spPr>
            <a:xfrm>
              <a:off x="5000760" y="3571920"/>
              <a:ext cx="285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47"/>
            <p:cNvSpPr/>
            <p:nvPr/>
          </p:nvSpPr>
          <p:spPr>
            <a:xfrm>
              <a:off x="6858000" y="4071960"/>
              <a:ext cx="89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54"/>
            <p:cNvSpPr/>
            <p:nvPr/>
          </p:nvSpPr>
          <p:spPr>
            <a:xfrm flipH="1">
              <a:off x="6929640" y="4286520"/>
              <a:ext cx="14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ая соединительная линия 55"/>
            <p:cNvSpPr/>
            <p:nvPr/>
          </p:nvSpPr>
          <p:spPr>
            <a:xfrm flipH="1">
              <a:off x="7572600" y="4286520"/>
              <a:ext cx="14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58"/>
          <p:cNvSpPr/>
          <p:nvPr/>
        </p:nvSpPr>
        <p:spPr>
          <a:xfrm>
            <a:off x="3422520" y="60930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42"/>
          <p:cNvSpPr/>
          <p:nvPr/>
        </p:nvSpPr>
        <p:spPr>
          <a:xfrm flipH="1">
            <a:off x="5643720" y="1928880"/>
            <a:ext cx="7142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грамм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49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quicksort(key a[], int 1, int r) {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 x, w; int i, j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1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 = r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a[(l+r)/2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a[i] &lt; x) i++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x &lt; a[j]) j--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i &lt;= j) {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a[i]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a[j] 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j] = w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; j--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i&lt;j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&lt;j) quicksort (a,l,j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i&lt;r) quicksort (a,i,r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1" dur="indefinite" restart="never" nodeType="tmRoot">
          <p:childTnLst>
            <p:seq>
              <p:cTn id="2332" dur="indefinite" nodeType="mainSeq">
                <p:childTnLst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6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6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6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6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6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6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6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6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6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6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6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6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6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6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Анализ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71360" y="928440"/>
            <a:ext cx="78627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у разбиения подвергается весь массив, следовательно  выполняетс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ен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обмен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сть после разделени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ет  занимать в массиве позици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требующихся обменов равно числу элементов в левой части массив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, умноженному на вероятность того, что элемент нужно обменя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 обменивается, если он не меньше, ч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оятность этого рав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1))/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Анализ, продолже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187280" y="1196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уммируем всевозможные варианты выбора медианы и разделим эту сумму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получим ожидаемое число обменов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емое число обменов равно приблизительн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6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лучшем случае 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ждое разделение разбивает массив на две равные части,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а число проходов, необходимых для сортировки, равно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log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rbe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Тогда общее число сравнений равно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log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rbe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N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53" name="Object 6"/>
          <p:cNvGraphicFramePr/>
          <p:nvPr/>
        </p:nvGraphicFramePr>
        <p:xfrm>
          <a:off x="1692360" y="2421000"/>
          <a:ext cx="5715000" cy="9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50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499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Анализ, продолже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187280" y="1125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в худшем случае сортировка становится  «медленной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когда в качестве пилотируемого элемента всегда выбирается наибольшее значение. Тогда в результате разбиения в левой части ок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элемент,  т. е. массив разбивается на подмассивы из одного элемента 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элемент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м случае вме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биений необходимо сделать ~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биен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в худшем случае оценка оказывается ~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гораздо хуже пирамидальной сортиров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1" dur="indefinite" restart="never" nodeType="tmRoot">
          <p:childTnLst>
            <p:seq>
              <p:cTn id="2462" dur="indefinite" nodeType="mainSeq">
                <p:childTnLst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еоре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8571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В любом алгоритме, упорядочивающем с помощь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сравнений пар, на упорядочение последовательности из 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N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элементов тратится не меньше 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с </a:t>
            </a:r>
            <a:r>
              <a:rPr b="0" i="1" lang="ru-RU" sz="20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 N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</a:rPr>
              <a:t>log</a:t>
            </a:r>
            <a:r>
              <a:rPr b="0" i="1" lang="ru-RU" sz="2000" spc="-1" strike="noStrike" baseline="-25000">
                <a:solidFill>
                  <a:srgbClr val="0000ff"/>
                </a:solidFill>
                <a:latin typeface="Corbel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сравнен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при 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&gt; 0,  </a:t>
            </a:r>
            <a:r>
              <a:rPr b="0" i="1" lang="en-US" sz="2000" spc="-1" strike="noStrike">
                <a:solidFill>
                  <a:srgbClr val="0000ff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Symbol"/>
                <a:ea typeface="Symbol"/>
              </a:rPr>
              <a:t>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Об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заданной последовательности из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лементов мож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ть построено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! перестановок. Алгоритм сортировк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станавливающий путем сравнения пар, какая из эти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становок является единственно правильным решением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актически осуществляет спуск по так называемому </a:t>
            </a: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дерев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orbel"/>
              </a:rPr>
              <a:t>решений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двоичному дереву, листьями которого являю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шения, а узлами — условия, позволяющие сузить выбо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91440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рево решений для последовательности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, 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6624720" cy="41040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5"/>
          <p:cNvSpPr/>
          <p:nvPr/>
        </p:nvSpPr>
        <p:spPr>
          <a:xfrm>
            <a:off x="1000080" y="57168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й последовательности можно построить 6 различных перестанов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являются листьями в представленном дереве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91440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чи сортировки в дереве решений должно бы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ев. Значит, высота дерева решений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равен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608360" cy="75096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6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6480360" cy="792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9"/>
          <p:cNvSpPr/>
          <p:nvPr/>
        </p:nvSpPr>
        <p:spPr>
          <a:xfrm>
            <a:off x="1143000" y="27147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заключение теоремы, 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"/>
          <p:cNvSpPr/>
          <p:nvPr/>
        </p:nvSpPr>
        <p:spPr>
          <a:xfrm>
            <a:off x="1071720" y="4478760"/>
            <a:ext cx="83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личество сравнений, которые необходимо сделать, что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любую из перестановок примера, не меньше 2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2.5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Алгоритм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42640" y="642600"/>
            <a:ext cx="7791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но разделить масси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тсортированную и несортированную части. К сортированной части сначала относится только первый элемен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икл п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шаг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номер первого элемента в несортированной част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сси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[i]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1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Все элементы из отсортированной части, большие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че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сдвинуть на одну позицию вправ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0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j+1] := A[j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1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п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// Элемен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поставить на свое место по порядк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j+1] = x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ец цикл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934920" y="511200"/>
            <a:ext cx="8209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urier New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ort_by_insertion(key a[], int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key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, j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l; 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a[i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=i-1;(j&gt;=0) &amp;&amp; (x&lt;a[j]); j-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]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4991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Анализ алгоритма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785880"/>
            <a:ext cx="74995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м шаге максимально возможное число сравнений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о внутреннем цикле ра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редположить, что все перестановк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ючей равновероятны, число сравнений в среднем равн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ичества пересылок 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м шаге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о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го шаго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овательно, количество сравнений и пересылок в худшем и лучшем случаях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4160" indent="-43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1571760" y="3929040"/>
          <a:ext cx="4000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3929040"/>
                    <a:ext cx="4000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"/>
          <p:cNvGraphicFramePr/>
          <p:nvPr/>
        </p:nvGraphicFramePr>
        <p:xfrm>
          <a:off x="1571760" y="4714920"/>
          <a:ext cx="157140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4714920"/>
                    <a:ext cx="15714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1571760" y="5286240"/>
          <a:ext cx="2143080" cy="4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5286240"/>
                    <a:ext cx="21430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7"/>
          <p:cNvGraphicFramePr/>
          <p:nvPr/>
        </p:nvGraphicFramePr>
        <p:xfrm>
          <a:off x="1571760" y="5643720"/>
          <a:ext cx="441792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5643720"/>
                    <a:ext cx="4417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1:25:02Z</dcterms:created>
  <dc:creator>Lena</dc:creator>
  <dc:description/>
  <dc:language>en-US</dc:language>
  <cp:lastModifiedBy>Tatyana Churina</cp:lastModifiedBy>
  <dcterms:modified xsi:type="dcterms:W3CDTF">2010-11-10T09:08:01Z</dcterms:modified>
  <cp:revision>185</cp:revision>
  <dc:subject/>
  <dc:title>Открытая всесибирская олимпиада по программированию  им. И.В. Поттосина </dc:title>
</cp:coreProperties>
</file>