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FCB-C174-4C28-9E1A-E5F40C81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A7A-D187-489A-A089-0DFC906C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86D-51AB-4012-A720-83D90E58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4DA-019B-4E27-9AD2-6D64B48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5A3-E422-4DF0-8C2B-79830B8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E86-F8CE-4A4C-8BCF-F4609B4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0A6-D41F-449B-A089-B0BB439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55B-DC17-43E8-9947-F3344D2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FE1-9215-40CC-BDEB-92057DB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15F-A1E1-40D0-A25A-F8FDB35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735-31CD-4FCA-8AF2-7D78C3F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052-620D-41F3-A4A5-4CBB4C9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8D3-0F1C-4C14-997B-03554DA3D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nfastat.com/uploads/posts/2008-11/1225889885_ta.gif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обхода графов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касы граф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</a:t>
            </a: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6000" y="285840"/>
            <a:ext cx="68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Использование стека для обхода гра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128480" y="880920"/>
            <a:ext cx="430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качестве промежуточной структур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нения при обходе использовать стек, т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м обход в глуб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755640" y="1557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016000" y="1052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311640" y="1557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2016000" y="213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3311640" y="2673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016000" y="3357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755640" y="2708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755640" y="393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12"/>
          <p:cNvCxnSpPr>
            <a:stCxn id="121" idx="7"/>
            <a:endCxn id="122" idx="2"/>
          </p:cNvCxnSpPr>
          <p:nvPr/>
        </p:nvCxnSpPr>
        <p:spPr>
          <a:xfrm flipV="1">
            <a:off x="1063440" y="1232640"/>
            <a:ext cx="95292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0" name="AutoShape 13"/>
          <p:cNvCxnSpPr>
            <a:stCxn id="122" idx="6"/>
            <a:endCxn id="123" idx="1"/>
          </p:cNvCxnSpPr>
          <p:nvPr/>
        </p:nvCxnSpPr>
        <p:spPr>
          <a:xfrm>
            <a:off x="2376000" y="1233000"/>
            <a:ext cx="98820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1" name="AutoShape 14"/>
          <p:cNvCxnSpPr>
            <a:stCxn id="122" idx="4"/>
            <a:endCxn id="124" idx="0"/>
          </p:cNvCxnSpPr>
          <p:nvPr/>
        </p:nvCxnSpPr>
        <p:spPr>
          <a:xfrm>
            <a:off x="2196720" y="1413000"/>
            <a:ext cx="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2" name="AutoShape 15"/>
          <p:cNvCxnSpPr>
            <a:stCxn id="124" idx="7"/>
            <a:endCxn id="123" idx="3"/>
          </p:cNvCxnSpPr>
          <p:nvPr/>
        </p:nvCxnSpPr>
        <p:spPr>
          <a:xfrm flipV="1">
            <a:off x="2324160" y="1864440"/>
            <a:ext cx="1040400" cy="321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3" name="AutoShape 16"/>
          <p:cNvCxnSpPr>
            <a:stCxn id="121" idx="5"/>
            <a:endCxn id="124" idx="2"/>
          </p:cNvCxnSpPr>
          <p:nvPr/>
        </p:nvCxnSpPr>
        <p:spPr>
          <a:xfrm>
            <a:off x="1063440" y="1865160"/>
            <a:ext cx="952920" cy="450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4" name="AutoShape 17"/>
          <p:cNvCxnSpPr>
            <a:stCxn id="124" idx="5"/>
            <a:endCxn id="125" idx="1"/>
          </p:cNvCxnSpPr>
          <p:nvPr/>
        </p:nvCxnSpPr>
        <p:spPr>
          <a:xfrm>
            <a:off x="2324160" y="2441160"/>
            <a:ext cx="1040400" cy="284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5" name="AutoShape 18"/>
          <p:cNvCxnSpPr>
            <a:stCxn id="125" idx="3"/>
            <a:endCxn id="126" idx="7"/>
          </p:cNvCxnSpPr>
          <p:nvPr/>
        </p:nvCxnSpPr>
        <p:spPr>
          <a:xfrm flipH="1">
            <a:off x="2323800" y="2980800"/>
            <a:ext cx="104040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6" name="AutoShape 19"/>
          <p:cNvCxnSpPr>
            <a:stCxn id="121" idx="4"/>
            <a:endCxn id="127" idx="0"/>
          </p:cNvCxnSpPr>
          <p:nvPr/>
        </p:nvCxnSpPr>
        <p:spPr>
          <a:xfrm>
            <a:off x="936360" y="1917720"/>
            <a:ext cx="1080" cy="791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7" name="AutoShape 20"/>
          <p:cNvCxnSpPr>
            <a:stCxn id="127" idx="4"/>
            <a:endCxn id="128" idx="0"/>
          </p:cNvCxnSpPr>
          <p:nvPr/>
        </p:nvCxnSpPr>
        <p:spPr>
          <a:xfrm>
            <a:off x="936360" y="3068280"/>
            <a:ext cx="108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38" name="AutoShape 21"/>
          <p:cNvCxnSpPr>
            <a:stCxn id="127" idx="5"/>
            <a:endCxn id="126" idx="2"/>
          </p:cNvCxnSpPr>
          <p:nvPr/>
        </p:nvCxnSpPr>
        <p:spPr>
          <a:xfrm>
            <a:off x="1063440" y="3015720"/>
            <a:ext cx="952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39" name="Text Box 22"/>
          <p:cNvSpPr/>
          <p:nvPr/>
        </p:nvSpPr>
        <p:spPr>
          <a:xfrm>
            <a:off x="613440" y="8730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424800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464328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5"/>
          <p:cNvSpPr/>
          <p:nvPr/>
        </p:nvSpPr>
        <p:spPr>
          <a:xfrm>
            <a:off x="504036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543564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7"/>
          <p:cNvSpPr/>
          <p:nvPr/>
        </p:nvSpPr>
        <p:spPr>
          <a:xfrm>
            <a:off x="583236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622764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662472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0"/>
          <p:cNvSpPr/>
          <p:nvPr/>
        </p:nvSpPr>
        <p:spPr>
          <a:xfrm>
            <a:off x="702000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4164840" y="24242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также получить дерево обход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убину, если отмечать каждую пряму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обратную д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4537080" y="375300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453708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4861080" y="3753000"/>
            <a:ext cx="323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861080" y="4076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84720" y="375300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184720" y="4076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5508720" y="3753000"/>
            <a:ext cx="323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5508720" y="4076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832360" y="375300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832360" y="4076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6156360" y="3753000"/>
            <a:ext cx="323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6156360" y="4076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6480000" y="375300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480000" y="4076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6804000" y="3753000"/>
            <a:ext cx="3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6804000" y="4076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4859280" y="4076640"/>
            <a:ext cx="32400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5508720" y="4076640"/>
            <a:ext cx="32364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583236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51"/>
          <p:cNvCxnSpPr>
            <a:stCxn id="121" idx="7"/>
            <a:endCxn id="122" idx="2"/>
          </p:cNvCxnSpPr>
          <p:nvPr/>
        </p:nvCxnSpPr>
        <p:spPr>
          <a:xfrm flipV="1">
            <a:off x="1063440" y="1232640"/>
            <a:ext cx="952920" cy="37692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69" name="AutoShape 52"/>
          <p:cNvCxnSpPr>
            <a:stCxn id="121" idx="5"/>
            <a:endCxn id="124" idx="2"/>
          </p:cNvCxnSpPr>
          <p:nvPr/>
        </p:nvCxnSpPr>
        <p:spPr>
          <a:xfrm>
            <a:off x="1063440" y="1865160"/>
            <a:ext cx="952920" cy="4500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70" name="AutoShape 53"/>
          <p:cNvCxnSpPr>
            <a:stCxn id="121" idx="4"/>
            <a:endCxn id="127" idx="0"/>
          </p:cNvCxnSpPr>
          <p:nvPr/>
        </p:nvCxnSpPr>
        <p:spPr>
          <a:xfrm>
            <a:off x="936360" y="1917720"/>
            <a:ext cx="1080" cy="7912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71" name="AutoShape 54"/>
          <p:cNvCxnSpPr>
            <a:stCxn id="127" idx="5"/>
            <a:endCxn id="126" idx="2"/>
          </p:cNvCxnSpPr>
          <p:nvPr/>
        </p:nvCxnSpPr>
        <p:spPr>
          <a:xfrm>
            <a:off x="1063440" y="3015720"/>
            <a:ext cx="952920" cy="5230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72" name="AutoShape 55"/>
          <p:cNvCxnSpPr>
            <a:stCxn id="127" idx="4"/>
            <a:endCxn id="128" idx="0"/>
          </p:cNvCxnSpPr>
          <p:nvPr/>
        </p:nvCxnSpPr>
        <p:spPr>
          <a:xfrm>
            <a:off x="936360" y="3068280"/>
            <a:ext cx="1080" cy="8658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173" name="Rectangle 56"/>
          <p:cNvSpPr/>
          <p:nvPr/>
        </p:nvSpPr>
        <p:spPr>
          <a:xfrm>
            <a:off x="648000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680400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58"/>
          <p:cNvCxnSpPr>
            <a:stCxn id="126" idx="7"/>
            <a:endCxn id="125" idx="3"/>
          </p:cNvCxnSpPr>
          <p:nvPr/>
        </p:nvCxnSpPr>
        <p:spPr>
          <a:xfrm flipV="1">
            <a:off x="2324160" y="2980440"/>
            <a:ext cx="1040400" cy="4294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176" name="Rectangle 59"/>
          <p:cNvSpPr/>
          <p:nvPr/>
        </p:nvSpPr>
        <p:spPr>
          <a:xfrm>
            <a:off x="6156360" y="407664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60"/>
          <p:cNvCxnSpPr>
            <a:stCxn id="125" idx="1"/>
            <a:endCxn id="124" idx="5"/>
          </p:cNvCxnSpPr>
          <p:nvPr/>
        </p:nvCxnSpPr>
        <p:spPr>
          <a:xfrm flipH="1" flipV="1">
            <a:off x="2323800" y="2441160"/>
            <a:ext cx="1040400" cy="2844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178" name="Rectangle 61"/>
          <p:cNvSpPr/>
          <p:nvPr/>
        </p:nvSpPr>
        <p:spPr>
          <a:xfrm>
            <a:off x="5508720" y="407664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62"/>
          <p:cNvCxnSpPr>
            <a:stCxn id="121" idx="5"/>
            <a:endCxn id="124" idx="2"/>
          </p:cNvCxnSpPr>
          <p:nvPr/>
        </p:nvCxnSpPr>
        <p:spPr>
          <a:xfrm>
            <a:off x="1063440" y="1865160"/>
            <a:ext cx="952920" cy="450000"/>
          </a:xfrm>
          <a:prstGeom prst="straightConnector1">
            <a:avLst/>
          </a:prstGeom>
          <a:ln w="25560">
            <a:solidFill>
              <a:srgbClr val="0099ff"/>
            </a:solidFill>
            <a:miter/>
          </a:ln>
        </p:spPr>
      </p:cxnSp>
      <p:sp>
        <p:nvSpPr>
          <p:cNvPr id="180" name="Rectangle 63"/>
          <p:cNvSpPr/>
          <p:nvPr/>
        </p:nvSpPr>
        <p:spPr>
          <a:xfrm>
            <a:off x="4859280" y="4075200"/>
            <a:ext cx="32400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4"/>
          <p:cNvSpPr/>
          <p:nvPr/>
        </p:nvSpPr>
        <p:spPr>
          <a:xfrm>
            <a:off x="518472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65"/>
          <p:cNvCxnSpPr>
            <a:stCxn id="121" idx="7"/>
            <a:endCxn id="122" idx="2"/>
          </p:cNvCxnSpPr>
          <p:nvPr/>
        </p:nvCxnSpPr>
        <p:spPr>
          <a:xfrm flipV="1">
            <a:off x="1063440" y="1232640"/>
            <a:ext cx="952920" cy="376920"/>
          </a:xfrm>
          <a:prstGeom prst="straightConnector1">
            <a:avLst/>
          </a:prstGeom>
          <a:ln w="25560">
            <a:solidFill>
              <a:srgbClr val="0099ff"/>
            </a:solidFill>
            <a:miter/>
          </a:ln>
        </p:spPr>
      </p:cxnSp>
      <p:cxnSp>
        <p:nvCxnSpPr>
          <p:cNvPr id="183" name="AutoShape 66"/>
          <p:cNvCxnSpPr>
            <a:stCxn id="124" idx="0"/>
            <a:endCxn id="122" idx="4"/>
          </p:cNvCxnSpPr>
          <p:nvPr/>
        </p:nvCxnSpPr>
        <p:spPr>
          <a:xfrm flipV="1">
            <a:off x="2196720" y="1412640"/>
            <a:ext cx="1080" cy="72144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84" name="AutoShape 67"/>
          <p:cNvCxnSpPr>
            <a:stCxn id="124" idx="7"/>
            <a:endCxn id="123" idx="3"/>
          </p:cNvCxnSpPr>
          <p:nvPr/>
        </p:nvCxnSpPr>
        <p:spPr>
          <a:xfrm flipV="1">
            <a:off x="2324160" y="1864440"/>
            <a:ext cx="1040400" cy="3214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185" name="AutoShape 68"/>
          <p:cNvCxnSpPr>
            <a:stCxn id="123" idx="1"/>
            <a:endCxn id="122" idx="6"/>
          </p:cNvCxnSpPr>
          <p:nvPr/>
        </p:nvCxnSpPr>
        <p:spPr>
          <a:xfrm flipH="1" flipV="1">
            <a:off x="2375640" y="1232640"/>
            <a:ext cx="988200" cy="37692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sp>
        <p:nvSpPr>
          <p:cNvPr id="186" name="Rectangle 69"/>
          <p:cNvSpPr/>
          <p:nvPr/>
        </p:nvSpPr>
        <p:spPr>
          <a:xfrm>
            <a:off x="4859280" y="407664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70"/>
          <p:cNvCxnSpPr>
            <a:stCxn id="124" idx="0"/>
            <a:endCxn id="122" idx="4"/>
          </p:cNvCxnSpPr>
          <p:nvPr/>
        </p:nvCxnSpPr>
        <p:spPr>
          <a:xfrm flipV="1">
            <a:off x="2196720" y="1412640"/>
            <a:ext cx="1080" cy="721440"/>
          </a:xfrm>
          <a:prstGeom prst="straightConnector1">
            <a:avLst/>
          </a:prstGeom>
          <a:ln w="25560">
            <a:solidFill>
              <a:srgbClr val="0099ff"/>
            </a:solidFill>
            <a:miter/>
          </a:ln>
        </p:spPr>
      </p:cxnSp>
      <p:sp>
        <p:nvSpPr>
          <p:cNvPr id="188" name="Rectangle 71"/>
          <p:cNvSpPr/>
          <p:nvPr/>
        </p:nvSpPr>
        <p:spPr>
          <a:xfrm>
            <a:off x="2268360" y="447372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2"/>
          <p:cNvGrpSpPr/>
          <p:nvPr/>
        </p:nvGrpSpPr>
        <p:grpSpPr>
          <a:xfrm>
            <a:off x="2234520" y="4029120"/>
            <a:ext cx="969120" cy="2100240"/>
            <a:chOff x="2234520" y="4029120"/>
            <a:chExt cx="969120" cy="2100240"/>
          </a:xfrm>
        </p:grpSpPr>
        <p:sp>
          <p:nvSpPr>
            <p:cNvPr id="190" name="Text Box 73"/>
            <p:cNvSpPr/>
            <p:nvPr/>
          </p:nvSpPr>
          <p:spPr>
            <a:xfrm>
              <a:off x="2234520" y="402912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тек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4"/>
            <p:cNvSpPr/>
            <p:nvPr/>
          </p:nvSpPr>
          <p:spPr>
            <a:xfrm flipV="1">
              <a:off x="2268360" y="447336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5"/>
            <p:cNvSpPr/>
            <p:nvPr/>
          </p:nvSpPr>
          <p:spPr>
            <a:xfrm>
              <a:off x="2268360" y="44737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6"/>
            <p:cNvSpPr/>
            <p:nvPr/>
          </p:nvSpPr>
          <p:spPr>
            <a:xfrm>
              <a:off x="3203640" y="447372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77"/>
          <p:cNvSpPr/>
          <p:nvPr/>
        </p:nvSpPr>
        <p:spPr>
          <a:xfrm>
            <a:off x="2268360" y="447372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8"/>
          <p:cNvSpPr/>
          <p:nvPr/>
        </p:nvSpPr>
        <p:spPr>
          <a:xfrm>
            <a:off x="2268360" y="4797360"/>
            <a:ext cx="93528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9"/>
          <p:cNvSpPr/>
          <p:nvPr/>
        </p:nvSpPr>
        <p:spPr>
          <a:xfrm>
            <a:off x="2268360" y="4797360"/>
            <a:ext cx="93528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0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1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2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3"/>
          <p:cNvSpPr/>
          <p:nvPr/>
        </p:nvSpPr>
        <p:spPr>
          <a:xfrm>
            <a:off x="2268360" y="5445000"/>
            <a:ext cx="93528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4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Метод поиска в ширину (BFS, Breadth-first search)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914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зада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которая начальная верши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 поиска в ширину перечисляет все достижимые из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ршины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яд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растания р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яния о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тоянием считается число ребе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тчай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и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работы алгоритма такое же, как в методе поиска в глуб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писках смежности 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на матрице смежности 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поиска из графа выделяется часть, называемая “деревом поиска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рину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корне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на содержит все достижимые и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ы. Для кажд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х путь 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ня в дереве поиска будет од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кратчайших путей в граф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в начальный момент времени все вершины  окрашены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ц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асим в серый цвет и припишем расстояние 0. Смежные с 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ы окрасим в серый цвет, припишем им расстояние 1, их предок -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расим вершин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рный ц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шаг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чередно рассматриваем белые вершины, смежные с верши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 пометкам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каждую из них раскрашиваем в серый цвет, приписываем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ка и рас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этого вершины с расстояние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крашиваются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ный 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72240" y="28584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Использование оч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112280" y="87300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честве промежуточной структур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нения при обходе в ширину буд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ть очер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755640" y="1557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2016000" y="1052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3311640" y="1557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16000" y="213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311640" y="2673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2016000" y="3357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755640" y="2708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755640" y="393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12"/>
          <p:cNvCxnSpPr>
            <a:stCxn id="205" idx="7"/>
            <a:endCxn id="206" idx="2"/>
          </p:cNvCxnSpPr>
          <p:nvPr/>
        </p:nvCxnSpPr>
        <p:spPr>
          <a:xfrm flipV="1">
            <a:off x="1063440" y="1232640"/>
            <a:ext cx="95292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4" name="AutoShape 13"/>
          <p:cNvCxnSpPr>
            <a:stCxn id="206" idx="6"/>
            <a:endCxn id="207" idx="1"/>
          </p:cNvCxnSpPr>
          <p:nvPr/>
        </p:nvCxnSpPr>
        <p:spPr>
          <a:xfrm>
            <a:off x="2376000" y="1233000"/>
            <a:ext cx="98820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5" name="AutoShape 14"/>
          <p:cNvCxnSpPr>
            <a:stCxn id="206" idx="4"/>
            <a:endCxn id="208" idx="0"/>
          </p:cNvCxnSpPr>
          <p:nvPr/>
        </p:nvCxnSpPr>
        <p:spPr>
          <a:xfrm>
            <a:off x="2196720" y="1413000"/>
            <a:ext cx="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AutoShape 15"/>
          <p:cNvCxnSpPr>
            <a:stCxn id="208" idx="7"/>
            <a:endCxn id="207" idx="3"/>
          </p:cNvCxnSpPr>
          <p:nvPr/>
        </p:nvCxnSpPr>
        <p:spPr>
          <a:xfrm flipV="1">
            <a:off x="2324160" y="1864440"/>
            <a:ext cx="1040400" cy="321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" name="AutoShape 16"/>
          <p:cNvCxnSpPr>
            <a:stCxn id="205" idx="5"/>
            <a:endCxn id="208" idx="2"/>
          </p:cNvCxnSpPr>
          <p:nvPr/>
        </p:nvCxnSpPr>
        <p:spPr>
          <a:xfrm>
            <a:off x="1063440" y="1865160"/>
            <a:ext cx="952920" cy="450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8" name="AutoShape 17"/>
          <p:cNvCxnSpPr>
            <a:stCxn id="208" idx="5"/>
            <a:endCxn id="209" idx="1"/>
          </p:cNvCxnSpPr>
          <p:nvPr/>
        </p:nvCxnSpPr>
        <p:spPr>
          <a:xfrm>
            <a:off x="2324160" y="2441160"/>
            <a:ext cx="1040400" cy="2844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9" name="AutoShape 18"/>
          <p:cNvCxnSpPr>
            <a:stCxn id="209" idx="3"/>
            <a:endCxn id="210" idx="7"/>
          </p:cNvCxnSpPr>
          <p:nvPr/>
        </p:nvCxnSpPr>
        <p:spPr>
          <a:xfrm flipH="1">
            <a:off x="2323800" y="2980800"/>
            <a:ext cx="104040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" name="AutoShape 19"/>
          <p:cNvCxnSpPr>
            <a:stCxn id="205" idx="4"/>
            <a:endCxn id="211" idx="0"/>
          </p:cNvCxnSpPr>
          <p:nvPr/>
        </p:nvCxnSpPr>
        <p:spPr>
          <a:xfrm>
            <a:off x="936360" y="1917720"/>
            <a:ext cx="1080" cy="791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" name="AutoShape 20"/>
          <p:cNvCxnSpPr>
            <a:stCxn id="211" idx="4"/>
            <a:endCxn id="212" idx="0"/>
          </p:cNvCxnSpPr>
          <p:nvPr/>
        </p:nvCxnSpPr>
        <p:spPr>
          <a:xfrm>
            <a:off x="936360" y="3068280"/>
            <a:ext cx="108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2" name="AutoShape 21"/>
          <p:cNvCxnSpPr>
            <a:stCxn id="211" idx="5"/>
            <a:endCxn id="210" idx="2"/>
          </p:cNvCxnSpPr>
          <p:nvPr/>
        </p:nvCxnSpPr>
        <p:spPr>
          <a:xfrm>
            <a:off x="1063440" y="3015720"/>
            <a:ext cx="952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3" name="Text Box 22"/>
          <p:cNvSpPr/>
          <p:nvPr/>
        </p:nvSpPr>
        <p:spPr>
          <a:xfrm>
            <a:off x="613440" y="8730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424800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167000" y="2424240"/>
            <a:ext cx="485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также получить дерево обхода в ширину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отмечать каждую прямую д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5"/>
          <p:cNvGrpSpPr/>
          <p:nvPr/>
        </p:nvGrpSpPr>
        <p:grpSpPr>
          <a:xfrm>
            <a:off x="4356000" y="3357720"/>
            <a:ext cx="2590920" cy="647640"/>
            <a:chOff x="4356000" y="3357720"/>
            <a:chExt cx="2590920" cy="647640"/>
          </a:xfrm>
        </p:grpSpPr>
        <p:sp>
          <p:nvSpPr>
            <p:cNvPr id="227" name="Rectangle 26"/>
            <p:cNvSpPr/>
            <p:nvPr/>
          </p:nvSpPr>
          <p:spPr>
            <a:xfrm>
              <a:off x="4356000" y="335772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7"/>
            <p:cNvSpPr/>
            <p:nvPr/>
          </p:nvSpPr>
          <p:spPr>
            <a:xfrm>
              <a:off x="4356000" y="3681360"/>
              <a:ext cx="3240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8"/>
            <p:cNvSpPr/>
            <p:nvPr/>
          </p:nvSpPr>
          <p:spPr>
            <a:xfrm>
              <a:off x="4680000" y="335772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4680000" y="3681360"/>
              <a:ext cx="323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5003640" y="335772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5003640" y="3681360"/>
              <a:ext cx="3240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5327640" y="335772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3"/>
            <p:cNvSpPr/>
            <p:nvPr/>
          </p:nvSpPr>
          <p:spPr>
            <a:xfrm>
              <a:off x="5327640" y="3681360"/>
              <a:ext cx="3240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651640" y="335772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5"/>
            <p:cNvSpPr/>
            <p:nvPr/>
          </p:nvSpPr>
          <p:spPr>
            <a:xfrm>
              <a:off x="5651640" y="3681360"/>
              <a:ext cx="323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5975280" y="335772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5975280" y="3681360"/>
              <a:ext cx="3240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6299280" y="3357720"/>
              <a:ext cx="32364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6299280" y="3681360"/>
              <a:ext cx="32364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6622920" y="3357720"/>
              <a:ext cx="324000" cy="3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1"/>
            <p:cNvSpPr/>
            <p:nvPr/>
          </p:nvSpPr>
          <p:spPr>
            <a:xfrm>
              <a:off x="6622920" y="3681360"/>
              <a:ext cx="32400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42"/>
          <p:cNvSpPr/>
          <p:nvPr/>
        </p:nvSpPr>
        <p:spPr>
          <a:xfrm>
            <a:off x="2268360" y="447372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43"/>
          <p:cNvGrpSpPr/>
          <p:nvPr/>
        </p:nvGrpSpPr>
        <p:grpSpPr>
          <a:xfrm>
            <a:off x="2235960" y="4041720"/>
            <a:ext cx="1061640" cy="2100240"/>
            <a:chOff x="2235960" y="4041720"/>
            <a:chExt cx="1061640" cy="2100240"/>
          </a:xfrm>
        </p:grpSpPr>
        <p:sp>
          <p:nvSpPr>
            <p:cNvPr id="245" name="Text Box 44"/>
            <p:cNvSpPr/>
            <p:nvPr/>
          </p:nvSpPr>
          <p:spPr>
            <a:xfrm>
              <a:off x="2235960" y="404172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черед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 flipV="1">
              <a:off x="2268360" y="448596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6"/>
            <p:cNvSpPr/>
            <p:nvPr/>
          </p:nvSpPr>
          <p:spPr>
            <a:xfrm>
              <a:off x="2268360" y="4486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7"/>
            <p:cNvSpPr/>
            <p:nvPr/>
          </p:nvSpPr>
          <p:spPr>
            <a:xfrm>
              <a:off x="3203640" y="448632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48"/>
          <p:cNvSpPr/>
          <p:nvPr/>
        </p:nvSpPr>
        <p:spPr>
          <a:xfrm>
            <a:off x="4680000" y="368136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9"/>
          <p:cNvSpPr/>
          <p:nvPr/>
        </p:nvSpPr>
        <p:spPr>
          <a:xfrm>
            <a:off x="5003640" y="368136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5327640" y="368136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5651640" y="368136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2"/>
          <p:cNvSpPr/>
          <p:nvPr/>
        </p:nvSpPr>
        <p:spPr>
          <a:xfrm>
            <a:off x="5977080" y="368136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3"/>
          <p:cNvSpPr/>
          <p:nvPr/>
        </p:nvSpPr>
        <p:spPr>
          <a:xfrm>
            <a:off x="6300720" y="3681360"/>
            <a:ext cx="3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4"/>
          <p:cNvSpPr/>
          <p:nvPr/>
        </p:nvSpPr>
        <p:spPr>
          <a:xfrm>
            <a:off x="6624720" y="3681360"/>
            <a:ext cx="3236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5"/>
          <p:cNvSpPr/>
          <p:nvPr/>
        </p:nvSpPr>
        <p:spPr>
          <a:xfrm>
            <a:off x="2268360" y="447372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6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7"/>
          <p:cNvSpPr/>
          <p:nvPr/>
        </p:nvSpPr>
        <p:spPr>
          <a:xfrm>
            <a:off x="2268360" y="4797360"/>
            <a:ext cx="935280" cy="3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8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2268360" y="512136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2268360" y="5446800"/>
            <a:ext cx="935280" cy="32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2"/>
          <p:cNvSpPr/>
          <p:nvPr/>
        </p:nvSpPr>
        <p:spPr>
          <a:xfrm>
            <a:off x="511344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3"/>
          <p:cNvSpPr/>
          <p:nvPr/>
        </p:nvSpPr>
        <p:spPr>
          <a:xfrm>
            <a:off x="468000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4"/>
          <p:cNvSpPr/>
          <p:nvPr/>
        </p:nvSpPr>
        <p:spPr>
          <a:xfrm>
            <a:off x="597708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5"/>
          <p:cNvSpPr/>
          <p:nvPr/>
        </p:nvSpPr>
        <p:spPr>
          <a:xfrm>
            <a:off x="554364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6840360" y="1844640"/>
            <a:ext cx="36072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7"/>
          <p:cNvSpPr/>
          <p:nvPr/>
        </p:nvSpPr>
        <p:spPr>
          <a:xfrm>
            <a:off x="640728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8"/>
          <p:cNvSpPr/>
          <p:nvPr/>
        </p:nvSpPr>
        <p:spPr>
          <a:xfrm>
            <a:off x="7272360" y="1844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69"/>
          <p:cNvCxnSpPr>
            <a:stCxn id="205" idx="7"/>
            <a:endCxn id="206" idx="2"/>
          </p:cNvCxnSpPr>
          <p:nvPr/>
        </p:nvCxnSpPr>
        <p:spPr>
          <a:xfrm flipV="1">
            <a:off x="1063440" y="1232640"/>
            <a:ext cx="952920" cy="37692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1" name="AutoShape 70"/>
          <p:cNvCxnSpPr>
            <a:stCxn id="205" idx="5"/>
            <a:endCxn id="208" idx="2"/>
          </p:cNvCxnSpPr>
          <p:nvPr/>
        </p:nvCxnSpPr>
        <p:spPr>
          <a:xfrm>
            <a:off x="1063440" y="1865160"/>
            <a:ext cx="952920" cy="4500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2" name="AutoShape 71"/>
          <p:cNvCxnSpPr>
            <a:stCxn id="205" idx="4"/>
            <a:endCxn id="211" idx="0"/>
          </p:cNvCxnSpPr>
          <p:nvPr/>
        </p:nvCxnSpPr>
        <p:spPr>
          <a:xfrm>
            <a:off x="936360" y="1917720"/>
            <a:ext cx="1080" cy="7912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3" name="AutoShape 72"/>
          <p:cNvCxnSpPr>
            <a:stCxn id="206" idx="6"/>
            <a:endCxn id="207" idx="1"/>
          </p:cNvCxnSpPr>
          <p:nvPr/>
        </p:nvCxnSpPr>
        <p:spPr>
          <a:xfrm>
            <a:off x="2376000" y="1233000"/>
            <a:ext cx="988200" cy="37692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4" name="AutoShape 73"/>
          <p:cNvCxnSpPr>
            <a:stCxn id="208" idx="5"/>
            <a:endCxn id="209" idx="1"/>
          </p:cNvCxnSpPr>
          <p:nvPr/>
        </p:nvCxnSpPr>
        <p:spPr>
          <a:xfrm>
            <a:off x="2324160" y="2441160"/>
            <a:ext cx="1040400" cy="2844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5" name="AutoShape 74"/>
          <p:cNvCxnSpPr>
            <a:stCxn id="211" idx="5"/>
            <a:endCxn id="210" idx="2"/>
          </p:cNvCxnSpPr>
          <p:nvPr/>
        </p:nvCxnSpPr>
        <p:spPr>
          <a:xfrm>
            <a:off x="1063440" y="3015720"/>
            <a:ext cx="952920" cy="52308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  <p:cxnSp>
        <p:nvCxnSpPr>
          <p:cNvPr id="276" name="AutoShape 75"/>
          <p:cNvCxnSpPr>
            <a:stCxn id="211" idx="4"/>
            <a:endCxn id="212" idx="0"/>
          </p:cNvCxnSpPr>
          <p:nvPr/>
        </p:nvCxnSpPr>
        <p:spPr>
          <a:xfrm>
            <a:off x="936360" y="3068280"/>
            <a:ext cx="1080" cy="865800"/>
          </a:xfrm>
          <a:prstGeom prst="straightConnector1">
            <a:avLst/>
          </a:prstGeom>
          <a:ln w="25560">
            <a:solidFill>
              <a:srgbClr val="0099ff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4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9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9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9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255 L -1.94444E-006 -0.04722 E">
                                      <p:cBhvr>
                                        <p:cTn id="91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255 L -1.94444E-006 -0.04722 E">
                                      <p:cBhvr>
                                        <p:cTn id="91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92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92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f5a1f"/>
                                      </p:to>
                                    </p:animClr>
                                    <p:set>
                                      <p:cBhvr>
                                        <p:cTn id="93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4722 L -1.94444E-006 -0.0919 E">
                                      <p:cBhvr>
                                        <p:cTn id="95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722 E">
                                      <p:cBhvr>
                                        <p:cTn id="95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9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9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f5a1f"/>
                                      </p:to>
                                    </p:animClr>
                                    <p:set>
                                      <p:cBhvr>
                                        <p:cTn id="97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9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4722 L -8.33333E-007 -0.09467 E">
                                      <p:cBhvr>
                                        <p:cTn id="99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723 E">
                                      <p:cBhvr>
                                        <p:cTn id="99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0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0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f5a1f"/>
                                      </p:to>
                                    </p:animClr>
                                    <p:set>
                                      <p:cBhvr>
                                        <p:cTn id="10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5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6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f5a1f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07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f5a1f"/>
                                      </p:to>
                                    </p:animClr>
                                    <p:set>
                                      <p:cBhvr>
                                        <p:cTn id="10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5572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Алгоритм BF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607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FS (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V\ {s}) {   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ициал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u] ←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белый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u]←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[u]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←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∞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s] ←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серый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с этого момента очередь содержи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                         //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только серые верш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s]←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s]←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(s, Q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while (Q ≠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u ←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(Q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0504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j[u]) 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olor[v]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белый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v] ←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серый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v]← 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v]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←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[u]+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t(v,Q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et(Q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color[u] ←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черный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5114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ратчайшие пу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ая длина пути из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1f5"/>
                </a:solidFill>
                <a:latin typeface="Calibri"/>
              </a:rPr>
              <a:t>Лемма 1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ольная вершина графа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бро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гда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≤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азательство.  Если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стижима з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агов, то 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остижима не более чем за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 1 шаг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1f5"/>
                </a:solidFill>
                <a:latin typeface="Calibri"/>
              </a:rPr>
              <a:t>Лемма 2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&gt; 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о существует вершин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которой растояние на единицу меньше (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и для которой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является смеж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азательство.  Рассмотрим кратчайший путь из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Его длина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озьмем вершину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жащую на этом пути  непосредственно перед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бедимся, что до нее расстояние на единицу меньше. У нас есть ведущий в нее путь длины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1. Более короткого пути не может быть по лемме 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91440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ого неотрицательног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момент после нескольких повторений тела цикл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F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гда выполнены следующие утвержде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ы, для которых расстояния от начальной меньш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черные, равн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ые, больш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черед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ходятся серые вершины и только о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ля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хранятся правильные значения расстояний для черных и серых вершин, и бесконечные значения для бел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ая или черная вершина, то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1, и в графе есть ребро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елыз вершин значение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Доказательство (индукция по </a:t>
            </a:r>
            <a:r>
              <a:rPr b="0" i="1" lang="en-US" sz="3200" spc="-1" strike="noStrike">
                <a:solidFill>
                  <a:srgbClr val="6633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785880"/>
            <a:ext cx="8929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выполнения строк 1-9 все пункты леммы выполнены дл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для некоторог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я выполнены. После нескольких итераций цик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з очереди будут забираться вершины (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просматриваем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Для смежных с ними белых вершин будут выполняться строки 13-16 – они добавляются в конец очереди (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добавляем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кой-то момент из очереди будут изъяты все вершины с расстояние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станутся только вновь добавленные. В этот момент мысленно прервем выполн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F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убедимся, что все условия дл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матриваемые вершины по индукции находят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Добавляемые вершины  находятся на расстоянии </a:t>
            </a:r>
            <a:r>
              <a:rPr b="0" i="1" lang="en-US" sz="2000" spc="-1" strike="noStrike">
                <a:solidFill>
                  <a:srgbClr val="1731f5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1731f5"/>
                </a:solidFill>
                <a:latin typeface="Calibri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.к. они смежные с просматриваемыми, находящими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о лемме 1 расстояние до них ≤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добавляются только белые вершины, по индукции до них расстоя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ут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добавлены все вершины, находящиеся на расстоянии </a:t>
            </a:r>
            <a:r>
              <a:rPr b="0" i="1" lang="en-US" sz="2000" spc="-1" strike="noStrike">
                <a:solidFill>
                  <a:srgbClr val="1731f5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1731f5"/>
                </a:solidFill>
                <a:latin typeface="Calibri"/>
              </a:rPr>
              <a:t>+1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.к. если верши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ит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о по лемме 2 существует верши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асст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ктр. она смежная, а т.к. она просматриваемая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ится в очеред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вод кратчайших пу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480" y="100008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_Path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= 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печатать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</a:t>
            </a:r>
            <a:r>
              <a:rPr b="0" lang="el-G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] == NUL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печатать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(“No Path”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Print_Path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]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печатать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Нахождение кратчайшего пути в лабири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Таблица 4" descr=""/>
          <p:cNvPicPr/>
          <p:nvPr/>
        </p:nvPicPr>
        <p:blipFill>
          <a:blip r:embed="rId1"/>
          <a:stretch/>
        </p:blipFill>
        <p:spPr>
          <a:xfrm>
            <a:off x="500040" y="1060560"/>
            <a:ext cx="535788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400284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450288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443160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343152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1"/>
          <p:cNvSpPr/>
          <p:nvPr/>
        </p:nvSpPr>
        <p:spPr>
          <a:xfrm>
            <a:off x="350280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30027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4929120" y="1500120"/>
            <a:ext cx="2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25743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5"/>
          <p:cNvSpPr/>
          <p:nvPr/>
        </p:nvSpPr>
        <p:spPr>
          <a:xfrm>
            <a:off x="543168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257436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543168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2574360" y="2214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431680" y="2214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2574360" y="2571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5431680" y="2571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2"/>
          <p:cNvSpPr/>
          <p:nvPr/>
        </p:nvSpPr>
        <p:spPr>
          <a:xfrm>
            <a:off x="5431680" y="292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3"/>
          <p:cNvSpPr/>
          <p:nvPr/>
        </p:nvSpPr>
        <p:spPr>
          <a:xfrm>
            <a:off x="2574360" y="292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4"/>
          <p:cNvSpPr/>
          <p:nvPr/>
        </p:nvSpPr>
        <p:spPr>
          <a:xfrm>
            <a:off x="5431680" y="3286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5"/>
          <p:cNvSpPr/>
          <p:nvPr/>
        </p:nvSpPr>
        <p:spPr>
          <a:xfrm>
            <a:off x="2074320" y="2928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6"/>
          <p:cNvSpPr/>
          <p:nvPr/>
        </p:nvSpPr>
        <p:spPr>
          <a:xfrm>
            <a:off x="1575000" y="2928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7"/>
          <p:cNvSpPr/>
          <p:nvPr/>
        </p:nvSpPr>
        <p:spPr>
          <a:xfrm>
            <a:off x="1575000" y="257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8"/>
          <p:cNvSpPr/>
          <p:nvPr/>
        </p:nvSpPr>
        <p:spPr>
          <a:xfrm>
            <a:off x="1575000" y="328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9"/>
          <p:cNvSpPr/>
          <p:nvPr/>
        </p:nvSpPr>
        <p:spPr>
          <a:xfrm>
            <a:off x="157500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0"/>
          <p:cNvSpPr/>
          <p:nvPr/>
        </p:nvSpPr>
        <p:spPr>
          <a:xfrm>
            <a:off x="1575000" y="2214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1"/>
          <p:cNvSpPr/>
          <p:nvPr/>
        </p:nvSpPr>
        <p:spPr>
          <a:xfrm>
            <a:off x="1575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2"/>
          <p:cNvSpPr/>
          <p:nvPr/>
        </p:nvSpPr>
        <p:spPr>
          <a:xfrm>
            <a:off x="107496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3"/>
          <p:cNvSpPr/>
          <p:nvPr/>
        </p:nvSpPr>
        <p:spPr>
          <a:xfrm>
            <a:off x="207504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4"/>
          <p:cNvSpPr/>
          <p:nvPr/>
        </p:nvSpPr>
        <p:spPr>
          <a:xfrm>
            <a:off x="1575000" y="1500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5"/>
          <p:cNvSpPr/>
          <p:nvPr/>
        </p:nvSpPr>
        <p:spPr>
          <a:xfrm>
            <a:off x="1074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6"/>
          <p:cNvSpPr/>
          <p:nvPr/>
        </p:nvSpPr>
        <p:spPr>
          <a:xfrm>
            <a:off x="250344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7"/>
          <p:cNvSpPr/>
          <p:nvPr/>
        </p:nvSpPr>
        <p:spPr>
          <a:xfrm>
            <a:off x="107496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8"/>
          <p:cNvSpPr/>
          <p:nvPr/>
        </p:nvSpPr>
        <p:spPr>
          <a:xfrm>
            <a:off x="300384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9"/>
          <p:cNvSpPr/>
          <p:nvPr/>
        </p:nvSpPr>
        <p:spPr>
          <a:xfrm>
            <a:off x="1074960" y="1500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0"/>
          <p:cNvSpPr/>
          <p:nvPr/>
        </p:nvSpPr>
        <p:spPr>
          <a:xfrm>
            <a:off x="350388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1"/>
          <p:cNvSpPr/>
          <p:nvPr/>
        </p:nvSpPr>
        <p:spPr>
          <a:xfrm>
            <a:off x="157500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2"/>
          <p:cNvSpPr/>
          <p:nvPr/>
        </p:nvSpPr>
        <p:spPr>
          <a:xfrm>
            <a:off x="207504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3"/>
          <p:cNvSpPr/>
          <p:nvPr/>
        </p:nvSpPr>
        <p:spPr>
          <a:xfrm>
            <a:off x="350388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4"/>
          <p:cNvSpPr/>
          <p:nvPr/>
        </p:nvSpPr>
        <p:spPr>
          <a:xfrm>
            <a:off x="393228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5"/>
          <p:cNvSpPr/>
          <p:nvPr/>
        </p:nvSpPr>
        <p:spPr>
          <a:xfrm>
            <a:off x="250344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6"/>
          <p:cNvSpPr/>
          <p:nvPr/>
        </p:nvSpPr>
        <p:spPr>
          <a:xfrm>
            <a:off x="350388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7"/>
          <p:cNvSpPr/>
          <p:nvPr/>
        </p:nvSpPr>
        <p:spPr>
          <a:xfrm>
            <a:off x="4432320" y="3643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8"/>
          <p:cNvSpPr/>
          <p:nvPr/>
        </p:nvSpPr>
        <p:spPr>
          <a:xfrm>
            <a:off x="2503440" y="4929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9"/>
          <p:cNvSpPr/>
          <p:nvPr/>
        </p:nvSpPr>
        <p:spPr>
          <a:xfrm>
            <a:off x="300384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0"/>
          <p:cNvSpPr/>
          <p:nvPr/>
        </p:nvSpPr>
        <p:spPr>
          <a:xfrm>
            <a:off x="3503880" y="4929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1"/>
          <p:cNvSpPr/>
          <p:nvPr/>
        </p:nvSpPr>
        <p:spPr>
          <a:xfrm>
            <a:off x="443232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2"/>
          <p:cNvSpPr/>
          <p:nvPr/>
        </p:nvSpPr>
        <p:spPr>
          <a:xfrm>
            <a:off x="4432320" y="328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3"/>
          <p:cNvSpPr/>
          <p:nvPr/>
        </p:nvSpPr>
        <p:spPr>
          <a:xfrm>
            <a:off x="3003840" y="4857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4"/>
          <p:cNvSpPr/>
          <p:nvPr/>
        </p:nvSpPr>
        <p:spPr>
          <a:xfrm>
            <a:off x="4432320" y="4429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5"/>
          <p:cNvSpPr/>
          <p:nvPr/>
        </p:nvSpPr>
        <p:spPr>
          <a:xfrm>
            <a:off x="4432320" y="2928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6"/>
          <p:cNvSpPr/>
          <p:nvPr/>
        </p:nvSpPr>
        <p:spPr>
          <a:xfrm>
            <a:off x="5606280" y="1143000"/>
            <a:ext cx="3882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етить числом 1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естить входную клетку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р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ять из очереди клет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это выходная клетка,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йти на шаг 4, инач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етить все непомеч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седние  клетки числом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1 большим, чем данна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поместить их в очер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очередь пуста, то выд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Выхода нет» и выйти, ин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йти на шаг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тный хо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иная с выходной клет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ждый раз смещаться 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етку, помеченную на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ньше, чем текущая, пока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йдем до  входной кл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проходе выде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йденные кл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7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7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8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8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9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9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0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0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1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1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2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3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4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5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6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6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иск в глубину (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Depth-first search, </a:t>
            </a:r>
            <a:r>
              <a:rPr b="0" i="1" lang="en-US" sz="3200" spc="-1" strike="noStrike">
                <a:solidFill>
                  <a:srgbClr val="663300"/>
                </a:solidFill>
                <a:latin typeface="Calibri"/>
              </a:rPr>
              <a:t>D</a:t>
            </a:r>
            <a:r>
              <a:rPr b="0" i="1" lang="ru-RU" sz="3200" spc="-1" strike="noStrike">
                <a:solidFill>
                  <a:srgbClr val="663300"/>
                </a:solidFill>
                <a:latin typeface="Calibri"/>
              </a:rPr>
              <a:t>FS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задан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=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|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=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лгоритм поиска описывается следующим образом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ждой непройденной вершины необходимо найти в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пройденные смежные вершины и повторить поиск для н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в начальный момент времени все вершины  окрашены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ц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множества всех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белы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ршин выберем любую вершин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им для нее процедуру DFS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красим ее 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черны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ц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торяем шаги 1-3 до тех пор, пока множеств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белы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ршин не пуст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Каркасы граф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,E)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язный  неориентированный граф с задан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ей стоимости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1f5"/>
                </a:solidFill>
                <a:latin typeface="Calibri"/>
              </a:rPr>
              <a:t>Остовное</a:t>
            </a:r>
            <a:r>
              <a:rPr b="1" lang="ru-RU" sz="2400" spc="-1" strike="noStrike">
                <a:solidFill>
                  <a:srgbClr val="1731f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1f5"/>
                </a:solidFill>
                <a:latin typeface="Calibri"/>
              </a:rPr>
              <a:t>дере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ru-RU" sz="2400" spc="-1" strike="noStrike">
                <a:solidFill>
                  <a:srgbClr val="1731f5"/>
                </a:solidFill>
                <a:latin typeface="Calibri"/>
              </a:rPr>
              <a:t>карк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рафа - подгра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одержит все вершины графа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является дерев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 интересуют алгоритмы построени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минима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каса. Минимальным каркасом является та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кас, сумма весов ребер которого миним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лгоритм Кр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кала</a:t>
            </a:r>
            <a:r>
              <a:rPr b="0" lang="ru-RU" sz="3200" spc="-1" strike="noStrike">
                <a:solidFill>
                  <a:srgbClr val="ef5a1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1f5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1731f5"/>
                </a:solidFill>
                <a:latin typeface="Calibri"/>
              </a:rPr>
              <a:t>Kruskal</a:t>
            </a:r>
            <a:r>
              <a:rPr b="0" lang="ru-RU" sz="3200" spc="-1" strike="noStrike">
                <a:solidFill>
                  <a:srgbClr val="1731f5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жозеф Краскал, 1956 год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ртируем ребра графа по возрастанию вес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агаем что каждая вершина относится к своей компоненте связ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ходим ребра в "отсортированном" порядке. Для каждого ребра выполняем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если вершины, соединяемые данным ребром лежат в разных компонентах связности, то объединяем эти компоненты в одну, а рассматриваемое ребро добавляем к минимальному остовному дерев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если вершины, соединяемые данным ребром лежат в одной компоненте связности, то исключаем ребро из рассмот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есть еще нерассмотренные ребра и не все компоненты связности объеденены в одну, то переходим к шагу 3, иначе вых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95280" y="4759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ход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ориентированный граф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, 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 функцией стоимост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данной на его реб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ход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стовное дерев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, 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наименьшей стоимости для 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тод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/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стовное дерево (карка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//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набор непересекающихся множеств верш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  построить очередь с приоритетам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держащую все ребра из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  Для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ПОЛНИТЬ:  добавить {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} 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|&gt; 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брать 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ебр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наименьшей стоим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ить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з Q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надлежат различным множества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 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ени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 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ить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 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12_1"/>
          <p:cNvPicPr/>
          <p:nvPr/>
        </p:nvPicPr>
        <p:blipFill>
          <a:blip r:embed="rId1"/>
          <a:stretch/>
        </p:blipFill>
        <p:spPr>
          <a:xfrm>
            <a:off x="324000" y="981000"/>
            <a:ext cx="3671640" cy="30607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542160" y="333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5796000" y="1052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7380360" y="112536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0"/>
          <p:cNvSpPr/>
          <p:nvPr/>
        </p:nvSpPr>
        <p:spPr>
          <a:xfrm>
            <a:off x="4859280" y="234936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8028000" y="227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6516720" y="227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7380360" y="3645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5651640" y="3645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6012000" y="1341360"/>
            <a:ext cx="576000" cy="9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7596360" y="2565360"/>
            <a:ext cx="50472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 flipH="1">
            <a:off x="6732360" y="141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5"/>
          <p:cNvSpPr/>
          <p:nvPr/>
        </p:nvSpPr>
        <p:spPr>
          <a:xfrm flipH="1">
            <a:off x="6804000" y="242100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>
            <a:off x="5940360" y="3789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5076720" y="126828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5942160" y="177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7813800" y="3068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7094520" y="1700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7381800" y="24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5003640" y="162864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445080" y="3429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4"/>
          <p:cNvSpPr/>
          <p:nvPr/>
        </p:nvSpPr>
        <p:spPr>
          <a:xfrm>
            <a:off x="250920" y="4676040"/>
            <a:ext cx="8642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раб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тировка рёбер - 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оненты связности удобно хранить в виде системы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непересекающих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ножеств. Все операции в таком случае займ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шееся дерево является каркасом минимального  в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Реализация алгорит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м массив меток вершин граф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ar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ые значения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ива равны номер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ющих вершин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ar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.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ро выбирается в каркас в том случае, если верши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яемые им, имеют разные значения м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приведен на следующем слайд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Mar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казаны в таблиц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0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6769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истема непересекающихся множеств (СНМ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рьян (Tarjan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975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а непересекающихся множест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это структура данных, которая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ть несколь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, разделённых на несколько множ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ев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ый элемент принадлежит ровно одн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жеству (дереву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ое дерево характеризуется сво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ител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данных поддерживает следующие опер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akeSet (X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яет в систему новый элемент X, который заносится в отдельное (новое) дерево, представителем которого становится X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O(1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FindSet (X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щет дерево, которому принадлежит элемент X, и возвращает его представите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онстантное время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- амортизированная оцен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Union (X, Y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ъединяет  в одно дерево деревья, к которым принадлежат элементы X и Y. Возвращает элемент, который становится представителем нового дере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) - амортизированная оцен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Алгоритмы, реализующие СН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6979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7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остая реализаци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аждого элемента хранится ном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 множества, которому элемент принадле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2      3      4        5                   1            3           4    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395280" y="2276640"/>
            <a:ext cx="7418520" cy="512640"/>
            <a:chOff x="395280" y="2276640"/>
            <a:chExt cx="7418520" cy="512640"/>
          </a:xfrm>
        </p:grpSpPr>
        <p:grpSp>
          <p:nvGrpSpPr>
            <p:cNvPr id="375" name="Group 13"/>
            <p:cNvGrpSpPr/>
            <p:nvPr/>
          </p:nvGrpSpPr>
          <p:grpSpPr>
            <a:xfrm>
              <a:off x="395280" y="2347920"/>
              <a:ext cx="3097080" cy="431280"/>
              <a:chOff x="395280" y="2347920"/>
              <a:chExt cx="3097080" cy="431280"/>
            </a:xfrm>
          </p:grpSpPr>
          <p:sp>
            <p:nvSpPr>
              <p:cNvPr id="376" name="Oval 8"/>
              <p:cNvSpPr/>
              <p:nvPr/>
            </p:nvSpPr>
            <p:spPr>
              <a:xfrm>
                <a:off x="1692360" y="2347920"/>
                <a:ext cx="504720" cy="43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9"/>
              <p:cNvSpPr/>
              <p:nvPr/>
            </p:nvSpPr>
            <p:spPr>
              <a:xfrm>
                <a:off x="395280" y="2347920"/>
                <a:ext cx="504720" cy="43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0"/>
              <p:cNvSpPr/>
              <p:nvPr/>
            </p:nvSpPr>
            <p:spPr>
              <a:xfrm>
                <a:off x="1042920" y="2347920"/>
                <a:ext cx="504720" cy="43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1"/>
              <p:cNvSpPr/>
              <p:nvPr/>
            </p:nvSpPr>
            <p:spPr>
              <a:xfrm>
                <a:off x="2340000" y="2347920"/>
                <a:ext cx="504720" cy="43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2"/>
              <p:cNvSpPr/>
              <p:nvPr/>
            </p:nvSpPr>
            <p:spPr>
              <a:xfrm>
                <a:off x="2987640" y="2347920"/>
                <a:ext cx="504720" cy="43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Oval 15"/>
            <p:cNvSpPr/>
            <p:nvPr/>
          </p:nvSpPr>
          <p:spPr>
            <a:xfrm>
              <a:off x="5435640" y="2276640"/>
              <a:ext cx="108252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6"/>
            <p:cNvSpPr/>
            <p:nvPr/>
          </p:nvSpPr>
          <p:spPr>
            <a:xfrm>
              <a:off x="4716360" y="2276640"/>
              <a:ext cx="50508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8"/>
            <p:cNvSpPr/>
            <p:nvPr/>
          </p:nvSpPr>
          <p:spPr>
            <a:xfrm>
              <a:off x="6661080" y="2276640"/>
              <a:ext cx="50472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9"/>
            <p:cNvSpPr/>
            <p:nvPr/>
          </p:nvSpPr>
          <p:spPr>
            <a:xfrm>
              <a:off x="7308720" y="2276640"/>
              <a:ext cx="50508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3851280" y="2563920"/>
              <a:ext cx="5763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2"/>
            <p:cNvSpPr/>
            <p:nvPr/>
          </p:nvSpPr>
          <p:spPr>
            <a:xfrm>
              <a:off x="5508720" y="23479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9"/>
            <p:cNvSpPr/>
            <p:nvPr/>
          </p:nvSpPr>
          <p:spPr>
            <a:xfrm>
              <a:off x="1116000" y="24210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468360" y="24210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1763640" y="2421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2"/>
            <p:cNvSpPr/>
            <p:nvPr/>
          </p:nvSpPr>
          <p:spPr>
            <a:xfrm>
              <a:off x="6012000" y="23479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3"/>
            <p:cNvSpPr/>
            <p:nvPr/>
          </p:nvSpPr>
          <p:spPr>
            <a:xfrm>
              <a:off x="2411280" y="2421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4"/>
            <p:cNvSpPr/>
            <p:nvPr/>
          </p:nvSpPr>
          <p:spPr>
            <a:xfrm>
              <a:off x="6732720" y="23479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35"/>
            <p:cNvSpPr/>
            <p:nvPr/>
          </p:nvSpPr>
          <p:spPr>
            <a:xfrm>
              <a:off x="3059280" y="24210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6"/>
            <p:cNvSpPr/>
            <p:nvPr/>
          </p:nvSpPr>
          <p:spPr>
            <a:xfrm>
              <a:off x="7380360" y="227664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37"/>
          <p:cNvSpPr/>
          <p:nvPr/>
        </p:nvSpPr>
        <p:spPr>
          <a:xfrm>
            <a:off x="0" y="29242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еализация сп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1"/>
          <p:cNvSpPr/>
          <p:nvPr/>
        </p:nvSpPr>
        <p:spPr>
          <a:xfrm>
            <a:off x="0" y="3716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есовая эвристик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ение простой реал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рашивать элементы из множества меньшей  мощности, для этого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лемента хранится количество элементов э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66"/>
          <p:cNvGrpSpPr/>
          <p:nvPr/>
        </p:nvGrpSpPr>
        <p:grpSpPr>
          <a:xfrm>
            <a:off x="684360" y="4941720"/>
            <a:ext cx="6913440" cy="719280"/>
            <a:chOff x="684360" y="4941720"/>
            <a:chExt cx="6913440" cy="719280"/>
          </a:xfrm>
        </p:grpSpPr>
        <p:sp>
          <p:nvSpPr>
            <p:cNvPr id="398" name="Oval 49"/>
            <p:cNvSpPr/>
            <p:nvPr/>
          </p:nvSpPr>
          <p:spPr>
            <a:xfrm>
              <a:off x="5365800" y="5013000"/>
              <a:ext cx="2232000" cy="505080"/>
            </a:xfrm>
            <a:prstGeom prst="ellipse">
              <a:avLst/>
            </a:prstGeom>
            <a:noFill/>
            <a:ln w="9360">
              <a:solidFill>
                <a:srgbClr val="ef5a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3"/>
            <p:cNvSpPr/>
            <p:nvPr/>
          </p:nvSpPr>
          <p:spPr>
            <a:xfrm>
              <a:off x="4068720" y="5229000"/>
              <a:ext cx="5763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55"/>
            <p:cNvSpPr/>
            <p:nvPr/>
          </p:nvSpPr>
          <p:spPr>
            <a:xfrm>
              <a:off x="1333440" y="5086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6"/>
            <p:cNvSpPr/>
            <p:nvPr/>
          </p:nvSpPr>
          <p:spPr>
            <a:xfrm>
              <a:off x="685800" y="50860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57"/>
            <p:cNvSpPr/>
            <p:nvPr/>
          </p:nvSpPr>
          <p:spPr>
            <a:xfrm>
              <a:off x="1981080" y="5086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2629080" y="50860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61"/>
            <p:cNvSpPr/>
            <p:nvPr/>
          </p:nvSpPr>
          <p:spPr>
            <a:xfrm>
              <a:off x="3132360" y="508464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3"/>
            <p:cNvSpPr/>
            <p:nvPr/>
          </p:nvSpPr>
          <p:spPr>
            <a:xfrm>
              <a:off x="684360" y="5084640"/>
              <a:ext cx="503280" cy="4316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4"/>
            <p:cNvSpPr/>
            <p:nvPr/>
          </p:nvSpPr>
          <p:spPr>
            <a:xfrm>
              <a:off x="1260360" y="4941720"/>
              <a:ext cx="2305080" cy="719280"/>
            </a:xfrm>
            <a:prstGeom prst="ellipse">
              <a:avLst/>
            </a:prstGeom>
            <a:noFill/>
            <a:ln w="9360">
              <a:solidFill>
                <a:srgbClr val="ef5a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65"/>
            <p:cNvSpPr/>
            <p:nvPr/>
          </p:nvSpPr>
          <p:spPr>
            <a:xfrm>
              <a:off x="5652360" y="508464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    5    5    5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Rectangle 67"/>
          <p:cNvSpPr/>
          <p:nvPr/>
        </p:nvSpPr>
        <p:spPr>
          <a:xfrm>
            <a:off x="179280" y="57340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раз перекрасится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1 1   2  2   3 3 3 3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642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ножество хранится в виде дерев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аждого элемента хранится его предок, представителем множества является корень дере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ший случай, когда к корню дерева подвешиваем следующий элем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Group 12"/>
          <p:cNvGrpSpPr/>
          <p:nvPr/>
        </p:nvGrpSpPr>
        <p:grpSpPr>
          <a:xfrm>
            <a:off x="3492360" y="2708280"/>
            <a:ext cx="2376360" cy="142920"/>
            <a:chOff x="3492360" y="2708280"/>
            <a:chExt cx="2376360" cy="142920"/>
          </a:xfrm>
        </p:grpSpPr>
        <p:sp>
          <p:nvSpPr>
            <p:cNvPr id="411" name="Line 5"/>
            <p:cNvSpPr/>
            <p:nvPr/>
          </p:nvSpPr>
          <p:spPr>
            <a:xfrm>
              <a:off x="3636720" y="2781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6"/>
            <p:cNvSpPr/>
            <p:nvPr/>
          </p:nvSpPr>
          <p:spPr>
            <a:xfrm>
              <a:off x="3492360" y="2708280"/>
              <a:ext cx="21600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"/>
            <p:cNvSpPr/>
            <p:nvPr/>
          </p:nvSpPr>
          <p:spPr>
            <a:xfrm>
              <a:off x="4213080" y="2708280"/>
              <a:ext cx="21600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8"/>
            <p:cNvSpPr/>
            <p:nvPr/>
          </p:nvSpPr>
          <p:spPr>
            <a:xfrm>
              <a:off x="4933800" y="2708280"/>
              <a:ext cx="21600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357440" y="2781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5149800" y="2781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5653080" y="2708280"/>
              <a:ext cx="21564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3"/>
          <p:cNvSpPr/>
          <p:nvPr/>
        </p:nvSpPr>
        <p:spPr>
          <a:xfrm>
            <a:off x="396720" y="32130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овая эвристика здесь не помож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00"/>
          <p:cNvGrpSpPr/>
          <p:nvPr/>
        </p:nvGrpSpPr>
        <p:grpSpPr>
          <a:xfrm>
            <a:off x="539640" y="3901320"/>
            <a:ext cx="5998680" cy="927720"/>
            <a:chOff x="539640" y="3901320"/>
            <a:chExt cx="5998680" cy="927720"/>
          </a:xfrm>
        </p:grpSpPr>
        <p:sp>
          <p:nvSpPr>
            <p:cNvPr id="420" name="Line 29"/>
            <p:cNvSpPr/>
            <p:nvPr/>
          </p:nvSpPr>
          <p:spPr>
            <a:xfrm>
              <a:off x="3492360" y="4006800"/>
              <a:ext cx="5763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55"/>
            <p:cNvGrpSpPr/>
            <p:nvPr/>
          </p:nvGrpSpPr>
          <p:grpSpPr>
            <a:xfrm>
              <a:off x="539640" y="3933720"/>
              <a:ext cx="2305080" cy="576360"/>
              <a:chOff x="539640" y="3933720"/>
              <a:chExt cx="2305080" cy="576360"/>
            </a:xfrm>
          </p:grpSpPr>
          <p:grpSp>
            <p:nvGrpSpPr>
              <p:cNvPr id="422" name="Group 28"/>
              <p:cNvGrpSpPr/>
              <p:nvPr/>
            </p:nvGrpSpPr>
            <p:grpSpPr>
              <a:xfrm>
                <a:off x="1692000" y="3933720"/>
                <a:ext cx="1152720" cy="144360"/>
                <a:chOff x="1692000" y="3933720"/>
                <a:chExt cx="1152720" cy="144360"/>
              </a:xfrm>
            </p:grpSpPr>
            <p:sp>
              <p:nvSpPr>
                <p:cNvPr id="423" name="Oval 23"/>
                <p:cNvSpPr/>
                <p:nvPr/>
              </p:nvSpPr>
              <p:spPr>
                <a:xfrm>
                  <a:off x="1692000" y="3933720"/>
                  <a:ext cx="144720" cy="144360"/>
                </a:xfrm>
                <a:prstGeom prst="ellipse">
                  <a:avLst/>
                </a:prstGeom>
                <a:solidFill>
                  <a:srgbClr val="ef5a1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4"/>
                <p:cNvSpPr/>
                <p:nvPr/>
              </p:nvSpPr>
              <p:spPr>
                <a:xfrm>
                  <a:off x="2195280" y="3933720"/>
                  <a:ext cx="14472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5"/>
                <p:cNvSpPr/>
                <p:nvPr/>
              </p:nvSpPr>
              <p:spPr>
                <a:xfrm>
                  <a:off x="2700360" y="393372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6"/>
                <p:cNvSpPr/>
                <p:nvPr/>
              </p:nvSpPr>
              <p:spPr>
                <a:xfrm>
                  <a:off x="1834920" y="40050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27"/>
                <p:cNvSpPr/>
                <p:nvPr/>
              </p:nvSpPr>
              <p:spPr>
                <a:xfrm>
                  <a:off x="2340000" y="40050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35"/>
              <p:cNvGrpSpPr/>
              <p:nvPr/>
            </p:nvGrpSpPr>
            <p:grpSpPr>
              <a:xfrm>
                <a:off x="539640" y="3933720"/>
                <a:ext cx="936360" cy="576360"/>
                <a:chOff x="539640" y="3933720"/>
                <a:chExt cx="936360" cy="576360"/>
              </a:xfrm>
            </p:grpSpPr>
            <p:sp>
              <p:nvSpPr>
                <p:cNvPr id="429" name="Oval 14"/>
                <p:cNvSpPr/>
                <p:nvPr/>
              </p:nvSpPr>
              <p:spPr>
                <a:xfrm>
                  <a:off x="900000" y="3933720"/>
                  <a:ext cx="215640" cy="144360"/>
                </a:xfrm>
                <a:prstGeom prst="ellipse">
                  <a:avLst/>
                </a:prstGeom>
                <a:solidFill>
                  <a:srgbClr val="ef5a1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15"/>
                <p:cNvSpPr/>
                <p:nvPr/>
              </p:nvSpPr>
              <p:spPr>
                <a:xfrm flipH="1">
                  <a:off x="612720" y="4078080"/>
                  <a:ext cx="2872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6"/>
                <p:cNvSpPr/>
                <p:nvPr/>
              </p:nvSpPr>
              <p:spPr>
                <a:xfrm flipH="1">
                  <a:off x="755280" y="4078080"/>
                  <a:ext cx="21600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7"/>
                <p:cNvSpPr/>
                <p:nvPr/>
              </p:nvSpPr>
              <p:spPr>
                <a:xfrm>
                  <a:off x="1044360" y="4078080"/>
                  <a:ext cx="14292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8"/>
                <p:cNvSpPr/>
                <p:nvPr/>
              </p:nvSpPr>
              <p:spPr>
                <a:xfrm>
                  <a:off x="1115640" y="4078080"/>
                  <a:ext cx="21600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1"/>
                <p:cNvSpPr/>
                <p:nvPr/>
              </p:nvSpPr>
              <p:spPr>
                <a:xfrm>
                  <a:off x="971280" y="4078080"/>
                  <a:ext cx="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30"/>
                <p:cNvSpPr/>
                <p:nvPr/>
              </p:nvSpPr>
              <p:spPr>
                <a:xfrm>
                  <a:off x="539640" y="422280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31"/>
                <p:cNvSpPr/>
                <p:nvPr/>
              </p:nvSpPr>
              <p:spPr>
                <a:xfrm>
                  <a:off x="684000" y="429408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32"/>
                <p:cNvSpPr/>
                <p:nvPr/>
              </p:nvSpPr>
              <p:spPr>
                <a:xfrm>
                  <a:off x="900000" y="4365360"/>
                  <a:ext cx="144360" cy="1447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33"/>
                <p:cNvSpPr/>
                <p:nvPr/>
              </p:nvSpPr>
              <p:spPr>
                <a:xfrm>
                  <a:off x="1115640" y="4294080"/>
                  <a:ext cx="14472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34"/>
                <p:cNvSpPr/>
                <p:nvPr/>
              </p:nvSpPr>
              <p:spPr>
                <a:xfrm>
                  <a:off x="1331640" y="422280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0" name="Group 56"/>
            <p:cNvGrpSpPr/>
            <p:nvPr/>
          </p:nvGrpSpPr>
          <p:grpSpPr>
            <a:xfrm>
              <a:off x="4644720" y="3901320"/>
              <a:ext cx="1893600" cy="927720"/>
              <a:chOff x="4644720" y="3901320"/>
              <a:chExt cx="1893600" cy="927720"/>
            </a:xfrm>
          </p:grpSpPr>
          <p:grpSp>
            <p:nvGrpSpPr>
              <p:cNvPr id="441" name="Group 36"/>
              <p:cNvGrpSpPr/>
              <p:nvPr/>
            </p:nvGrpSpPr>
            <p:grpSpPr>
              <a:xfrm>
                <a:off x="4644720" y="3933720"/>
                <a:ext cx="936360" cy="576360"/>
                <a:chOff x="4644720" y="3933720"/>
                <a:chExt cx="936360" cy="576360"/>
              </a:xfrm>
            </p:grpSpPr>
            <p:sp>
              <p:nvSpPr>
                <p:cNvPr id="442" name="Oval 37"/>
                <p:cNvSpPr/>
                <p:nvPr/>
              </p:nvSpPr>
              <p:spPr>
                <a:xfrm>
                  <a:off x="5005080" y="3933720"/>
                  <a:ext cx="215640" cy="144360"/>
                </a:xfrm>
                <a:prstGeom prst="ellipse">
                  <a:avLst/>
                </a:prstGeom>
                <a:solidFill>
                  <a:srgbClr val="ef5a1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38"/>
                <p:cNvSpPr/>
                <p:nvPr/>
              </p:nvSpPr>
              <p:spPr>
                <a:xfrm flipH="1">
                  <a:off x="4717800" y="4078080"/>
                  <a:ext cx="2872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39"/>
                <p:cNvSpPr/>
                <p:nvPr/>
              </p:nvSpPr>
              <p:spPr>
                <a:xfrm flipH="1">
                  <a:off x="4860360" y="4078080"/>
                  <a:ext cx="21600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40"/>
                <p:cNvSpPr/>
                <p:nvPr/>
              </p:nvSpPr>
              <p:spPr>
                <a:xfrm>
                  <a:off x="5149440" y="4078080"/>
                  <a:ext cx="14292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41"/>
                <p:cNvSpPr/>
                <p:nvPr/>
              </p:nvSpPr>
              <p:spPr>
                <a:xfrm>
                  <a:off x="5220720" y="4078080"/>
                  <a:ext cx="21600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42"/>
                <p:cNvSpPr/>
                <p:nvPr/>
              </p:nvSpPr>
              <p:spPr>
                <a:xfrm>
                  <a:off x="5076360" y="4078080"/>
                  <a:ext cx="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3"/>
                <p:cNvSpPr/>
                <p:nvPr/>
              </p:nvSpPr>
              <p:spPr>
                <a:xfrm>
                  <a:off x="4644720" y="422280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44"/>
                <p:cNvSpPr/>
                <p:nvPr/>
              </p:nvSpPr>
              <p:spPr>
                <a:xfrm>
                  <a:off x="4789080" y="429408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45"/>
                <p:cNvSpPr/>
                <p:nvPr/>
              </p:nvSpPr>
              <p:spPr>
                <a:xfrm>
                  <a:off x="5005080" y="4365360"/>
                  <a:ext cx="144360" cy="1447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46"/>
                <p:cNvSpPr/>
                <p:nvPr/>
              </p:nvSpPr>
              <p:spPr>
                <a:xfrm>
                  <a:off x="5220720" y="4294080"/>
                  <a:ext cx="14472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47"/>
                <p:cNvSpPr/>
                <p:nvPr/>
              </p:nvSpPr>
              <p:spPr>
                <a:xfrm>
                  <a:off x="5436720" y="422280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8"/>
              <p:cNvGrpSpPr/>
              <p:nvPr/>
            </p:nvGrpSpPr>
            <p:grpSpPr>
              <a:xfrm>
                <a:off x="5632560" y="3901320"/>
                <a:ext cx="905760" cy="927720"/>
                <a:chOff x="5632560" y="3901320"/>
                <a:chExt cx="905760" cy="927720"/>
              </a:xfrm>
            </p:grpSpPr>
            <p:sp>
              <p:nvSpPr>
                <p:cNvPr id="454" name="Oval 49"/>
                <p:cNvSpPr/>
                <p:nvPr/>
              </p:nvSpPr>
              <p:spPr>
                <a:xfrm rot="2752800">
                  <a:off x="5662440" y="393120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50"/>
                <p:cNvSpPr/>
                <p:nvPr/>
              </p:nvSpPr>
              <p:spPr>
                <a:xfrm rot="2752800">
                  <a:off x="6012720" y="4292280"/>
                  <a:ext cx="14436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51"/>
                <p:cNvSpPr/>
                <p:nvPr/>
              </p:nvSpPr>
              <p:spPr>
                <a:xfrm rot="2752800">
                  <a:off x="6364440" y="4654800"/>
                  <a:ext cx="144000" cy="1443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52"/>
                <p:cNvSpPr/>
                <p:nvPr/>
              </p:nvSpPr>
              <p:spPr>
                <a:xfrm>
                  <a:off x="5784480" y="4053600"/>
                  <a:ext cx="250560" cy="25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53"/>
                <p:cNvSpPr/>
                <p:nvPr/>
              </p:nvSpPr>
              <p:spPr>
                <a:xfrm>
                  <a:off x="6136200" y="4416120"/>
                  <a:ext cx="25056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Line 54"/>
              <p:cNvSpPr/>
              <p:nvPr/>
            </p:nvSpPr>
            <p:spPr>
              <a:xfrm>
                <a:off x="5221080" y="40068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Rectangle 57"/>
          <p:cNvSpPr/>
          <p:nvPr/>
        </p:nvSpPr>
        <p:spPr>
          <a:xfrm>
            <a:off x="46836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убина дерева увеличилась, а это 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3"/>
          <p:cNvSpPr/>
          <p:nvPr/>
        </p:nvSpPr>
        <p:spPr>
          <a:xfrm>
            <a:off x="250920" y="549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Эвристика объединением по рангу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ится высота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а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ина пути от вершины до лис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рев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 с меньшим рангом подвешивается к дереву с большим ранг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этом ранг нового дерева не изменяется. Если  ранги деревьев равны, то ранг нового дерева увеличивается на еди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35"/>
          <p:cNvGrpSpPr/>
          <p:nvPr/>
        </p:nvGrpSpPr>
        <p:grpSpPr>
          <a:xfrm>
            <a:off x="611280" y="3171600"/>
            <a:ext cx="6450120" cy="761760"/>
            <a:chOff x="611280" y="3171600"/>
            <a:chExt cx="6450120" cy="761760"/>
          </a:xfrm>
        </p:grpSpPr>
        <p:grpSp>
          <p:nvGrpSpPr>
            <p:cNvPr id="463" name="Group 55"/>
            <p:cNvGrpSpPr/>
            <p:nvPr/>
          </p:nvGrpSpPr>
          <p:grpSpPr>
            <a:xfrm>
              <a:off x="1763640" y="3284640"/>
              <a:ext cx="1152720" cy="144360"/>
              <a:chOff x="1763640" y="3284640"/>
              <a:chExt cx="1152720" cy="144360"/>
            </a:xfrm>
          </p:grpSpPr>
          <p:sp>
            <p:nvSpPr>
              <p:cNvPr id="464" name="Oval 56"/>
              <p:cNvSpPr/>
              <p:nvPr/>
            </p:nvSpPr>
            <p:spPr>
              <a:xfrm>
                <a:off x="1763640" y="3284640"/>
                <a:ext cx="144720" cy="144360"/>
              </a:xfrm>
              <a:prstGeom prst="ellipse">
                <a:avLst/>
              </a:prstGeom>
              <a:solidFill>
                <a:srgbClr val="ef5a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7"/>
              <p:cNvSpPr/>
              <p:nvPr/>
            </p:nvSpPr>
            <p:spPr>
              <a:xfrm>
                <a:off x="2266920" y="3284640"/>
                <a:ext cx="14472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8"/>
              <p:cNvSpPr/>
              <p:nvPr/>
            </p:nvSpPr>
            <p:spPr>
              <a:xfrm>
                <a:off x="2772000" y="3284640"/>
                <a:ext cx="14436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9"/>
              <p:cNvSpPr/>
              <p:nvPr/>
            </p:nvSpPr>
            <p:spPr>
              <a:xfrm>
                <a:off x="1906560" y="33559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60"/>
              <p:cNvSpPr/>
              <p:nvPr/>
            </p:nvSpPr>
            <p:spPr>
              <a:xfrm>
                <a:off x="2411640" y="33559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1"/>
            <p:cNvGrpSpPr/>
            <p:nvPr/>
          </p:nvGrpSpPr>
          <p:grpSpPr>
            <a:xfrm>
              <a:off x="611280" y="3284640"/>
              <a:ext cx="936360" cy="575640"/>
              <a:chOff x="611280" y="3284640"/>
              <a:chExt cx="936360" cy="575640"/>
            </a:xfrm>
          </p:grpSpPr>
          <p:sp>
            <p:nvSpPr>
              <p:cNvPr id="470" name="Oval 62"/>
              <p:cNvSpPr/>
              <p:nvPr/>
            </p:nvSpPr>
            <p:spPr>
              <a:xfrm>
                <a:off x="971640" y="3284640"/>
                <a:ext cx="215640" cy="144000"/>
              </a:xfrm>
              <a:prstGeom prst="ellipse">
                <a:avLst/>
              </a:prstGeom>
              <a:solidFill>
                <a:srgbClr val="ef5a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3"/>
              <p:cNvSpPr/>
              <p:nvPr/>
            </p:nvSpPr>
            <p:spPr>
              <a:xfrm flipH="1">
                <a:off x="684360" y="342864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64"/>
              <p:cNvSpPr/>
              <p:nvPr/>
            </p:nvSpPr>
            <p:spPr>
              <a:xfrm flipH="1">
                <a:off x="826920" y="342864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65"/>
              <p:cNvSpPr/>
              <p:nvPr/>
            </p:nvSpPr>
            <p:spPr>
              <a:xfrm>
                <a:off x="1116000" y="3428640"/>
                <a:ext cx="1429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6"/>
              <p:cNvSpPr/>
              <p:nvPr/>
            </p:nvSpPr>
            <p:spPr>
              <a:xfrm>
                <a:off x="1187280" y="3428640"/>
                <a:ext cx="216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67"/>
              <p:cNvSpPr/>
              <p:nvPr/>
            </p:nvSpPr>
            <p:spPr>
              <a:xfrm>
                <a:off x="1042920" y="3428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68"/>
              <p:cNvSpPr/>
              <p:nvPr/>
            </p:nvSpPr>
            <p:spPr>
              <a:xfrm>
                <a:off x="611280" y="357336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69"/>
              <p:cNvSpPr/>
              <p:nvPr/>
            </p:nvSpPr>
            <p:spPr>
              <a:xfrm>
                <a:off x="755640" y="364464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0"/>
              <p:cNvSpPr/>
              <p:nvPr/>
            </p:nvSpPr>
            <p:spPr>
              <a:xfrm>
                <a:off x="971640" y="3715920"/>
                <a:ext cx="14436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71"/>
              <p:cNvSpPr/>
              <p:nvPr/>
            </p:nvSpPr>
            <p:spPr>
              <a:xfrm>
                <a:off x="1187280" y="3644640"/>
                <a:ext cx="14472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2"/>
              <p:cNvSpPr/>
              <p:nvPr/>
            </p:nvSpPr>
            <p:spPr>
              <a:xfrm>
                <a:off x="1403280" y="357336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73"/>
            <p:cNvSpPr/>
            <p:nvPr/>
          </p:nvSpPr>
          <p:spPr>
            <a:xfrm>
              <a:off x="3708360" y="3500280"/>
              <a:ext cx="5763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75"/>
            <p:cNvGrpSpPr/>
            <p:nvPr/>
          </p:nvGrpSpPr>
          <p:grpSpPr>
            <a:xfrm>
              <a:off x="5003640" y="3357720"/>
              <a:ext cx="936360" cy="575640"/>
              <a:chOff x="5003640" y="3357720"/>
              <a:chExt cx="936360" cy="575640"/>
            </a:xfrm>
          </p:grpSpPr>
          <p:sp>
            <p:nvSpPr>
              <p:cNvPr id="483" name="Oval 76"/>
              <p:cNvSpPr/>
              <p:nvPr/>
            </p:nvSpPr>
            <p:spPr>
              <a:xfrm>
                <a:off x="5364000" y="3357720"/>
                <a:ext cx="21564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77"/>
              <p:cNvSpPr/>
              <p:nvPr/>
            </p:nvSpPr>
            <p:spPr>
              <a:xfrm flipH="1">
                <a:off x="5076720" y="350172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78"/>
              <p:cNvSpPr/>
              <p:nvPr/>
            </p:nvSpPr>
            <p:spPr>
              <a:xfrm flipH="1">
                <a:off x="5219280" y="350172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9"/>
              <p:cNvSpPr/>
              <p:nvPr/>
            </p:nvSpPr>
            <p:spPr>
              <a:xfrm>
                <a:off x="5508360" y="3501720"/>
                <a:ext cx="1429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80"/>
              <p:cNvSpPr/>
              <p:nvPr/>
            </p:nvSpPr>
            <p:spPr>
              <a:xfrm>
                <a:off x="5579640" y="3501720"/>
                <a:ext cx="216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81"/>
              <p:cNvSpPr/>
              <p:nvPr/>
            </p:nvSpPr>
            <p:spPr>
              <a:xfrm>
                <a:off x="5435280" y="350172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82"/>
              <p:cNvSpPr/>
              <p:nvPr/>
            </p:nvSpPr>
            <p:spPr>
              <a:xfrm>
                <a:off x="5003640" y="364644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83"/>
              <p:cNvSpPr/>
              <p:nvPr/>
            </p:nvSpPr>
            <p:spPr>
              <a:xfrm>
                <a:off x="5148000" y="371772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4"/>
              <p:cNvSpPr/>
              <p:nvPr/>
            </p:nvSpPr>
            <p:spPr>
              <a:xfrm>
                <a:off x="5364000" y="3789000"/>
                <a:ext cx="14436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85"/>
              <p:cNvSpPr/>
              <p:nvPr/>
            </p:nvSpPr>
            <p:spPr>
              <a:xfrm>
                <a:off x="5579640" y="3717720"/>
                <a:ext cx="14472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86"/>
              <p:cNvSpPr/>
              <p:nvPr/>
            </p:nvSpPr>
            <p:spPr>
              <a:xfrm>
                <a:off x="5795640" y="3646440"/>
                <a:ext cx="144360" cy="144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87"/>
            <p:cNvGrpSpPr/>
            <p:nvPr/>
          </p:nvGrpSpPr>
          <p:grpSpPr>
            <a:xfrm>
              <a:off x="5971680" y="3171600"/>
              <a:ext cx="1089720" cy="659160"/>
              <a:chOff x="5971680" y="3171600"/>
              <a:chExt cx="1089720" cy="659160"/>
            </a:xfrm>
          </p:grpSpPr>
          <p:sp>
            <p:nvSpPr>
              <p:cNvPr id="495" name="Oval 88"/>
              <p:cNvSpPr/>
              <p:nvPr/>
            </p:nvSpPr>
            <p:spPr>
              <a:xfrm rot="1646400">
                <a:off x="5996520" y="3196800"/>
                <a:ext cx="144720" cy="144360"/>
              </a:xfrm>
              <a:prstGeom prst="ellipse">
                <a:avLst/>
              </a:prstGeom>
              <a:solidFill>
                <a:srgbClr val="ef5a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89"/>
              <p:cNvSpPr/>
              <p:nvPr/>
            </p:nvSpPr>
            <p:spPr>
              <a:xfrm rot="1646400">
                <a:off x="6443280" y="3428640"/>
                <a:ext cx="14472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90"/>
              <p:cNvSpPr/>
              <p:nvPr/>
            </p:nvSpPr>
            <p:spPr>
              <a:xfrm rot="1646400">
                <a:off x="6891840" y="3660840"/>
                <a:ext cx="144360" cy="1443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91"/>
              <p:cNvSpPr/>
              <p:nvPr/>
            </p:nvSpPr>
            <p:spPr>
              <a:xfrm>
                <a:off x="6132240" y="3300480"/>
                <a:ext cx="320040" cy="1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92"/>
              <p:cNvSpPr/>
              <p:nvPr/>
            </p:nvSpPr>
            <p:spPr>
              <a:xfrm>
                <a:off x="6580800" y="3533400"/>
                <a:ext cx="319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Line 93"/>
            <p:cNvSpPr/>
            <p:nvPr/>
          </p:nvSpPr>
          <p:spPr>
            <a:xfrm flipH="1">
              <a:off x="5508720" y="328464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Метод поиска в глубин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5716440" y="3030480"/>
            <a:ext cx="47016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6378480" y="4095720"/>
            <a:ext cx="47016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6599160" y="155736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6"/>
          <p:cNvSpPr/>
          <p:nvPr/>
        </p:nvSpPr>
        <p:spPr>
          <a:xfrm>
            <a:off x="7612200" y="311940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810400" y="303048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668720" y="3068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600240" y="1557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hape 24"/>
          <p:cNvCxnSpPr>
            <a:endCxn id="50" idx="0"/>
          </p:cNvCxnSpPr>
          <p:nvPr/>
        </p:nvCxnSpPr>
        <p:spPr>
          <a:xfrm flipH="1">
            <a:off x="6018120" y="1964880"/>
            <a:ext cx="665640" cy="10659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54" name="TextBox 16"/>
          <p:cNvSpPr/>
          <p:nvPr/>
        </p:nvSpPr>
        <p:spPr>
          <a:xfrm>
            <a:off x="6378840" y="4095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7"/>
          <p:cNvSpPr/>
          <p:nvPr/>
        </p:nvSpPr>
        <p:spPr>
          <a:xfrm>
            <a:off x="5148360" y="409572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5149440" y="4095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hape 20"/>
          <p:cNvCxnSpPr>
            <a:endCxn id="49" idx="1"/>
          </p:cNvCxnSpPr>
          <p:nvPr/>
        </p:nvCxnSpPr>
        <p:spPr>
          <a:xfrm>
            <a:off x="6950160" y="1968120"/>
            <a:ext cx="730800" cy="1204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58" name=""/>
          <p:cNvSpPr txBox="1"/>
          <p:nvPr/>
        </p:nvSpPr>
        <p:spPr>
          <a:xfrm>
            <a:off x="8345880" y="4158720"/>
            <a:ext cx="334080" cy="306000"/>
          </a:xfrm>
          <a:prstGeom prst="rect">
            <a:avLst/>
          </a:prstGeom>
          <a:noFill/>
          <a:ln w="25560">
            <a:solidFill>
              <a:srgbClr val="385d8a"/>
            </a:solidFill>
            <a:round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hape 24"/>
          <p:cNvCxnSpPr>
            <a:endCxn id="48" idx="6"/>
          </p:cNvCxnSpPr>
          <p:nvPr/>
        </p:nvCxnSpPr>
        <p:spPr>
          <a:xfrm flipH="1">
            <a:off x="5304600" y="3385800"/>
            <a:ext cx="461160" cy="710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0" name="Shape 24"/>
          <p:cNvCxnSpPr>
            <a:endCxn id="48" idx="6"/>
          </p:cNvCxnSpPr>
          <p:nvPr/>
        </p:nvCxnSpPr>
        <p:spPr>
          <a:xfrm>
            <a:off x="6017760" y="3427560"/>
            <a:ext cx="516600" cy="6688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1" name="Shape 20"/>
          <p:cNvCxnSpPr>
            <a:endCxn id="48" idx="6"/>
          </p:cNvCxnSpPr>
          <p:nvPr/>
        </p:nvCxnSpPr>
        <p:spPr>
          <a:xfrm>
            <a:off x="8013600" y="3506400"/>
            <a:ext cx="332640" cy="640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2" name="Shape 14"/>
          <p:cNvCxnSpPr>
            <a:stCxn id="56" idx="1"/>
            <a:endCxn id="52" idx="1"/>
          </p:cNvCxnSpPr>
          <p:nvPr/>
        </p:nvCxnSpPr>
        <p:spPr>
          <a:xfrm flipH="1" rot="10800000">
            <a:off x="5148000" y="1755000"/>
            <a:ext cx="1451520" cy="2539080"/>
          </a:xfrm>
          <a:prstGeom prst="curvedConnector5">
            <a:avLst>
              <a:gd name="adj1" fmla="val -20243"/>
              <a:gd name="adj2" fmla="val 50000"/>
              <a:gd name="adj3" fmla="val -20243"/>
            </a:avLst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3" name="Shape 14"/>
          <p:cNvCxnSpPr>
            <a:endCxn id="48" idx="6"/>
          </p:cNvCxnSpPr>
          <p:nvPr/>
        </p:nvCxnSpPr>
        <p:spPr>
          <a:xfrm flipV="1">
            <a:off x="6534000" y="2009520"/>
            <a:ext cx="300600" cy="20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hape 14"/>
          <p:cNvCxnSpPr>
            <a:endCxn id="48" idx="6"/>
          </p:cNvCxnSpPr>
          <p:nvPr/>
        </p:nvCxnSpPr>
        <p:spPr>
          <a:xfrm flipV="1" rot="16200000">
            <a:off x="6644880" y="2214000"/>
            <a:ext cx="2305440" cy="14324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Rectangle 38"/>
          <p:cNvSpPr/>
          <p:nvPr/>
        </p:nvSpPr>
        <p:spPr>
          <a:xfrm>
            <a:off x="285840" y="1857240"/>
            <a:ext cx="518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оиск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u ←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еры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[u]=time++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 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ля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c0504d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j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    if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 ==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белый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v]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←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оиск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u ←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черны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[u]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←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0920" y="476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Эвристика сжатия путе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при определении представителя множества от вершины нашли путь к корню, можно эту вершину подвесить к корню, как показано на рисунке ни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ализации перевешивание вершины выполняется на выходе из рекурс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6"/>
          <p:cNvSpPr/>
          <p:nvPr/>
        </p:nvSpPr>
        <p:spPr>
          <a:xfrm>
            <a:off x="250920" y="4797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indSet 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ратная функция Аккерман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nion (X, 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чисе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6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ратная функция Аккерм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69"/>
          <p:cNvGrpSpPr/>
          <p:nvPr/>
        </p:nvGrpSpPr>
        <p:grpSpPr>
          <a:xfrm>
            <a:off x="250920" y="2924280"/>
            <a:ext cx="1944720" cy="1838520"/>
            <a:chOff x="250920" y="2924280"/>
            <a:chExt cx="1944720" cy="1838520"/>
          </a:xfrm>
        </p:grpSpPr>
        <p:sp>
          <p:nvSpPr>
            <p:cNvPr id="504" name="Oval 44"/>
            <p:cNvSpPr/>
            <p:nvPr/>
          </p:nvSpPr>
          <p:spPr>
            <a:xfrm>
              <a:off x="971640" y="2924280"/>
              <a:ext cx="144360" cy="142560"/>
            </a:xfrm>
            <a:prstGeom prst="ellipse">
              <a:avLst/>
            </a:prstGeom>
            <a:solidFill>
              <a:srgbClr val="ef5a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5"/>
            <p:cNvSpPr/>
            <p:nvPr/>
          </p:nvSpPr>
          <p:spPr>
            <a:xfrm>
              <a:off x="611280" y="335592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6"/>
            <p:cNvSpPr/>
            <p:nvPr/>
          </p:nvSpPr>
          <p:spPr>
            <a:xfrm>
              <a:off x="1332000" y="321156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7"/>
            <p:cNvSpPr/>
            <p:nvPr/>
          </p:nvSpPr>
          <p:spPr>
            <a:xfrm>
              <a:off x="250920" y="385920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8"/>
            <p:cNvSpPr/>
            <p:nvPr/>
          </p:nvSpPr>
          <p:spPr>
            <a:xfrm>
              <a:off x="898560" y="393228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9"/>
            <p:cNvSpPr/>
            <p:nvPr/>
          </p:nvSpPr>
          <p:spPr>
            <a:xfrm>
              <a:off x="1187640" y="4435560"/>
              <a:ext cx="144360" cy="1425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0"/>
            <p:cNvSpPr/>
            <p:nvPr/>
          </p:nvSpPr>
          <p:spPr>
            <a:xfrm>
              <a:off x="611280" y="4435560"/>
              <a:ext cx="14436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51"/>
            <p:cNvSpPr/>
            <p:nvPr/>
          </p:nvSpPr>
          <p:spPr>
            <a:xfrm>
              <a:off x="1763640" y="3643200"/>
              <a:ext cx="144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2"/>
            <p:cNvSpPr/>
            <p:nvPr/>
          </p:nvSpPr>
          <p:spPr>
            <a:xfrm>
              <a:off x="1187640" y="371628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3"/>
            <p:cNvSpPr/>
            <p:nvPr/>
          </p:nvSpPr>
          <p:spPr>
            <a:xfrm>
              <a:off x="2051280" y="400356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54"/>
            <p:cNvSpPr/>
            <p:nvPr/>
          </p:nvSpPr>
          <p:spPr>
            <a:xfrm flipH="1">
              <a:off x="755640" y="3066840"/>
              <a:ext cx="21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55"/>
            <p:cNvSpPr/>
            <p:nvPr/>
          </p:nvSpPr>
          <p:spPr>
            <a:xfrm flipH="1">
              <a:off x="324000" y="3498840"/>
              <a:ext cx="3585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6"/>
            <p:cNvSpPr/>
            <p:nvPr/>
          </p:nvSpPr>
          <p:spPr>
            <a:xfrm>
              <a:off x="755640" y="3498840"/>
              <a:ext cx="1429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57"/>
            <p:cNvSpPr/>
            <p:nvPr/>
          </p:nvSpPr>
          <p:spPr>
            <a:xfrm flipH="1">
              <a:off x="682560" y="4075200"/>
              <a:ext cx="2160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58"/>
            <p:cNvSpPr/>
            <p:nvPr/>
          </p:nvSpPr>
          <p:spPr>
            <a:xfrm>
              <a:off x="971640" y="407520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9"/>
            <p:cNvSpPr/>
            <p:nvPr/>
          </p:nvSpPr>
          <p:spPr>
            <a:xfrm>
              <a:off x="1042920" y="2995560"/>
              <a:ext cx="28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0"/>
            <p:cNvSpPr/>
            <p:nvPr/>
          </p:nvSpPr>
          <p:spPr>
            <a:xfrm flipH="1">
              <a:off x="1258560" y="3355920"/>
              <a:ext cx="144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1474920" y="33559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62"/>
            <p:cNvSpPr/>
            <p:nvPr/>
          </p:nvSpPr>
          <p:spPr>
            <a:xfrm>
              <a:off x="1906560" y="3787560"/>
              <a:ext cx="144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4"/>
            <p:cNvSpPr/>
            <p:nvPr/>
          </p:nvSpPr>
          <p:spPr>
            <a:xfrm>
              <a:off x="1260000" y="4363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7"/>
            <p:cNvSpPr/>
            <p:nvPr/>
          </p:nvSpPr>
          <p:spPr>
            <a:xfrm>
              <a:off x="1042920" y="2997000"/>
              <a:ext cx="216000" cy="1511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68"/>
            <p:cNvSpPr/>
            <p:nvPr/>
          </p:nvSpPr>
          <p:spPr>
            <a:xfrm flipH="1">
              <a:off x="971640" y="3068640"/>
              <a:ext cx="71280" cy="863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Line 70"/>
          <p:cNvSpPr/>
          <p:nvPr/>
        </p:nvSpPr>
        <p:spPr>
          <a:xfrm>
            <a:off x="2700360" y="4005360"/>
            <a:ext cx="719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94"/>
          <p:cNvGrpSpPr/>
          <p:nvPr/>
        </p:nvGrpSpPr>
        <p:grpSpPr>
          <a:xfrm>
            <a:off x="3635280" y="2852640"/>
            <a:ext cx="1944720" cy="1838880"/>
            <a:chOff x="3635280" y="2852640"/>
            <a:chExt cx="1944720" cy="1838880"/>
          </a:xfrm>
        </p:grpSpPr>
        <p:sp>
          <p:nvSpPr>
            <p:cNvPr id="528" name="Oval 72"/>
            <p:cNvSpPr/>
            <p:nvPr/>
          </p:nvSpPr>
          <p:spPr>
            <a:xfrm>
              <a:off x="4356000" y="2852640"/>
              <a:ext cx="144360" cy="142920"/>
            </a:xfrm>
            <a:prstGeom prst="ellipse">
              <a:avLst/>
            </a:prstGeom>
            <a:solidFill>
              <a:srgbClr val="ef5a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3"/>
            <p:cNvSpPr/>
            <p:nvPr/>
          </p:nvSpPr>
          <p:spPr>
            <a:xfrm>
              <a:off x="3995640" y="3284640"/>
              <a:ext cx="14436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74"/>
            <p:cNvSpPr/>
            <p:nvPr/>
          </p:nvSpPr>
          <p:spPr>
            <a:xfrm>
              <a:off x="4716360" y="313992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75"/>
            <p:cNvSpPr/>
            <p:nvPr/>
          </p:nvSpPr>
          <p:spPr>
            <a:xfrm>
              <a:off x="3635280" y="378756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76"/>
            <p:cNvSpPr/>
            <p:nvPr/>
          </p:nvSpPr>
          <p:spPr>
            <a:xfrm>
              <a:off x="4282920" y="386064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77"/>
            <p:cNvSpPr/>
            <p:nvPr/>
          </p:nvSpPr>
          <p:spPr>
            <a:xfrm>
              <a:off x="4571640" y="4363920"/>
              <a:ext cx="144720" cy="1429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78"/>
            <p:cNvSpPr/>
            <p:nvPr/>
          </p:nvSpPr>
          <p:spPr>
            <a:xfrm>
              <a:off x="3995640" y="436392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79"/>
            <p:cNvSpPr/>
            <p:nvPr/>
          </p:nvSpPr>
          <p:spPr>
            <a:xfrm>
              <a:off x="5148000" y="3571920"/>
              <a:ext cx="14436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80"/>
            <p:cNvSpPr/>
            <p:nvPr/>
          </p:nvSpPr>
          <p:spPr>
            <a:xfrm>
              <a:off x="4571640" y="3645000"/>
              <a:ext cx="144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81"/>
            <p:cNvSpPr/>
            <p:nvPr/>
          </p:nvSpPr>
          <p:spPr>
            <a:xfrm>
              <a:off x="5435280" y="3932280"/>
              <a:ext cx="144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82"/>
            <p:cNvSpPr/>
            <p:nvPr/>
          </p:nvSpPr>
          <p:spPr>
            <a:xfrm flipH="1">
              <a:off x="4140000" y="2995560"/>
              <a:ext cx="21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83"/>
            <p:cNvSpPr/>
            <p:nvPr/>
          </p:nvSpPr>
          <p:spPr>
            <a:xfrm flipH="1">
              <a:off x="3708360" y="3427200"/>
              <a:ext cx="3585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85"/>
            <p:cNvSpPr/>
            <p:nvPr/>
          </p:nvSpPr>
          <p:spPr>
            <a:xfrm flipH="1">
              <a:off x="4066920" y="4003560"/>
              <a:ext cx="21600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87"/>
            <p:cNvSpPr/>
            <p:nvPr/>
          </p:nvSpPr>
          <p:spPr>
            <a:xfrm>
              <a:off x="4427280" y="2924280"/>
              <a:ext cx="289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88"/>
            <p:cNvSpPr/>
            <p:nvPr/>
          </p:nvSpPr>
          <p:spPr>
            <a:xfrm flipH="1">
              <a:off x="4642920" y="3284640"/>
              <a:ext cx="144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9"/>
            <p:cNvSpPr/>
            <p:nvPr/>
          </p:nvSpPr>
          <p:spPr>
            <a:xfrm>
              <a:off x="4859280" y="328464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90"/>
            <p:cNvSpPr/>
            <p:nvPr/>
          </p:nvSpPr>
          <p:spPr>
            <a:xfrm>
              <a:off x="5290920" y="37162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91"/>
            <p:cNvSpPr/>
            <p:nvPr/>
          </p:nvSpPr>
          <p:spPr>
            <a:xfrm>
              <a:off x="464436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92"/>
            <p:cNvSpPr/>
            <p:nvPr/>
          </p:nvSpPr>
          <p:spPr>
            <a:xfrm>
              <a:off x="4427280" y="2925720"/>
              <a:ext cx="216000" cy="1511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93"/>
            <p:cNvSpPr/>
            <p:nvPr/>
          </p:nvSpPr>
          <p:spPr>
            <a:xfrm flipH="1">
              <a:off x="4356000" y="2997000"/>
              <a:ext cx="71280" cy="863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98"/>
          <p:cNvSpPr/>
          <p:nvPr/>
        </p:nvSpPr>
        <p:spPr>
          <a:xfrm>
            <a:off x="572508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9"/>
          <p:cNvGrpSpPr/>
          <p:nvPr/>
        </p:nvGrpSpPr>
        <p:grpSpPr>
          <a:xfrm>
            <a:off x="6516720" y="3141720"/>
            <a:ext cx="1581840" cy="863280"/>
            <a:chOff x="6516720" y="3141720"/>
            <a:chExt cx="1581840" cy="863280"/>
          </a:xfrm>
        </p:grpSpPr>
        <p:sp>
          <p:nvSpPr>
            <p:cNvPr id="550" name="Oval 100"/>
            <p:cNvSpPr/>
            <p:nvPr/>
          </p:nvSpPr>
          <p:spPr>
            <a:xfrm>
              <a:off x="7125480" y="3141720"/>
              <a:ext cx="364320" cy="216000"/>
            </a:xfrm>
            <a:prstGeom prst="ellipse">
              <a:avLst/>
            </a:prstGeom>
            <a:solidFill>
              <a:srgbClr val="ef5a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01"/>
            <p:cNvSpPr/>
            <p:nvPr/>
          </p:nvSpPr>
          <p:spPr>
            <a:xfrm flipH="1">
              <a:off x="6640200" y="3357720"/>
              <a:ext cx="485280" cy="32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02"/>
            <p:cNvSpPr/>
            <p:nvPr/>
          </p:nvSpPr>
          <p:spPr>
            <a:xfrm flipH="1">
              <a:off x="6880680" y="3357720"/>
              <a:ext cx="36468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03"/>
            <p:cNvSpPr/>
            <p:nvPr/>
          </p:nvSpPr>
          <p:spPr>
            <a:xfrm>
              <a:off x="7369560" y="3357720"/>
              <a:ext cx="24120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4"/>
            <p:cNvSpPr/>
            <p:nvPr/>
          </p:nvSpPr>
          <p:spPr>
            <a:xfrm>
              <a:off x="7489800" y="3357720"/>
              <a:ext cx="36468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05"/>
            <p:cNvSpPr/>
            <p:nvPr/>
          </p:nvSpPr>
          <p:spPr>
            <a:xfrm>
              <a:off x="7246080" y="3357720"/>
              <a:ext cx="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06"/>
            <p:cNvSpPr/>
            <p:nvPr/>
          </p:nvSpPr>
          <p:spPr>
            <a:xfrm>
              <a:off x="6516720" y="3574440"/>
              <a:ext cx="243720" cy="216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07"/>
            <p:cNvSpPr/>
            <p:nvPr/>
          </p:nvSpPr>
          <p:spPr>
            <a:xfrm>
              <a:off x="6760440" y="3681360"/>
              <a:ext cx="243720" cy="216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08"/>
            <p:cNvSpPr/>
            <p:nvPr/>
          </p:nvSpPr>
          <p:spPr>
            <a:xfrm>
              <a:off x="7125480" y="3788280"/>
              <a:ext cx="243720" cy="21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09"/>
            <p:cNvSpPr/>
            <p:nvPr/>
          </p:nvSpPr>
          <p:spPr>
            <a:xfrm>
              <a:off x="7489800" y="3681360"/>
              <a:ext cx="244440" cy="216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10"/>
            <p:cNvSpPr/>
            <p:nvPr/>
          </p:nvSpPr>
          <p:spPr>
            <a:xfrm>
              <a:off x="7854840" y="3574440"/>
              <a:ext cx="243720" cy="216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Функция Аккер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х целых положительных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]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j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писание алгоритма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элементы X - это некоторые числа. Вся структур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анится 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е двух массивов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Ran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и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держит предков, т.е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- эт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лемента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о., мы имеем древовидную структуру данных: двигаясь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кам от любого элемент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дём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и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а, к которому принадлежит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это означает, ч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а, к которому он принадлежи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корнем де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и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Ran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хранит ранги представителей, его значения име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с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элементов-представ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нг некоторого элемента-представителя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верхня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ица его высо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его дереве. Ранги используются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ерации Un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5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5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5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Реал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ициализ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or (int i=0; i&lt;max_n; ++i) p[i] = i;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akeSet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операция очень проста - мы указываем, ч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[X] = X, а ранг X рав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void makeset (int x) {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p[x] = x; rank[x] = 0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FindSet 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ем двигаться о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 предкам, до тех пор пока не найдём представителя. У каждого элемента, который мы проходим, мы также исправляем P, указывая его сразу на найденного представит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фактически операц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FindS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вухпроходная: на первом проходе мы ищем представителя, а на втором исправляем значения P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nt  find_set (int x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f (x == p[x]) return x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return p[x] = find_set (p[x]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Union (X, 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заменяем 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представите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множеств, вызывая функцию FindS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диняем два множества, присваива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если ранги элемент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личны, то мы делаем корень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'льшим  рангом родительским по отношению к корню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им ра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если же ранги обоих элементов совпадают, родитель выбир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ым образом, его ранг увеличивается на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oid unite (int x, int y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 = find_set (x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 = find_set (y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(rank[x] &gt; rank[y])  p[y] = x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[x] = 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(rank[x] == rank[y]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+rank[y]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Реализация со случайным выбором родительского уз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oid unite (int x, int y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 = find_set (x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 = find_set (y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(rand() &amp; 1) p[y] = x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p[x] = 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Алгоритм Краскала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 системой непересекающихся множест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же, как и в простой версии алгоритма Краскала, отсортиру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рёбра по неубыванию ве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ем поместим каждую вершину в своё дерево (т.е. в сво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о) с помощью вызова функции MakeSet - на э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дёт в сумм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бираем все рёбра и для каждого ребра з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м, принадлежат ли его концы разным дерев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 помощью двух вызово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ndS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1)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ец, объединение двух деревьев будет осуществл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ово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Un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также з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 мы получа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больш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632523"/>
                </a:solidFill>
                <a:latin typeface="Calibri"/>
              </a:rPr>
              <a:t>Алгоритмы Прима (</a:t>
            </a:r>
            <a:r>
              <a:rPr b="0" lang="en-US" sz="3600" spc="-1" strike="noStrike">
                <a:solidFill>
                  <a:srgbClr val="632523"/>
                </a:solidFill>
                <a:latin typeface="Calibri"/>
              </a:rPr>
              <a:t>Prim</a:t>
            </a:r>
            <a:r>
              <a:rPr b="0" lang="ru-RU" sz="3600" spc="-1" strike="noStrike">
                <a:solidFill>
                  <a:srgbClr val="632523"/>
                </a:solidFill>
                <a:latin typeface="Calibr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2920" y="128592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впервые был открыт в 1930 году чешск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йцехом Ярником, позже переоткры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бертом Примом в 1957 году, и, независимо от них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. Дейкстрой в 1959 г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2" dur="indefinite" restart="never" nodeType="tmRoot">
          <p:childTnLst>
            <p:seq>
              <p:cTn id="2403" dur="indefinite" nodeType="mainSeq">
                <p:childTnLst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иск_в_глуб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0504d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){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ol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 ←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белый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Courier New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u]←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0504d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)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u] ==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белы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Поиск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писание алгоритма</a:t>
            </a: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има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Calibri"/>
              </a:rPr>
              <a:t>http://en.wikipedia.org/wiki/Prim%27s_algorith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114264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ачале дерево состоит из одной вершины, далее размер дерева увеличивается добавлением по одному ребру до тех пор, пока  не будут включены все верш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ize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, whe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n arbitrary no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{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at unti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n edge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with minimal weight such th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not (if there are multiple edges with the same weight, any of them may be picked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scribe a minimal spanning 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на матрице смеж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пределение миниму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м бинарных куч и списков смежност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Фибоначчиевой куч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 что лучше при большо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Реализация на списках смеж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ортируем все рёбра в списках смежности каждой вершины по увелич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а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lo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каждой вершины заведем указатель, указывающий на первое доступ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ро в её списке смеж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i-ой итерации перебираем все вершины, и выбираем наименьшее по в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ро среди доступных. Поскольку всё рёбра уже отсортированы по весу,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затели указывают на первые доступные рёбра, то выбор наимень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ра осуществится з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этого обновляем указатели (сдвигаем вправо), т.к. некоторые из 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зывают на ставшие недоступными рёбра (оба конца которых оказал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утри дерев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ддержание работы  указателей требуетс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действ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24000" y="285480"/>
            <a:ext cx="8229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Описание алгоритма</a:t>
            </a:r>
            <a:r>
              <a:rPr b="0" lang="en-US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Прима</a:t>
            </a:r>
            <a:r>
              <a:rPr b="0" lang="en-US" sz="28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alibri"/>
              </a:rPr>
              <a:t>c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пересчитыванием расстоя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 Выбирается произвольная вершина - она будет корнем осто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Измеряется расстояние от нее до всех других вершин, т.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нимальное расстояни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дерева до вершин, которые не включены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 До тех пор пока в дерево не добавлены все вершины делат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йти вершин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расстояние от дерева до которой минималь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обавить ее к дере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- пересчитать расстояния от невключенных вершин до дер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следующим образ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если расстояние до какой-либо вершины от  </a:t>
            </a:r>
            <a:r>
              <a:rPr b="0" i="1" lang="en-US" sz="2000" spc="-1" strike="noStrike">
                <a:solidFill>
                  <a:srgbClr val="1731f5"/>
                </a:solidFill>
                <a:latin typeface="Calibri"/>
              </a:rPr>
              <a:t>u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мен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текущего расстояния </a:t>
            </a:r>
            <a:r>
              <a:rPr b="0" i="1" lang="en-US" sz="2000" spc="-1" strike="noStrike">
                <a:solidFill>
                  <a:srgbClr val="1731f5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от дерева, то в </a:t>
            </a:r>
            <a:r>
              <a:rPr b="0" i="1" lang="en-US" sz="2000" spc="-1" strike="noStrike">
                <a:solidFill>
                  <a:srgbClr val="1731f5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записывается н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1f5"/>
                </a:solidFill>
                <a:latin typeface="Calibri"/>
              </a:rPr>
              <a:t>расстоя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5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>
            <a:off x="576360" y="3032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1692360" y="20239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"/>
          <p:cNvSpPr/>
          <p:nvPr/>
        </p:nvSpPr>
        <p:spPr>
          <a:xfrm>
            <a:off x="1692360" y="3032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6"/>
          <p:cNvSpPr/>
          <p:nvPr/>
        </p:nvSpPr>
        <p:spPr>
          <a:xfrm>
            <a:off x="1692360" y="4076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"/>
          <p:cNvSpPr/>
          <p:nvPr/>
        </p:nvSpPr>
        <p:spPr>
          <a:xfrm>
            <a:off x="3600360" y="20239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8"/>
          <p:cNvSpPr/>
          <p:nvPr/>
        </p:nvSpPr>
        <p:spPr>
          <a:xfrm>
            <a:off x="3600360" y="3032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2592360" y="3032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3600360" y="4076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4788000" y="20239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4788000" y="3032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AutoShape 13"/>
          <p:cNvCxnSpPr>
            <a:stCxn id="581" idx="7"/>
            <a:endCxn id="582" idx="3"/>
          </p:cNvCxnSpPr>
          <p:nvPr/>
        </p:nvCxnSpPr>
        <p:spPr>
          <a:xfrm flipV="1">
            <a:off x="884160" y="2331720"/>
            <a:ext cx="861120" cy="753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2" name="AutoShape 14"/>
          <p:cNvCxnSpPr>
            <a:stCxn id="581" idx="6"/>
            <a:endCxn id="583" idx="2"/>
          </p:cNvCxnSpPr>
          <p:nvPr/>
        </p:nvCxnSpPr>
        <p:spPr>
          <a:xfrm>
            <a:off x="936360" y="3212640"/>
            <a:ext cx="75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AutoShape 15"/>
          <p:cNvCxnSpPr>
            <a:stCxn id="581" idx="5"/>
            <a:endCxn id="584" idx="1"/>
          </p:cNvCxnSpPr>
          <p:nvPr/>
        </p:nvCxnSpPr>
        <p:spPr>
          <a:xfrm>
            <a:off x="884160" y="3340080"/>
            <a:ext cx="861120" cy="789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AutoShape 16"/>
          <p:cNvCxnSpPr>
            <a:stCxn id="584" idx="7"/>
            <a:endCxn id="587" idx="3"/>
          </p:cNvCxnSpPr>
          <p:nvPr/>
        </p:nvCxnSpPr>
        <p:spPr>
          <a:xfrm flipV="1">
            <a:off x="1999800" y="3339720"/>
            <a:ext cx="645480" cy="789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AutoShape 17"/>
          <p:cNvCxnSpPr>
            <a:stCxn id="584" idx="6"/>
            <a:endCxn id="588" idx="2"/>
          </p:cNvCxnSpPr>
          <p:nvPr/>
        </p:nvCxnSpPr>
        <p:spPr>
          <a:xfrm>
            <a:off x="2052360" y="425736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AutoShape 18"/>
          <p:cNvCxnSpPr>
            <a:stCxn id="583" idx="0"/>
            <a:endCxn id="582" idx="4"/>
          </p:cNvCxnSpPr>
          <p:nvPr/>
        </p:nvCxnSpPr>
        <p:spPr>
          <a:xfrm flipV="1">
            <a:off x="1872720" y="238428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AutoShape 19"/>
          <p:cNvCxnSpPr>
            <a:stCxn id="586" idx="4"/>
            <a:endCxn id="588" idx="0"/>
          </p:cNvCxnSpPr>
          <p:nvPr/>
        </p:nvCxnSpPr>
        <p:spPr>
          <a:xfrm>
            <a:off x="3781080" y="3392640"/>
            <a:ext cx="1080" cy="684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AutoShape 20"/>
          <p:cNvCxnSpPr>
            <a:stCxn id="587" idx="1"/>
            <a:endCxn id="582" idx="5"/>
          </p:cNvCxnSpPr>
          <p:nvPr/>
        </p:nvCxnSpPr>
        <p:spPr>
          <a:xfrm flipH="1" flipV="1">
            <a:off x="1999440" y="2331720"/>
            <a:ext cx="645480" cy="753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AutoShape 21"/>
          <p:cNvCxnSpPr>
            <a:stCxn id="585" idx="6"/>
            <a:endCxn id="589" idx="2"/>
          </p:cNvCxnSpPr>
          <p:nvPr/>
        </p:nvCxnSpPr>
        <p:spPr>
          <a:xfrm>
            <a:off x="3960720" y="220464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0" name="AutoShape 22"/>
          <p:cNvCxnSpPr>
            <a:stCxn id="586" idx="1"/>
            <a:endCxn id="582" idx="5"/>
          </p:cNvCxnSpPr>
          <p:nvPr/>
        </p:nvCxnSpPr>
        <p:spPr>
          <a:xfrm flipH="1" flipV="1">
            <a:off x="1999440" y="2331720"/>
            <a:ext cx="1653480" cy="753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1" name="AutoShape 23"/>
          <p:cNvCxnSpPr>
            <a:stCxn id="582" idx="6"/>
            <a:endCxn id="585" idx="2"/>
          </p:cNvCxnSpPr>
          <p:nvPr/>
        </p:nvCxnSpPr>
        <p:spPr>
          <a:xfrm>
            <a:off x="2052360" y="2204640"/>
            <a:ext cx="154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2" name="AutoShape 24"/>
          <p:cNvCxnSpPr>
            <a:stCxn id="586" idx="7"/>
            <a:endCxn id="589" idx="3"/>
          </p:cNvCxnSpPr>
          <p:nvPr/>
        </p:nvCxnSpPr>
        <p:spPr>
          <a:xfrm flipV="1">
            <a:off x="3908520" y="2331720"/>
            <a:ext cx="932400" cy="753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3" name="AutoShape 25"/>
          <p:cNvCxnSpPr>
            <a:stCxn id="586" idx="6"/>
            <a:endCxn id="590" idx="2"/>
          </p:cNvCxnSpPr>
          <p:nvPr/>
        </p:nvCxnSpPr>
        <p:spPr>
          <a:xfrm>
            <a:off x="3960720" y="3212640"/>
            <a:ext cx="82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4" name="AutoShape 26"/>
          <p:cNvCxnSpPr>
            <a:stCxn id="589" idx="4"/>
            <a:endCxn id="590" idx="0"/>
          </p:cNvCxnSpPr>
          <p:nvPr/>
        </p:nvCxnSpPr>
        <p:spPr>
          <a:xfrm>
            <a:off x="4968360" y="238428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AutoShape 27"/>
          <p:cNvCxnSpPr>
            <a:stCxn id="584" idx="0"/>
            <a:endCxn id="583" idx="4"/>
          </p:cNvCxnSpPr>
          <p:nvPr/>
        </p:nvCxnSpPr>
        <p:spPr>
          <a:xfrm flipV="1">
            <a:off x="1872720" y="3392280"/>
            <a:ext cx="1080" cy="684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6" name="Text Box 28"/>
          <p:cNvSpPr/>
          <p:nvPr/>
        </p:nvSpPr>
        <p:spPr>
          <a:xfrm>
            <a:off x="2738160" y="1987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9"/>
          <p:cNvSpPr/>
          <p:nvPr/>
        </p:nvSpPr>
        <p:spPr>
          <a:xfrm>
            <a:off x="4357440" y="2995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0"/>
          <p:cNvSpPr/>
          <p:nvPr/>
        </p:nvSpPr>
        <p:spPr>
          <a:xfrm>
            <a:off x="1657080" y="3500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1"/>
          <p:cNvSpPr/>
          <p:nvPr/>
        </p:nvSpPr>
        <p:spPr>
          <a:xfrm>
            <a:off x="2341440" y="2600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2"/>
          <p:cNvSpPr/>
          <p:nvPr/>
        </p:nvSpPr>
        <p:spPr>
          <a:xfrm>
            <a:off x="3817800" y="3571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3"/>
          <p:cNvSpPr/>
          <p:nvPr/>
        </p:nvSpPr>
        <p:spPr>
          <a:xfrm>
            <a:off x="1158840" y="2479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4"/>
          <p:cNvSpPr/>
          <p:nvPr/>
        </p:nvSpPr>
        <p:spPr>
          <a:xfrm>
            <a:off x="4249440" y="1987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5"/>
          <p:cNvSpPr/>
          <p:nvPr/>
        </p:nvSpPr>
        <p:spPr>
          <a:xfrm>
            <a:off x="2125440" y="3537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6"/>
          <p:cNvSpPr/>
          <p:nvPr/>
        </p:nvSpPr>
        <p:spPr>
          <a:xfrm>
            <a:off x="4717800" y="2600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7"/>
          <p:cNvSpPr/>
          <p:nvPr/>
        </p:nvSpPr>
        <p:spPr>
          <a:xfrm>
            <a:off x="1225440" y="29955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8"/>
          <p:cNvSpPr/>
          <p:nvPr/>
        </p:nvSpPr>
        <p:spPr>
          <a:xfrm>
            <a:off x="2958840" y="2529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9"/>
          <p:cNvSpPr/>
          <p:nvPr/>
        </p:nvSpPr>
        <p:spPr>
          <a:xfrm>
            <a:off x="2809800" y="4027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0"/>
          <p:cNvSpPr/>
          <p:nvPr/>
        </p:nvSpPr>
        <p:spPr>
          <a:xfrm>
            <a:off x="1657080" y="2637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1"/>
          <p:cNvSpPr/>
          <p:nvPr/>
        </p:nvSpPr>
        <p:spPr>
          <a:xfrm>
            <a:off x="1230120" y="3537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2"/>
          <p:cNvSpPr/>
          <p:nvPr/>
        </p:nvSpPr>
        <p:spPr>
          <a:xfrm>
            <a:off x="4106520" y="2529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3"/>
          <p:cNvSpPr/>
          <p:nvPr/>
        </p:nvSpPr>
        <p:spPr>
          <a:xfrm>
            <a:off x="484560" y="476280"/>
            <a:ext cx="793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аем алгоритм обхода графа, начиная с произвольной верш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честве контейнера выбираем очередь с приоритетами. Приоритет – текущ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а найденного расстояния до уже построенной части остовного дере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лаксации подвергаются прямые и обратные ре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44"/>
          <p:cNvGrpSpPr/>
          <p:nvPr/>
        </p:nvGrpSpPr>
        <p:grpSpPr>
          <a:xfrm>
            <a:off x="395280" y="4869000"/>
            <a:ext cx="3995640" cy="1079280"/>
            <a:chOff x="395280" y="4869000"/>
            <a:chExt cx="3995640" cy="1079280"/>
          </a:xfrm>
        </p:grpSpPr>
        <p:sp>
          <p:nvSpPr>
            <p:cNvPr id="623" name="Rectangle 45"/>
            <p:cNvSpPr/>
            <p:nvPr/>
          </p:nvSpPr>
          <p:spPr>
            <a:xfrm>
              <a:off x="79200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115092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151272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187164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223200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2590920" y="486900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295272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3311640" y="486900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3673440" y="486900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4032360" y="486900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395280" y="4905360"/>
              <a:ext cx="287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79200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115092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151272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187164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223200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2590920" y="522936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295272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3311640" y="522936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3673440" y="522936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4032360" y="522936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66"/>
            <p:cNvSpPr/>
            <p:nvPr/>
          </p:nvSpPr>
          <p:spPr>
            <a:xfrm>
              <a:off x="395280" y="5265720"/>
              <a:ext cx="287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792000" y="558972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1150920" y="558972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1511280" y="558972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1871640" y="558972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2232000" y="5589720"/>
              <a:ext cx="3589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2590920" y="558972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2951280" y="558972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3311640" y="558972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3672000" y="558972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4032360" y="5589720"/>
              <a:ext cx="3585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77"/>
            <p:cNvSpPr/>
            <p:nvPr/>
          </p:nvSpPr>
          <p:spPr>
            <a:xfrm>
              <a:off x="395280" y="5624640"/>
              <a:ext cx="287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78"/>
          <p:cNvSpPr/>
          <p:nvPr/>
        </p:nvSpPr>
        <p:spPr>
          <a:xfrm>
            <a:off x="1150920" y="5589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9"/>
          <p:cNvSpPr/>
          <p:nvPr/>
        </p:nvSpPr>
        <p:spPr>
          <a:xfrm>
            <a:off x="1871640" y="5589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0"/>
          <p:cNvSpPr/>
          <p:nvPr/>
        </p:nvSpPr>
        <p:spPr>
          <a:xfrm>
            <a:off x="1150920" y="522936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1"/>
          <p:cNvSpPr/>
          <p:nvPr/>
        </p:nvSpPr>
        <p:spPr>
          <a:xfrm>
            <a:off x="1871640" y="522936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2"/>
          <p:cNvSpPr/>
          <p:nvPr/>
        </p:nvSpPr>
        <p:spPr>
          <a:xfrm>
            <a:off x="4032360" y="522936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3"/>
          <p:cNvSpPr/>
          <p:nvPr/>
        </p:nvSpPr>
        <p:spPr>
          <a:xfrm>
            <a:off x="4032360" y="558972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4"/>
          <p:cNvSpPr/>
          <p:nvPr/>
        </p:nvSpPr>
        <p:spPr>
          <a:xfrm>
            <a:off x="1511280" y="522936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5"/>
          <p:cNvSpPr/>
          <p:nvPr/>
        </p:nvSpPr>
        <p:spPr>
          <a:xfrm>
            <a:off x="2232000" y="522936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3311640" y="5229360"/>
            <a:ext cx="3585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7"/>
          <p:cNvSpPr/>
          <p:nvPr/>
        </p:nvSpPr>
        <p:spPr>
          <a:xfrm>
            <a:off x="2232000" y="5589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8"/>
          <p:cNvSpPr/>
          <p:nvPr/>
        </p:nvSpPr>
        <p:spPr>
          <a:xfrm>
            <a:off x="1511280" y="558972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9"/>
          <p:cNvSpPr/>
          <p:nvPr/>
        </p:nvSpPr>
        <p:spPr>
          <a:xfrm>
            <a:off x="3311640" y="5589720"/>
            <a:ext cx="3585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0"/>
          <p:cNvSpPr/>
          <p:nvPr/>
        </p:nvSpPr>
        <p:spPr>
          <a:xfrm>
            <a:off x="2592360" y="558972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1"/>
          <p:cNvSpPr/>
          <p:nvPr/>
        </p:nvSpPr>
        <p:spPr>
          <a:xfrm>
            <a:off x="2592360" y="5229360"/>
            <a:ext cx="35892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2"/>
          <p:cNvSpPr/>
          <p:nvPr/>
        </p:nvSpPr>
        <p:spPr>
          <a:xfrm>
            <a:off x="1511280" y="5589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93"/>
          <p:cNvSpPr/>
          <p:nvPr/>
        </p:nvSpPr>
        <p:spPr>
          <a:xfrm>
            <a:off x="1511280" y="522936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4"/>
          <p:cNvSpPr/>
          <p:nvPr/>
        </p:nvSpPr>
        <p:spPr>
          <a:xfrm>
            <a:off x="2592360" y="5589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95"/>
          <p:cNvSpPr/>
          <p:nvPr/>
        </p:nvSpPr>
        <p:spPr>
          <a:xfrm>
            <a:off x="2592360" y="522936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6"/>
          <p:cNvSpPr/>
          <p:nvPr/>
        </p:nvSpPr>
        <p:spPr>
          <a:xfrm>
            <a:off x="2951280" y="5589720"/>
            <a:ext cx="3585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7"/>
          <p:cNvSpPr/>
          <p:nvPr/>
        </p:nvSpPr>
        <p:spPr>
          <a:xfrm>
            <a:off x="2951280" y="5229360"/>
            <a:ext cx="358560" cy="358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98"/>
          <p:cNvSpPr/>
          <p:nvPr/>
        </p:nvSpPr>
        <p:spPr>
          <a:xfrm>
            <a:off x="3672000" y="558972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9"/>
          <p:cNvSpPr/>
          <p:nvPr/>
        </p:nvSpPr>
        <p:spPr>
          <a:xfrm>
            <a:off x="3672000" y="522936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00"/>
          <p:cNvSpPr/>
          <p:nvPr/>
        </p:nvSpPr>
        <p:spPr>
          <a:xfrm>
            <a:off x="3311640" y="558972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01"/>
          <p:cNvSpPr/>
          <p:nvPr/>
        </p:nvSpPr>
        <p:spPr>
          <a:xfrm>
            <a:off x="3311640" y="522936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"/>
          <p:cNvSpPr/>
          <p:nvPr/>
        </p:nvSpPr>
        <p:spPr>
          <a:xfrm>
            <a:off x="2951280" y="558972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"/>
          <p:cNvSpPr/>
          <p:nvPr/>
        </p:nvSpPr>
        <p:spPr>
          <a:xfrm>
            <a:off x="2951280" y="5229360"/>
            <a:ext cx="358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4"/>
          <p:cNvSpPr/>
          <p:nvPr/>
        </p:nvSpPr>
        <p:spPr>
          <a:xfrm>
            <a:off x="4896000" y="4871880"/>
            <a:ext cx="42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езультате работы получаем списо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ер остовного дерева вместе с ве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0" dur="indefinite" restart="never" nodeType="tmRoot">
          <p:childTnLst>
            <p:seq>
              <p:cTn id="2571" dur="indefinite" nodeType="mainSeq">
                <p:childTnLst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584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8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592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4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59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0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0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1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2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4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25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628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63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3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63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63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4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48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5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8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8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68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69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0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1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1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2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3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3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4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50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5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75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7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4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7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8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78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800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7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808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8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3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24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82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84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4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Алгоритм Прима</a:t>
            </a: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другой алгоритм, оценка хуж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00040" y="12139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каждом шаге вычеркиваем из графа дугу максимальной стоимости с тем условием, что она не разрывает граф на две или более компоненты связности, т.е. после удаления дуги граф должен оставаться связ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определить, остался ли граф связным, достаточно запустить поиск в глубину от одной из вершин, связанных с удаленной дуг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Условие окончания алгоритм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пример, пока количество ребер больше либо равно количеству вершин, нужно продолжать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аче – остановить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7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1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5" dur="10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6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4" descr="12_1"/>
          <p:cNvPicPr/>
          <p:nvPr/>
        </p:nvPicPr>
        <p:blipFill>
          <a:blip r:embed="rId1"/>
          <a:stretch/>
        </p:blipFill>
        <p:spPr>
          <a:xfrm>
            <a:off x="312840" y="2192400"/>
            <a:ext cx="3671640" cy="3060720"/>
          </a:xfrm>
          <a:prstGeom prst="rect">
            <a:avLst/>
          </a:prstGeom>
          <a:ln w="0">
            <a:noFill/>
          </a:ln>
        </p:spPr>
      </p:pic>
      <p:sp>
        <p:nvSpPr>
          <p:cNvPr id="687" name="Oval 10"/>
          <p:cNvSpPr/>
          <p:nvPr/>
        </p:nvSpPr>
        <p:spPr>
          <a:xfrm>
            <a:off x="5784840" y="22636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м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0"/>
          <p:cNvSpPr/>
          <p:nvPr/>
        </p:nvSpPr>
        <p:spPr>
          <a:xfrm>
            <a:off x="7369200" y="23367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4848120" y="35607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8016840" y="34876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0"/>
          <p:cNvSpPr/>
          <p:nvPr/>
        </p:nvSpPr>
        <p:spPr>
          <a:xfrm>
            <a:off x="6505560" y="34876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0"/>
          <p:cNvSpPr/>
          <p:nvPr/>
        </p:nvSpPr>
        <p:spPr>
          <a:xfrm>
            <a:off x="7369200" y="485604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0"/>
          <p:cNvSpPr/>
          <p:nvPr/>
        </p:nvSpPr>
        <p:spPr>
          <a:xfrm>
            <a:off x="5640480" y="485604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6000840" y="2552760"/>
            <a:ext cx="57600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 flipH="1">
            <a:off x="7585200" y="3776760"/>
            <a:ext cx="504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6721200" y="262404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 flipH="1">
            <a:off x="6792480" y="363204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5929200" y="50007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7"/>
          <p:cNvSpPr/>
          <p:nvPr/>
        </p:nvSpPr>
        <p:spPr>
          <a:xfrm flipH="1">
            <a:off x="5065560" y="247968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5936040" y="2984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9"/>
          <p:cNvSpPr/>
          <p:nvPr/>
        </p:nvSpPr>
        <p:spPr>
          <a:xfrm>
            <a:off x="7807680" y="428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7088760" y="291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1"/>
          <p:cNvSpPr/>
          <p:nvPr/>
        </p:nvSpPr>
        <p:spPr>
          <a:xfrm>
            <a:off x="7376040" y="3632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2"/>
          <p:cNvSpPr/>
          <p:nvPr/>
        </p:nvSpPr>
        <p:spPr>
          <a:xfrm>
            <a:off x="4992840" y="284004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3"/>
          <p:cNvSpPr/>
          <p:nvPr/>
        </p:nvSpPr>
        <p:spPr>
          <a:xfrm>
            <a:off x="6444720" y="464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7"/>
          <p:cNvSpPr/>
          <p:nvPr/>
        </p:nvSpPr>
        <p:spPr>
          <a:xfrm>
            <a:off x="5000760" y="3857760"/>
            <a:ext cx="714240" cy="10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7"/>
          <p:cNvSpPr/>
          <p:nvPr/>
        </p:nvSpPr>
        <p:spPr>
          <a:xfrm flipH="1">
            <a:off x="5857560" y="3714840"/>
            <a:ext cx="7189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7"/>
          <p:cNvSpPr/>
          <p:nvPr/>
        </p:nvSpPr>
        <p:spPr>
          <a:xfrm flipH="1" flipV="1">
            <a:off x="6072120" y="2356920"/>
            <a:ext cx="128592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 flipH="1">
            <a:off x="5143680" y="3643200"/>
            <a:ext cx="135720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7643880" y="2643120"/>
            <a:ext cx="50004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7"/>
          <p:cNvSpPr/>
          <p:nvPr/>
        </p:nvSpPr>
        <p:spPr>
          <a:xfrm>
            <a:off x="6786720" y="3786120"/>
            <a:ext cx="64296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8"/>
          <p:cNvSpPr/>
          <p:nvPr/>
        </p:nvSpPr>
        <p:spPr>
          <a:xfrm>
            <a:off x="6576480" y="200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7933680" y="278604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5576400" y="33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5862240" y="4071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5076360" y="4357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8"/>
          <p:cNvSpPr/>
          <p:nvPr/>
        </p:nvSpPr>
        <p:spPr>
          <a:xfrm>
            <a:off x="6790680" y="4214880"/>
            <a:ext cx="3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8" dur="indefinite" restart="never" nodeType="tmRoot">
          <p:childTnLst>
            <p:seq>
              <p:cTn id="2889" dur="indefinite" nodeType="mainSeq">
                <p:childTnLst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у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1f5"/>
                </a:solidFill>
                <a:latin typeface="Calibri"/>
              </a:rPr>
              <a:t>Куч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структура данных, которая позволяет находить минимальны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элемент и выполнять операцию добавления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много способов реализ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ростым является ее реализация с помощью полного бинарного дерева. Такие кучи называются </a:t>
            </a:r>
            <a:r>
              <a:rPr b="0" i="1" lang="ru-RU" sz="2000" spc="-1" strike="noStrike">
                <a:solidFill>
                  <a:srgbClr val="1731f5"/>
                </a:solidFill>
                <a:latin typeface="Calibri"/>
              </a:rPr>
              <a:t>бинарны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м свойством  этой структуры данных является условие, что элементы в ней организованы таким образом, что приоритет вершины не ниже приоритета каждого из ее сынов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свойство бинарной кучи обеспечивается выполнением условия, что для любой тройки элементов с индекса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лемент с индекс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лжен иметь максимальный приорит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4" dur="indefinite" restart="never" nodeType="tmRoot">
          <p:childTnLst>
            <p:seq>
              <p:cTn id="2935" dur="indefinite" nodeType="mainSeq">
                <p:childTnLst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Прямоугольник 1"/>
          <p:cNvSpPr/>
          <p:nvPr/>
        </p:nvSpPr>
        <p:spPr>
          <a:xfrm>
            <a:off x="500040" y="428760"/>
            <a:ext cx="83581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К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чи наиболее удобны для поиска кратчайших путей в графах с положительными длинами ребер. Для этого на начальном шаге достаточно добавить в кучу стартовую вершину с приоритетом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ледующая итерация состоит в следующ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кучи удаляется верши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минимальным приоритет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просмотренные вершины игнорируют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читается просмотрен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ятся смежные не просмотренные вершин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добавляются в кучу с приоритет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юс расстояние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 заканчивает работу, когда просмотрены все вершины или куча п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оугольник 1"/>
          <p:cNvSpPr/>
          <p:nvPr/>
        </p:nvSpPr>
        <p:spPr>
          <a:xfrm>
            <a:off x="214200" y="285840"/>
            <a:ext cx="83584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Фибоначчиевы к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ие фибоначчиевой кучи. Каждая фибоначчиева куча состоит из нескольких деревьев. В отличие от биномиальных деревьев, здесь дети любого узла могут записываться в любом порядке. Они связываются в двусторонний циклический список. Каждый узел этого списка имеет поля, указывающие на его соседей в списке, количество его детей, а также поле с булевским значением: истинно, если узел потерял ребенка после того, как он в последний раз сделался чьим-либо потом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глуб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ка есть непройденные инцидентные реб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дущие в белые вершины, и возвращаться и искать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ь, когда таких ребер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аружив впервые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ную с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мещаем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v] </a:t>
            </a:r>
            <a:r>
              <a:rPr b="0" lang="ru-RU" sz="2400" spc="-1" strike="noStrike">
                <a:solidFill>
                  <a:srgbClr val="1731f5"/>
                </a:solidFill>
                <a:latin typeface="Calibri"/>
              </a:rPr>
              <a:t>значение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омер, адрес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получа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о или несколько дерев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дграф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Calibri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{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v], v) :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v] ≠ NULL }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раф предшествования представляет собой лес поис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лубину, состоящий из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деревьев поиска в глуб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ркас графа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стовное 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alibri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857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граф G задан списками смеж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цессе работы алгорит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аждой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вно один раз вызывается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число операций при выполнени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число операций при выполнен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иск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выполняет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Adj[v]|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,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∑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Adj[v]|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число операц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граф задан матрицей смежности, то о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щее число опер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войства поиска в глуб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ена обнаружения и окончания обработки вершин образу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ую скобочную структу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3"/>
          <p:cNvSpPr/>
          <p:nvPr/>
        </p:nvSpPr>
        <p:spPr>
          <a:xfrm>
            <a:off x="4067280" y="350028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3348000" y="530064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5"/>
          <p:cNvSpPr/>
          <p:nvPr/>
        </p:nvSpPr>
        <p:spPr>
          <a:xfrm>
            <a:off x="4140360" y="256536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6"/>
          <p:cNvSpPr/>
          <p:nvPr/>
        </p:nvSpPr>
        <p:spPr>
          <a:xfrm>
            <a:off x="4932360" y="436572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140360" y="350028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005080" y="436572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13440" y="2565360"/>
            <a:ext cx="2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3421080" y="53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3348000" y="450864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3420360" y="4508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hape 20"/>
          <p:cNvCxnSpPr>
            <a:endCxn id="79" idx="0"/>
          </p:cNvCxnSpPr>
          <p:nvPr/>
        </p:nvCxnSpPr>
        <p:spPr>
          <a:xfrm>
            <a:off x="3563640" y="4941360"/>
            <a:ext cx="3960" cy="359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hape 20"/>
          <p:cNvCxnSpPr>
            <a:stCxn id="78" idx="2"/>
            <a:endCxn id="76" idx="0"/>
          </p:cNvCxnSpPr>
          <p:nvPr/>
        </p:nvCxnSpPr>
        <p:spPr>
          <a:xfrm flipH="1">
            <a:off x="4347720" y="2962440"/>
            <a:ext cx="15120" cy="538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hape 20"/>
          <p:cNvCxnSpPr>
            <a:stCxn id="76" idx="2"/>
            <a:endCxn id="75" idx="2"/>
          </p:cNvCxnSpPr>
          <p:nvPr/>
        </p:nvCxnSpPr>
        <p:spPr>
          <a:xfrm>
            <a:off x="4348080" y="3897360"/>
            <a:ext cx="572400" cy="689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hape 20"/>
          <p:cNvCxnSpPr>
            <a:stCxn id="76" idx="2"/>
            <a:endCxn id="80" idx="7"/>
          </p:cNvCxnSpPr>
          <p:nvPr/>
        </p:nvCxnSpPr>
        <p:spPr>
          <a:xfrm flipH="1">
            <a:off x="3749760" y="3897000"/>
            <a:ext cx="598680" cy="664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Rectangle 64"/>
          <p:cNvSpPr/>
          <p:nvPr/>
        </p:nvSpPr>
        <p:spPr>
          <a:xfrm>
            <a:off x="250920" y="2997360"/>
            <a:ext cx="37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2 3 4 5 6  7 8 9 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s(z(y(xx)y)(ww)z)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3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оиске в глубину в граф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ых дв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яет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х утвержден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ез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секают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езо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иком содержится внутри отрезк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ок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ереве поиска в глуб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езо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иком содержится внутри отрезк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d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,f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]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ок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ереве поиска в глуб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3"/>
          <p:cNvSpPr/>
          <p:nvPr/>
        </p:nvSpPr>
        <p:spPr>
          <a:xfrm>
            <a:off x="2484360" y="335772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1692360" y="5084640"/>
            <a:ext cx="469800" cy="439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484360" y="213372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3132000" y="4365720"/>
            <a:ext cx="47016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2484360" y="335772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133440" y="436572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2557800" y="2133720"/>
            <a:ext cx="2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1692360" y="50846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1692360" y="4292640"/>
            <a:ext cx="469800" cy="43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1764360" y="42926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hape 20"/>
          <p:cNvCxnSpPr/>
          <p:nvPr/>
        </p:nvCxnSpPr>
        <p:spPr>
          <a:xfrm>
            <a:off x="1907640" y="4723920"/>
            <a:ext cx="3960" cy="359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0" name="Shape 20"/>
          <p:cNvCxnSpPr>
            <a:stCxn id="95" idx="2"/>
            <a:endCxn id="93" idx="0"/>
          </p:cNvCxnSpPr>
          <p:nvPr/>
        </p:nvCxnSpPr>
        <p:spPr>
          <a:xfrm flipH="1">
            <a:off x="2692080" y="2530440"/>
            <a:ext cx="15120" cy="828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1" name="Shape 20"/>
          <p:cNvCxnSpPr>
            <a:stCxn id="93" idx="2"/>
            <a:endCxn id="94" idx="0"/>
          </p:cNvCxnSpPr>
          <p:nvPr/>
        </p:nvCxnSpPr>
        <p:spPr>
          <a:xfrm>
            <a:off x="2692080" y="3754440"/>
            <a:ext cx="623160" cy="612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2" name="Shape 20"/>
          <p:cNvCxnSpPr>
            <a:stCxn id="93" idx="2"/>
            <a:endCxn id="97" idx="7"/>
          </p:cNvCxnSpPr>
          <p:nvPr/>
        </p:nvCxnSpPr>
        <p:spPr>
          <a:xfrm flipH="1">
            <a:off x="2093040" y="3754440"/>
            <a:ext cx="599400" cy="591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03" name=""/>
          <p:cNvSpPr txBox="1"/>
          <p:nvPr/>
        </p:nvSpPr>
        <p:spPr>
          <a:xfrm>
            <a:off x="5200560" y="2112840"/>
            <a:ext cx="255240" cy="255240"/>
          </a:xfrm>
          <a:prstGeom prst="rect">
            <a:avLst/>
          </a:prstGeom>
          <a:noFill/>
          <a:ln w="25560">
            <a:solidFill>
              <a:srgbClr val="385d8a"/>
            </a:solidFill>
            <a:round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5867280" y="3213000"/>
            <a:ext cx="36036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4"/>
          <p:cNvSpPr/>
          <p:nvPr/>
        </p:nvSpPr>
        <p:spPr>
          <a:xfrm>
            <a:off x="4500720" y="3213000"/>
            <a:ext cx="360360" cy="358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hape 20"/>
          <p:cNvCxnSpPr>
            <a:stCxn id="103" idx="3"/>
            <a:endCxn id="105" idx="0"/>
          </p:cNvCxnSpPr>
          <p:nvPr/>
        </p:nvCxnSpPr>
        <p:spPr>
          <a:xfrm flipH="1">
            <a:off x="4681080" y="2381040"/>
            <a:ext cx="519840" cy="819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7" name="Shape 20"/>
          <p:cNvCxnSpPr>
            <a:endCxn id="104" idx="1"/>
          </p:cNvCxnSpPr>
          <p:nvPr/>
        </p:nvCxnSpPr>
        <p:spPr>
          <a:xfrm>
            <a:off x="5456160" y="2381040"/>
            <a:ext cx="464400" cy="872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8" name="Shape 20"/>
          <p:cNvCxnSpPr>
            <a:stCxn id="104" idx="2"/>
            <a:endCxn id="105" idx="6"/>
          </p:cNvCxnSpPr>
          <p:nvPr/>
        </p:nvCxnSpPr>
        <p:spPr>
          <a:xfrm flipH="1" flipV="1">
            <a:off x="4872960" y="3392280"/>
            <a:ext cx="981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Text Box 22"/>
          <p:cNvSpPr/>
          <p:nvPr/>
        </p:nvSpPr>
        <p:spPr>
          <a:xfrm>
            <a:off x="4625640" y="3160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5867280" y="321300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149800" y="206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502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hape 20"/>
          <p:cNvCxnSpPr>
            <a:stCxn id="112" idx="1"/>
            <a:endCxn id="92" idx="7"/>
          </p:cNvCxnSpPr>
          <p:nvPr/>
        </p:nvCxnSpPr>
        <p:spPr>
          <a:xfrm flipH="1">
            <a:off x="3533400" y="3396960"/>
            <a:ext cx="967680" cy="1021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Shape 20"/>
          <p:cNvCxnSpPr>
            <a:stCxn id="112" idx="0"/>
            <a:endCxn id="91" idx="6"/>
          </p:cNvCxnSpPr>
          <p:nvPr/>
        </p:nvCxnSpPr>
        <p:spPr>
          <a:xfrm flipH="1" flipV="1">
            <a:off x="2966760" y="2353680"/>
            <a:ext cx="16833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Shape 20"/>
          <p:cNvCxnSpPr>
            <a:endCxn id="94" idx="0"/>
          </p:cNvCxnSpPr>
          <p:nvPr/>
        </p:nvCxnSpPr>
        <p:spPr>
          <a:xfrm>
            <a:off x="2930400" y="2492280"/>
            <a:ext cx="385200" cy="187416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6" name="Shape 20"/>
          <p:cNvCxnSpPr/>
          <p:nvPr/>
        </p:nvCxnSpPr>
        <p:spPr>
          <a:xfrm flipV="1" rot="16200000">
            <a:off x="5324040" y="2437920"/>
            <a:ext cx="972000" cy="5785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hape 20"/>
          <p:cNvCxnSpPr>
            <a:stCxn id="96" idx="1"/>
            <a:endCxn id="93" idx="1"/>
          </p:cNvCxnSpPr>
          <p:nvPr/>
        </p:nvCxnSpPr>
        <p:spPr>
          <a:xfrm flipH="1" rot="10800000">
            <a:off x="1692000" y="3555360"/>
            <a:ext cx="792720" cy="1728000"/>
          </a:xfrm>
          <a:prstGeom prst="curvedConnector5">
            <a:avLst>
              <a:gd name="adj1" fmla="val -28850"/>
              <a:gd name="adj2" fmla="val 49989"/>
              <a:gd name="adj3" fmla="val -28850"/>
            </a:avLst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8" name="Rectangle 34"/>
          <p:cNvSpPr/>
          <p:nvPr/>
        </p:nvSpPr>
        <p:spPr>
          <a:xfrm>
            <a:off x="324000" y="189000"/>
            <a:ext cx="788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Си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ревесные р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рас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ямые ребра (соединяют вершину с ее потомком, но не входят в дерево поиска в глуби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Голуб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ратные ребра (соединяют вершину с ее предком в дереве поиска в глуби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льные (черные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крестные р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02:26Z</dcterms:created>
  <dc:creator>nest</dc:creator>
  <dc:description/>
  <dc:language>en-US</dc:language>
  <cp:lastModifiedBy>Tatyana Churina</cp:lastModifiedBy>
  <dcterms:modified xsi:type="dcterms:W3CDTF">2011-05-13T10:39:24Z</dcterms:modified>
  <cp:revision>360</cp:revision>
  <dc:subject/>
  <dc:title>Линейные списки: стеки, очереди, деки</dc:title>
</cp:coreProperties>
</file>