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F6F-07CE-4D3C-8B56-FA3810C9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EEB-E7C1-40EF-B2AF-5C8A3CF7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68E-6FD4-48ED-9BB5-EC5A25A4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ED7-A850-4E70-A9E6-336BC5C5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F6D-F45E-43C6-A7B1-346667C2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B0B-A3B3-4665-8A31-348048D8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74D-AFB8-4C61-AE47-6C7BB1FB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E7E-31D8-4329-B002-B141A917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B8F-6173-4121-ACF1-569E7572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953-9855-4312-ACC2-BDFC7652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221-057D-4A0B-B591-398ACFD1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F3A-8471-4B50-B5E0-91A59631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61C6-9B0C-4E12-9B2F-B7C3B02C5F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0.wmf"/><Relationship Id="rId2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лементы теории информации и кодирова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екция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оятность того, что при бросании кости  выпадет единиц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в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оятность появления четного числа очков ра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24000" y="3511800"/>
            <a:ext cx="849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скаль в письмах к Ферма в 1654 г. писа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Как велика вероятность, что когда я проснусь ночью и посмотрю на часы, то большая стрелка будет стоять между 15 и 20 минутам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в этом же письме приводит рассуждения о том, что вероятность того, что стрелка часов будет находиться в этом промежутке, равн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1/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8"/>
          <p:cNvGraphicFramePr/>
          <p:nvPr/>
        </p:nvGraphicFramePr>
        <p:xfrm>
          <a:off x="1908000" y="1052640"/>
          <a:ext cx="4857840" cy="79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052640"/>
                    <a:ext cx="48578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9"/>
          <p:cNvGraphicFramePr/>
          <p:nvPr/>
        </p:nvGraphicFramePr>
        <p:xfrm>
          <a:off x="1403280" y="2852640"/>
          <a:ext cx="56437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852640"/>
                    <a:ext cx="564372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орема о сложении вероятностей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7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Если пересечение событий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епусто, 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0000ff"/>
                </a:solidFill>
                <a:latin typeface="Calibri"/>
              </a:rPr>
              <a:t>р(А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U </a:t>
            </a:r>
            <a:r>
              <a:rPr b="0" i="1" lang="ru-RU" sz="2200" spc="-1" strike="noStrike">
                <a:solidFill>
                  <a:srgbClr val="0000ff"/>
                </a:solidFill>
                <a:latin typeface="Calibri"/>
              </a:rPr>
              <a:t>В) = р(А) + р(В) - р(А 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∩ </a:t>
            </a:r>
            <a:r>
              <a:rPr b="0" i="1" lang="ru-RU" sz="2200" spc="-1" strike="noStrike">
                <a:solidFill>
                  <a:srgbClr val="0000ff"/>
                </a:solidFill>
                <a:latin typeface="Calibri"/>
              </a:rPr>
              <a:t>В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 Это следует из аксиомы 3 для меры.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мер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йдем вероятность того, что вытащенная из пол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лоды карта окажется пикой или картинко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сть событию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ответствует извлечение из колоды карт пик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бытию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 —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ртинк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каждой карты из колоды вероятность вытащить ее равна 1/5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исло пик в полной колоде равно 13. Следовательно, вероятн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бытия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вна 13/52=1/4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Число картинок равно 16, вероятнос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бытия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равна 16/52 = 4/13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бытия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ют непустое пересечение. Множество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∩В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тои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 четырех элементов,следовательно,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р(А ∩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) =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/52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/13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р(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) = р(А) + р(В) - р(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∩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 =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/4+4/13-1/13=25/52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роятность того, что вытащенная из полной колоды карта окажется пик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червой равна равна 1/4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 1/4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1/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об умножении вероятносте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им теперь серию экспериментов, в которой некотор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чайная величина наблюдается последовательно несколь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. Последовательные события называются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независимы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наступление каждого из них не связано ни с каким 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и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имер, исходы при бросании кости являю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висимыми событиями, а последовательные вытяг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т из одной и той же колоды без возврата — 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орема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оятность того, что независимые событи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ойдут в одной серии испытаний, равна произвед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оятностей событий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оятность того, что обе монеты упадут гербом вверх равна 1/2 * 1/ 2 = 1/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формационная модель Шеннона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936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ются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источник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кодер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приемник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декодер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заны между собой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канал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оторому передаю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бщения. Канал не искажает и не теряет сообщ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в области источника происходит наблюдение 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оторой случайной величиной. Приемник может име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оторое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априорно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ие о множеств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ых исходов этой величины до того, как произош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людение. Когда ничего не известно заранее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ется за все пространство возможных исходов Ω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чник передает приемнику сообщение о произошедш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людении, после получения которого множ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положительных исходов у приемника сужается д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П0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Л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редставление будем называть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апостериорны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ем говорить, что источник передал приемнику некотору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информаци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происшедшем событии, на основан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ой изменилось представление приемника о множест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ых исходов наблюдаемой велич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им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количество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информаци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щейся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бщени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няющем представление приемника 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ытии с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П0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Л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форму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иницей количества информации является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би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1042920" y="3860640"/>
          <a:ext cx="5659560" cy="10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860640"/>
                    <a:ext cx="5659560" cy="10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5"/>
          <p:cNvSpPr/>
          <p:nvPr/>
        </p:nvSpPr>
        <p:spPr>
          <a:xfrm>
            <a:off x="7165800" y="40766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емье должен родиться ребен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ранство элементарных исходов данной случай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чины 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{мальчик, девочка}, 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ит из двух исход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сутствие априорной информации у приемника (родителе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поле малыша означает, чт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падает с эт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ранств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бщение источника (врача) «у вас родился мальчик» сужа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множество предположений до множеств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П0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Л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инственного исход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льчи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формуле (12) количество полученной 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яется к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6"/>
          <p:cNvGrpSpPr/>
          <p:nvPr/>
        </p:nvGrpSpPr>
        <p:grpSpPr>
          <a:xfrm>
            <a:off x="1770480" y="5229360"/>
            <a:ext cx="4598640" cy="647640"/>
            <a:chOff x="1770480" y="5229360"/>
            <a:chExt cx="4598640" cy="647640"/>
          </a:xfrm>
        </p:grpSpPr>
        <mc:AlternateContent>
          <mc:Choice xmlns:a14="http://schemas.microsoft.com/office/drawing/2010/main" Requires="a14">
            <p:sp>
              <p:nvSpPr>
                <p:cNvPr id="94" name="Object 11"/>
                <p:cNvSpPr txBox="1"/>
                <p:nvPr/>
              </p:nvSpPr>
              <p:spPr>
                <a:xfrm>
                  <a:off x="2916360" y="5229360"/>
                  <a:ext cx="1008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ДО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ПОСЛЕ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Object 15"/>
                <p:cNvSpPr txBox="1"/>
                <p:nvPr/>
              </p:nvSpPr>
              <p:spPr>
                <a:xfrm>
                  <a:off x="4859280" y="5300640"/>
                  <a:ext cx="50328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" name="Rectangle 17"/>
            <p:cNvSpPr/>
            <p:nvPr/>
          </p:nvSpPr>
          <p:spPr>
            <a:xfrm>
              <a:off x="1770480" y="5354280"/>
              <a:ext cx="1302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b-NO" sz="1800" spc="-1" strike="noStrike">
                  <a:solidFill>
                    <a:srgbClr val="000000"/>
                  </a:solidFill>
                  <a:latin typeface="Arial"/>
                </a:rPr>
                <a:t>I(m)= -log</a:t>
              </a:r>
              <a:r>
                <a:rPr b="0" i="1" lang="nb-NO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nb-NO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8"/>
            <p:cNvSpPr/>
            <p:nvPr/>
          </p:nvSpPr>
          <p:spPr>
            <a:xfrm>
              <a:off x="4219200" y="5354280"/>
              <a:ext cx="69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b-NO" sz="1800" spc="-1" strike="noStrike">
                  <a:solidFill>
                    <a:srgbClr val="000000"/>
                  </a:solidFill>
                  <a:latin typeface="Arial"/>
                </a:rPr>
                <a:t>-log</a:t>
              </a:r>
              <a:r>
                <a:rPr b="0" i="1" lang="nb-NO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9"/>
            <p:cNvSpPr/>
            <p:nvPr/>
          </p:nvSpPr>
          <p:spPr>
            <a:xfrm>
              <a:off x="3925080" y="5373000"/>
              <a:ext cx="37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0"/>
            <p:cNvSpPr/>
            <p:nvPr/>
          </p:nvSpPr>
          <p:spPr>
            <a:xfrm>
              <a:off x="5219640" y="5373000"/>
              <a:ext cx="114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b-NO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nb-NO" sz="1800" spc="-1" strike="noStrike">
                  <a:solidFill>
                    <a:srgbClr val="000000"/>
                  </a:solidFill>
                  <a:latin typeface="Arial"/>
                </a:rPr>
                <a:t>1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ит</a:t>
              </a:r>
              <a:r>
                <a:rPr b="0" lang="nb-NO" sz="18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1 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бит соответствует сообщению о том, что произошло одно из двух равновероятных событи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буется один бит для хранения сообщений о двух равновероятных события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колоды вытягивается карта. Пространство элементарных исходов —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2 карты. В отсутствие изначальной информации простран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оложений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_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падает с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м пространств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ое сообщение от источника «выпала трефа» сужает его до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ПОСЛЕ_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ых исход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е сообщение «выпала картинка» сужает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_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П0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ЛЕ_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П0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оящего из 4 исход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ье сообщение «выпа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ма треф» сужает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_3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П0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ЛЕ_3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П0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ЛЕ_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оящего из единственног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х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ичество информации, содержащееся в первом сообщении рав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3/52= 2 битам, во втором —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/13 = 1.5, в третьем —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/4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ит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рудно проверить, что суммарное количество полученной информации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5 бит, совпадает с количеством информации, которое несло бы сообщ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выпала дама треф» =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/52 = 5.5 би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об аддитивности информаци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м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информации, переносимое сообщени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событии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вно сумме количеств информации, переносим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бщениями, последовательно уточняющими это событ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 двух источника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– p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грань 5)=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og P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после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/P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д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o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=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p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грань 5)=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6;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og P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после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/P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д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o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/6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6 ≈ 2,5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полученной приемником информации зависит от его предварительного знания о событи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информации зависит не от события, а от сообщения о н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улы Шеннона, Харт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положим теперь, что источник является генератором символо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 некоторого множеств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{х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 ...,х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назовем его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лфавит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точника)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и символы могут служить для обозначения каких-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лементарных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бытий, происходящих в области источника, но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бстрагируясь от них, в дальнейшем будем считать, ч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матриваемым событием является поступление в канал сами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мволо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(х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вероятность поступления в канал символ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х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2987640" y="4437000"/>
          <a:ext cx="19288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4437000"/>
                    <a:ext cx="19288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ытие, которое может произойти или нет, называют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случайны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падание стрелка в мишен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лечение дамы пик из колоды карт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игрыш билета в розыгрыше лотереи и т. 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основании отдельно взятого случайного события нельз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но предсказать, например, какие билеты окажу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игрышными. Но если провести достаточно большу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овательность испытаний, то можно выяв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ные закономерности, позволяющие дел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енные предсказ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мотрим теперь модель, в которой элементарным исход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вляется текстовое </a:t>
            </a:r>
            <a:r>
              <a:rPr b="0" i="1" lang="ru-RU" sz="2200" spc="-1" strike="noStrike">
                <a:solidFill>
                  <a:srgbClr val="0000ff"/>
                </a:solidFill>
                <a:latin typeface="Calibri"/>
              </a:rPr>
              <a:t>сообщени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Таким образом, Ω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эт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ножеств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х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почек символов произвольной длин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поступившему сообщению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т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посчитать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кспериментальну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ff"/>
                </a:solidFill>
                <a:latin typeface="Calibri"/>
              </a:rPr>
              <a:t>частоту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речаемости в нем каждог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мвол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общая дл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общения, 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число повторений в не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мвол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2340000" y="3573360"/>
          <a:ext cx="278604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73360"/>
                    <a:ext cx="278604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тно, что анализируя различные сообщения, мы буд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лучать различные экспериментальные частоты символов, 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источников, характеризующихся закономерностью выдач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мволов (их называют 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эргодическим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, оказывается, что 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статочно длинных сообщениях все частоты символов сходятся 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которым устойчивым величинам которые можно рассматрив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</a:t>
            </a:r>
            <a:r>
              <a:rPr b="0" i="1" lang="ru-RU" sz="2200" spc="-1" strike="noStrike">
                <a:solidFill>
                  <a:srgbClr val="0000ff"/>
                </a:solidFill>
                <a:latin typeface="Calibri"/>
              </a:rPr>
              <a:t>распределение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ff"/>
                </a:solidFill>
                <a:latin typeface="Calibri"/>
              </a:rPr>
              <a:t>вероятностей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дачи символов данны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точнико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2124000" y="3645000"/>
          <a:ext cx="364356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645000"/>
                    <a:ext cx="36435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мотрим сообщение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состоящее из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мволов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мволов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т. д. в произвольном порядке, как серию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лементарных событий, состоящих в выдаче одиночных символ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гда вероятность появления на выходе источника сообщения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611280" y="3357720"/>
          <a:ext cx="814392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57720"/>
                    <a:ext cx="814392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личество информации, переносимой сообщением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ины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N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яется ка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личество информации, приходящейся в среднем на кажды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мвол в сообщении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е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— длина сообщения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539640" y="1916280"/>
          <a:ext cx="764712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76471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7"/>
          <p:cNvGraphicFramePr/>
          <p:nvPr/>
        </p:nvGraphicFramePr>
        <p:xfrm>
          <a:off x="3059280" y="4365720"/>
          <a:ext cx="198108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4365720"/>
                    <a:ext cx="19810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5183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нно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йдем к пределу по длине всевозможных сообщений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&gt; ∞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формуле (14),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поминая, что в достаточно большом сообщен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-&gt;∞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олуча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7"/>
              <p:cNvSpPr txBox="1"/>
              <p:nvPr/>
            </p:nvSpPr>
            <p:spPr>
              <a:xfrm>
                <a:off x="2195640" y="4365720"/>
                <a:ext cx="4316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6" name="Object 8"/>
          <p:cNvGraphicFramePr/>
          <p:nvPr/>
        </p:nvGraphicFramePr>
        <p:xfrm>
          <a:off x="1258920" y="1484280"/>
          <a:ext cx="692928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84280"/>
                    <a:ext cx="69292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1979640" y="5157720"/>
          <a:ext cx="4286160" cy="9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5157720"/>
                    <a:ext cx="428616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16"/>
          <p:cNvSpPr/>
          <p:nvPr/>
        </p:nvSpPr>
        <p:spPr>
          <a:xfrm>
            <a:off x="6949800" y="537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ула Харт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83664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личин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арактеризует среднее количество информации 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ин символ из алфавит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 с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данным (или эксперименталь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енным) распределением вероятност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р(х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), р(х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), ... , р(х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мотрим случай, когда все символы в алфавите равновероятны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р(х1)  = р(х2)   . . .   = р(х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) =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/N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еднее количество информации, приходящееся на каждый симв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акого алфавита, по формуле Шенно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826920" y="4869000"/>
          <a:ext cx="7072560" cy="89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869000"/>
                    <a:ext cx="707256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7"/>
          <p:cNvSpPr/>
          <p:nvPr/>
        </p:nvSpPr>
        <p:spPr>
          <a:xfrm>
            <a:off x="8226360" y="50324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нятие к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Функцие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кодирован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ывается отображ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 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ф1 —&gt; Алф2,  которое некоторой цепочке символов 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фавита Алф1 сопоставляет некоторую цепочку символ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з алфавита Алф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мвол —&gt; символ, т. е. код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 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ф1 —&gt; Алф2, прич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|Алф1 | = | Алф2 |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Символ —&gt; слово, т. е. код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Алф1 —&gt; Алф2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ичем обыч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|Алф1| &g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|Алф2|.  Алф2*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цепочка символов из алфавита Алф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во —&gt; символ, т. е. код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Алф1* —&gt; Алф2. прич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|Алф1| &lt; Алф2|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 Слово —&gt; слово, т. е. код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Алф1* —&gt; Алф2*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сть Алф1 = {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},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лф2 = {0,1}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мер кода типа 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&gt;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0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—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&gt; 01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&gt; 10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—&gt; 1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сть слово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01101010 было получено в результате кодиров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м хотелось бы узнать, какое слово из алфавита Алф1 был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ведено в слово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этого нужно выполнить действие, называемое </a:t>
            </a:r>
            <a:r>
              <a:rPr b="0" i="1" lang="ru-RU" sz="2200" spc="-1" strike="noStrike">
                <a:solidFill>
                  <a:srgbClr val="0000ff"/>
                </a:solidFill>
                <a:latin typeface="Calibri"/>
              </a:rPr>
              <a:t>декодированием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i="1" lang="ru-RU" sz="2200" spc="-1" strike="noStrike">
                <a:solidFill>
                  <a:srgbClr val="0000ff"/>
                </a:solidFill>
                <a:latin typeface="Calibri"/>
              </a:rPr>
              <a:t>дешифровкой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рассматриваемом примере кода возможны два вариан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шифровки кода. Слово </a:t>
            </a:r>
            <a:r>
              <a:rPr b="0" i="1" lang="en-US" sz="2200" spc="-1" strike="noStrike">
                <a:solidFill>
                  <a:srgbClr val="c0504d"/>
                </a:solidFill>
                <a:latin typeface="Calibri"/>
              </a:rPr>
              <a:t>addbba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дируется словом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слов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504d"/>
                </a:solidFill>
                <a:latin typeface="Calibri"/>
              </a:rPr>
              <a:t>b</a:t>
            </a:r>
            <a:r>
              <a:rPr b="0" i="1" lang="ru-RU" sz="2200" spc="-1" strike="noStrike">
                <a:solidFill>
                  <a:srgbClr val="c0504d"/>
                </a:solidFill>
                <a:latin typeface="Calibri"/>
              </a:rPr>
              <a:t>ссс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акже кодируется словом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ы столкнулись с проблемой неоднозначности декодировани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гда две разные исходные цепочки в Алф1 имеют один и тот ж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д в Алф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успешной дешифровки необходимо, чтобы коды допуска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означное декодирова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д называется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префиксны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никакое кодовое слово 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вляется началом никакого другого кодового сло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твержд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фиксный код всегда может быть однозначно декодиров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яснени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кодовая цепочка дешифруема, то минималь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лине начальная цепочка, являющаяся кодом некотор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мвола, позволяет восстановить первый символ исход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почки. В силу префиксности никакая более длинная началь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почка не может быть кодом другого символа. Часть ко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авшаяся после отделения кода найденного символ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шифруется такж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Алф1 =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}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ф2 = {0,1}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им код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ой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&gt; 0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&gt; 101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&gt; 110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&gt; 11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им слов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1101010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д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вляется префиксным, поэтому слов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знач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кодируется, а именно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cba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Пространство элементарных событ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(исходов)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Ω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жество всех различ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ытий, возможных при провед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перимен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ментарность исходов понимается в 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ысле, что ни один из них не рассматрива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четание других событ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ерии качества кодир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нимальная длина ко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значное декодиро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быточность код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569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азывается, что величи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А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яет предел сжимаемости код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какой двоичный код не может иметь среднюю длину меньшую, чем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ротивном случае можно было бы передать некоторое количе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ции меньшим числом битов, что невозмож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им образом, любой код может быть лишь в большей или меньш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епени </a:t>
            </a: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избыточны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осительная избыточность кода характеризуется как отношение чис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избыточных» битов в коде к общей длине код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избыточное число бит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−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*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ообщение из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мволов алфавит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информационной емкостью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д длины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итов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удельная избыточность каждого символа ко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2124000" y="5229360"/>
          <a:ext cx="3429000" cy="76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5229360"/>
                    <a:ext cx="342900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 Box 6"/>
          <p:cNvSpPr/>
          <p:nvPr/>
        </p:nvSpPr>
        <p:spPr>
          <a:xfrm>
            <a:off x="6929280" y="53928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метив, что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-&gt;∞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/N 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ть средняя длина кодовог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ов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лучим независимое от сообщения соотнош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избыточности код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= 1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/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тимальный код с нулевой избыточностью является код с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едней длиной кодового слов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итов или наиболе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лизкий к нем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юм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А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казывает, какое в среднем количество двоичных символ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ужно для записи всех кодовых слов алфавита А при произволь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дировании «символ —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алфавитов с равновероятными символами формула Хартли определя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нимальную необходимую длину кодового слова, например для алфави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CII: I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CI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og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56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= 8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и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им образом, любой 8-битный код для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CI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дет оптималь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атие по Хаффма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горит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ить набор входных символов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 =&lt;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, ... 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&gt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распределение их экспериментальных частот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Р =&lt;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 ... 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&gt;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 Для данных алфавит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распределения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роить так называемое </a:t>
            </a:r>
            <a:r>
              <a:rPr b="0" i="1" lang="ru-RU" sz="2200" spc="-1" strike="noStrike">
                <a:solidFill>
                  <a:srgbClr val="0000ff"/>
                </a:solidFill>
                <a:latin typeface="Calibri"/>
              </a:rPr>
              <a:t>двоичное дерево Хаффмана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По построенному дереву составить функцию двоичного кодирования по Хаффману типа «символ —&gt; слово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Используя функцию кодирования, закодировать входную стро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вый шаг алгоритма, реализуется однократным просмотр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ходной строки, распределение частот строится в конце просмотра п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копленным  счетчикам по формуле (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втором шаге алгоритма строится дерево Хаффма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аг_построен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ход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набор свободных узлов дерев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вх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{&lt;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&gt;,&lt;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&gt;,...,&lt;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&gt;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йти в W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вх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два узла W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&lt;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&gt; и W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&lt;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c минимальны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астотами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здать новый узел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i&amp;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&lt;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i&amp;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i&amp;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&gt;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i&amp;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– новы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севдосимвол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ляющий "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" 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личный от всех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i&amp;j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частота, приписываемая этому новому символ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соединить узлы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i&amp; 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как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ынове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ключить вновь связанные узлы и добавить новы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ный узел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вых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=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вх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U {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i&amp; 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\{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ыход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новленный набор свободных узлов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вых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ржащий k-1 узе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роение дерева Хаффм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сходный набор символов &lt;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...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gt;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&lt;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...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gt; - распределение их часто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{&lt;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gt;,...,&lt;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gt;} (начальный набор свобод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злов соответствует встречающимся символам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о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0 до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Шаг_построения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дерево Хаффмана, построенное в цик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корневым узлом, содержащимся в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ол около колоко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4/18;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 4/18;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 7/18;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ел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18;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 1/1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злы, образующие начальный список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дерево нагляднее, если выписывать узлы в порядке убывания частот)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ервой итерации цикла находим два узла с минимальными часто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соединяем их с новым узлом &lt;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&gt;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севдосимвол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ющий любой из символов «пробел» или «а», а частота е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вна сумме частот 2/18 + 1/18 = 3/18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ый список свободных узлов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оит из узлов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короче первоначального на 1 уз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Группа 30"/>
          <p:cNvGrpSpPr/>
          <p:nvPr/>
        </p:nvGrpSpPr>
        <p:grpSpPr>
          <a:xfrm>
            <a:off x="1258920" y="2781360"/>
            <a:ext cx="5786280" cy="476280"/>
            <a:chOff x="1258920" y="2781360"/>
            <a:chExt cx="5786280" cy="476280"/>
          </a:xfrm>
        </p:grpSpPr>
        <p:grpSp>
          <p:nvGrpSpPr>
            <p:cNvPr id="160" name="Группа 13"/>
            <p:cNvGrpSpPr/>
            <p:nvPr/>
          </p:nvGrpSpPr>
          <p:grpSpPr>
            <a:xfrm>
              <a:off x="1258920" y="2781360"/>
              <a:ext cx="857160" cy="476280"/>
              <a:chOff x="1258920" y="2781360"/>
              <a:chExt cx="857160" cy="476280"/>
            </a:xfrm>
          </p:grpSpPr>
          <p:sp>
            <p:nvSpPr>
              <p:cNvPr id="161" name="Овал 5"/>
              <p:cNvSpPr/>
              <p:nvPr/>
            </p:nvSpPr>
            <p:spPr>
              <a:xfrm>
                <a:off x="1616040" y="2924280"/>
                <a:ext cx="142920" cy="142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62" name="Object 5"/>
              <p:cNvGraphicFramePr/>
              <p:nvPr/>
            </p:nvGraphicFramePr>
            <p:xfrm>
              <a:off x="1758960" y="2781360"/>
              <a:ext cx="357120" cy="476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3" name="Object 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758960" y="2781360"/>
                        <a:ext cx="357120" cy="47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4" name="TextBox 12"/>
              <p:cNvSpPr/>
              <p:nvPr/>
            </p:nvSpPr>
            <p:spPr>
              <a:xfrm>
                <a:off x="1258920" y="278136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Группа 14"/>
            <p:cNvGrpSpPr/>
            <p:nvPr/>
          </p:nvGrpSpPr>
          <p:grpSpPr>
            <a:xfrm>
              <a:off x="2330280" y="2781360"/>
              <a:ext cx="857160" cy="476280"/>
              <a:chOff x="2330280" y="2781360"/>
              <a:chExt cx="857160" cy="476280"/>
            </a:xfrm>
          </p:grpSpPr>
          <p:sp>
            <p:nvSpPr>
              <p:cNvPr id="166" name="Овал 15"/>
              <p:cNvSpPr/>
              <p:nvPr/>
            </p:nvSpPr>
            <p:spPr>
              <a:xfrm>
                <a:off x="2687400" y="2924280"/>
                <a:ext cx="142920" cy="142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67" name="Object 6"/>
              <p:cNvGraphicFramePr/>
              <p:nvPr/>
            </p:nvGraphicFramePr>
            <p:xfrm>
              <a:off x="2830320" y="2781360"/>
              <a:ext cx="357120" cy="476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8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0320" y="2781360"/>
                        <a:ext cx="357120" cy="47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9" name="TextBox 17"/>
              <p:cNvSpPr/>
              <p:nvPr/>
            </p:nvSpPr>
            <p:spPr>
              <a:xfrm>
                <a:off x="2330280" y="278136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Группа 18"/>
            <p:cNvGrpSpPr/>
            <p:nvPr/>
          </p:nvGrpSpPr>
          <p:grpSpPr>
            <a:xfrm>
              <a:off x="3402000" y="2781360"/>
              <a:ext cx="857160" cy="476280"/>
              <a:chOff x="3402000" y="2781360"/>
              <a:chExt cx="857160" cy="476280"/>
            </a:xfrm>
          </p:grpSpPr>
          <p:sp>
            <p:nvSpPr>
              <p:cNvPr id="171" name="Овал 19"/>
              <p:cNvSpPr/>
              <p:nvPr/>
            </p:nvSpPr>
            <p:spPr>
              <a:xfrm>
                <a:off x="3759120" y="2924280"/>
                <a:ext cx="142920" cy="142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2" name="Object 7"/>
              <p:cNvGraphicFramePr/>
              <p:nvPr/>
            </p:nvGraphicFramePr>
            <p:xfrm>
              <a:off x="3902040" y="2781360"/>
              <a:ext cx="357120" cy="4762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3" name="Object 7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902040" y="2781360"/>
                        <a:ext cx="357120" cy="47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4" name="TextBox 21"/>
              <p:cNvSpPr/>
              <p:nvPr/>
            </p:nvSpPr>
            <p:spPr>
              <a:xfrm>
                <a:off x="3402000" y="278136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л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Группа 22"/>
            <p:cNvGrpSpPr/>
            <p:nvPr/>
          </p:nvGrpSpPr>
          <p:grpSpPr>
            <a:xfrm>
              <a:off x="4473360" y="2781360"/>
              <a:ext cx="1428480" cy="476280"/>
              <a:chOff x="4473360" y="2781360"/>
              <a:chExt cx="1428480" cy="476280"/>
            </a:xfrm>
          </p:grpSpPr>
          <p:sp>
            <p:nvSpPr>
              <p:cNvPr id="176" name="Овал 23"/>
              <p:cNvSpPr/>
              <p:nvPr/>
            </p:nvSpPr>
            <p:spPr>
              <a:xfrm>
                <a:off x="5401800" y="2924280"/>
                <a:ext cx="142560" cy="142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7" name="Object 8"/>
              <p:cNvGraphicFramePr/>
              <p:nvPr/>
            </p:nvGraphicFramePr>
            <p:xfrm>
              <a:off x="5544720" y="2781360"/>
              <a:ext cx="357120" cy="4762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8" name="Object 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544720" y="2781360"/>
                        <a:ext cx="357120" cy="47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9" name="TextBox 25"/>
              <p:cNvSpPr/>
              <p:nvPr/>
            </p:nvSpPr>
            <p:spPr>
              <a:xfrm>
                <a:off x="4473360" y="2852640"/>
                <a:ext cx="92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пробе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Группа 26"/>
            <p:cNvGrpSpPr/>
            <p:nvPr/>
          </p:nvGrpSpPr>
          <p:grpSpPr>
            <a:xfrm>
              <a:off x="6188040" y="2781360"/>
              <a:ext cx="857160" cy="476280"/>
              <a:chOff x="6188040" y="2781360"/>
              <a:chExt cx="857160" cy="476280"/>
            </a:xfrm>
          </p:grpSpPr>
          <p:sp>
            <p:nvSpPr>
              <p:cNvPr id="181" name="Овал 27"/>
              <p:cNvSpPr/>
              <p:nvPr/>
            </p:nvSpPr>
            <p:spPr>
              <a:xfrm>
                <a:off x="6545160" y="2924280"/>
                <a:ext cx="142920" cy="142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82" name="Object 9"/>
              <p:cNvGraphicFramePr/>
              <p:nvPr/>
            </p:nvGraphicFramePr>
            <p:xfrm>
              <a:off x="6688080" y="2781360"/>
              <a:ext cx="357120" cy="4762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3" name="Object 9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688080" y="2781360"/>
                        <a:ext cx="357120" cy="47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4" name="TextBox 29"/>
              <p:cNvSpPr/>
              <p:nvPr/>
            </p:nvSpPr>
            <p:spPr>
              <a:xfrm>
                <a:off x="6188040" y="278136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5"/>
          <p:cNvGrpSpPr/>
          <p:nvPr/>
        </p:nvGrpSpPr>
        <p:grpSpPr>
          <a:xfrm>
            <a:off x="1285920" y="571680"/>
            <a:ext cx="5786280" cy="1474560"/>
            <a:chOff x="1285920" y="571680"/>
            <a:chExt cx="5786280" cy="1474560"/>
          </a:xfrm>
        </p:grpSpPr>
        <p:grpSp>
          <p:nvGrpSpPr>
            <p:cNvPr id="186" name="Группа 13"/>
            <p:cNvGrpSpPr/>
            <p:nvPr/>
          </p:nvGrpSpPr>
          <p:grpSpPr>
            <a:xfrm>
              <a:off x="1285920" y="571680"/>
              <a:ext cx="857160" cy="475920"/>
              <a:chOff x="1285920" y="571680"/>
              <a:chExt cx="857160" cy="475920"/>
            </a:xfrm>
          </p:grpSpPr>
          <p:sp>
            <p:nvSpPr>
              <p:cNvPr id="187" name="Овал 5"/>
              <p:cNvSpPr/>
              <p:nvPr/>
            </p:nvSpPr>
            <p:spPr>
              <a:xfrm>
                <a:off x="1643040" y="714240"/>
                <a:ext cx="142920" cy="142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88" name="Object 5"/>
              <p:cNvGraphicFramePr/>
              <p:nvPr/>
            </p:nvGraphicFramePr>
            <p:xfrm>
              <a:off x="1785960" y="571680"/>
              <a:ext cx="357120" cy="4759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89" name="Object 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785960" y="571680"/>
                        <a:ext cx="357120" cy="47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0" name="TextBox 24"/>
              <p:cNvSpPr/>
              <p:nvPr/>
            </p:nvSpPr>
            <p:spPr>
              <a:xfrm>
                <a:off x="1285920" y="57168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Группа 14"/>
            <p:cNvGrpSpPr/>
            <p:nvPr/>
          </p:nvGrpSpPr>
          <p:grpSpPr>
            <a:xfrm>
              <a:off x="2357280" y="571680"/>
              <a:ext cx="857520" cy="475920"/>
              <a:chOff x="2357280" y="571680"/>
              <a:chExt cx="857520" cy="475920"/>
            </a:xfrm>
          </p:grpSpPr>
          <p:sp>
            <p:nvSpPr>
              <p:cNvPr id="192" name="Овал 19"/>
              <p:cNvSpPr/>
              <p:nvPr/>
            </p:nvSpPr>
            <p:spPr>
              <a:xfrm>
                <a:off x="2714400" y="714240"/>
                <a:ext cx="142920" cy="142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3" name="Object 6"/>
              <p:cNvGraphicFramePr/>
              <p:nvPr/>
            </p:nvGraphicFramePr>
            <p:xfrm>
              <a:off x="2857680" y="571680"/>
              <a:ext cx="357120" cy="4759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4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57680" y="571680"/>
                        <a:ext cx="357120" cy="47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5" name="TextBox 21"/>
              <p:cNvSpPr/>
              <p:nvPr/>
            </p:nvSpPr>
            <p:spPr>
              <a:xfrm>
                <a:off x="2357280" y="57168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Группа 18"/>
            <p:cNvGrpSpPr/>
            <p:nvPr/>
          </p:nvGrpSpPr>
          <p:grpSpPr>
            <a:xfrm>
              <a:off x="3429000" y="571680"/>
              <a:ext cx="857160" cy="475920"/>
              <a:chOff x="3429000" y="571680"/>
              <a:chExt cx="857160" cy="475920"/>
            </a:xfrm>
          </p:grpSpPr>
          <p:sp>
            <p:nvSpPr>
              <p:cNvPr id="197" name="Овал 16"/>
              <p:cNvSpPr/>
              <p:nvPr/>
            </p:nvSpPr>
            <p:spPr>
              <a:xfrm>
                <a:off x="3786120" y="714240"/>
                <a:ext cx="142920" cy="142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8" name="Object 7"/>
              <p:cNvGraphicFramePr/>
              <p:nvPr/>
            </p:nvGraphicFramePr>
            <p:xfrm>
              <a:off x="3929040" y="571680"/>
              <a:ext cx="357120" cy="475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99" name="Object 7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929040" y="571680"/>
                        <a:ext cx="357120" cy="47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0" name="TextBox 18"/>
              <p:cNvSpPr/>
              <p:nvPr/>
            </p:nvSpPr>
            <p:spPr>
              <a:xfrm>
                <a:off x="3429000" y="57168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л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Группа 22"/>
            <p:cNvGrpSpPr/>
            <p:nvPr/>
          </p:nvGrpSpPr>
          <p:grpSpPr>
            <a:xfrm>
              <a:off x="4500720" y="571680"/>
              <a:ext cx="1428480" cy="475920"/>
              <a:chOff x="4500720" y="571680"/>
              <a:chExt cx="1428480" cy="475920"/>
            </a:xfrm>
          </p:grpSpPr>
          <p:sp>
            <p:nvSpPr>
              <p:cNvPr id="202" name="Овал 13"/>
              <p:cNvSpPr/>
              <p:nvPr/>
            </p:nvSpPr>
            <p:spPr>
              <a:xfrm>
                <a:off x="5429160" y="714240"/>
                <a:ext cx="142560" cy="142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03" name="Object 8"/>
              <p:cNvGraphicFramePr/>
              <p:nvPr/>
            </p:nvGraphicFramePr>
            <p:xfrm>
              <a:off x="5572080" y="571680"/>
              <a:ext cx="357120" cy="475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04" name="Object 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572080" y="571680"/>
                        <a:ext cx="357120" cy="47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5" name="TextBox 15"/>
              <p:cNvSpPr/>
              <p:nvPr/>
            </p:nvSpPr>
            <p:spPr>
              <a:xfrm>
                <a:off x="4500720" y="642960"/>
                <a:ext cx="92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пробе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Группа 26"/>
            <p:cNvGrpSpPr/>
            <p:nvPr/>
          </p:nvGrpSpPr>
          <p:grpSpPr>
            <a:xfrm>
              <a:off x="6215040" y="571680"/>
              <a:ext cx="857160" cy="475920"/>
              <a:chOff x="6215040" y="571680"/>
              <a:chExt cx="857160" cy="475920"/>
            </a:xfrm>
          </p:grpSpPr>
          <p:sp>
            <p:nvSpPr>
              <p:cNvPr id="207" name="Овал 10"/>
              <p:cNvSpPr/>
              <p:nvPr/>
            </p:nvSpPr>
            <p:spPr>
              <a:xfrm>
                <a:off x="6572160" y="714240"/>
                <a:ext cx="142920" cy="142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08" name="Object 9"/>
              <p:cNvGraphicFramePr/>
              <p:nvPr/>
            </p:nvGraphicFramePr>
            <p:xfrm>
              <a:off x="6715080" y="571680"/>
              <a:ext cx="357120" cy="4759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09" name="Object 9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715080" y="571680"/>
                        <a:ext cx="357120" cy="47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0" name="TextBox 12"/>
              <p:cNvSpPr/>
              <p:nvPr/>
            </p:nvSpPr>
            <p:spPr>
              <a:xfrm>
                <a:off x="6215040" y="57168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Овал 32"/>
            <p:cNvSpPr/>
            <p:nvPr/>
          </p:nvSpPr>
          <p:spPr>
            <a:xfrm>
              <a:off x="6000840" y="1714680"/>
              <a:ext cx="142920" cy="142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2" name="Object 10"/>
            <p:cNvGraphicFramePr/>
            <p:nvPr/>
          </p:nvGraphicFramePr>
          <p:xfrm>
            <a:off x="6215040" y="1571760"/>
            <a:ext cx="358920" cy="474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13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15040" y="1571760"/>
                      <a:ext cx="358920" cy="47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Object 11"/>
            <p:cNvGraphicFramePr/>
            <p:nvPr/>
          </p:nvGraphicFramePr>
          <p:xfrm>
            <a:off x="5643720" y="1643040"/>
            <a:ext cx="320400" cy="357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15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643720" y="1643040"/>
                      <a:ext cx="32040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Прямая соединительная линия 37"/>
            <p:cNvSpPr/>
            <p:nvPr/>
          </p:nvSpPr>
          <p:spPr>
            <a:xfrm>
              <a:off x="5500080" y="857160"/>
              <a:ext cx="571320" cy="85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рямая соединительная линия 38"/>
            <p:cNvSpPr/>
            <p:nvPr/>
          </p:nvSpPr>
          <p:spPr>
            <a:xfrm flipH="1">
              <a:off x="6072120" y="857160"/>
              <a:ext cx="571680" cy="85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Box 25"/>
          <p:cNvSpPr/>
          <p:nvPr/>
        </p:nvSpPr>
        <p:spPr>
          <a:xfrm>
            <a:off x="1863360" y="2214720"/>
            <a:ext cx="443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ис. 2. дерево Хаффмана после первой ит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80"/>
          <p:cNvGrpSpPr/>
          <p:nvPr/>
        </p:nvGrpSpPr>
        <p:grpSpPr>
          <a:xfrm>
            <a:off x="1914120" y="2924280"/>
            <a:ext cx="4410000" cy="3194640"/>
            <a:chOff x="1914120" y="2924280"/>
            <a:chExt cx="4410000" cy="3194640"/>
          </a:xfrm>
        </p:grpSpPr>
        <p:sp>
          <p:nvSpPr>
            <p:cNvPr id="220" name="TextBox 44"/>
            <p:cNvSpPr/>
            <p:nvPr/>
          </p:nvSpPr>
          <p:spPr>
            <a:xfrm>
              <a:off x="1914120" y="5781600"/>
              <a:ext cx="44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Рис. 3. дерево Хаффмана после второй итер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Группа 81"/>
            <p:cNvGrpSpPr/>
            <p:nvPr/>
          </p:nvGrpSpPr>
          <p:grpSpPr>
            <a:xfrm>
              <a:off x="2408040" y="2924280"/>
              <a:ext cx="3643200" cy="2545920"/>
              <a:chOff x="2408040" y="2924280"/>
              <a:chExt cx="3643200" cy="2545920"/>
            </a:xfrm>
          </p:grpSpPr>
          <p:sp>
            <p:nvSpPr>
              <p:cNvPr id="222" name="Овал 63"/>
              <p:cNvSpPr/>
              <p:nvPr/>
            </p:nvSpPr>
            <p:spPr>
              <a:xfrm>
                <a:off x="2765160" y="3066840"/>
                <a:ext cx="142560" cy="142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3" name="Object 14"/>
              <p:cNvGraphicFramePr/>
              <p:nvPr/>
            </p:nvGraphicFramePr>
            <p:xfrm>
              <a:off x="2908080" y="2924280"/>
              <a:ext cx="357120" cy="4759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24" name="Object 14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908080" y="2924280"/>
                        <a:ext cx="357120" cy="47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5" name="TextBox 65"/>
              <p:cNvSpPr/>
              <p:nvPr/>
            </p:nvSpPr>
            <p:spPr>
              <a:xfrm>
                <a:off x="2408040" y="292428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л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Овал 60"/>
              <p:cNvSpPr/>
              <p:nvPr/>
            </p:nvSpPr>
            <p:spPr>
              <a:xfrm>
                <a:off x="4408200" y="3066840"/>
                <a:ext cx="142560" cy="142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7" name="Object 15"/>
              <p:cNvGraphicFramePr/>
              <p:nvPr/>
            </p:nvGraphicFramePr>
            <p:xfrm>
              <a:off x="4551120" y="2924280"/>
              <a:ext cx="357120" cy="4759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228" name="Object 15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551120" y="2924280"/>
                        <a:ext cx="357120" cy="47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9" name="TextBox 62"/>
              <p:cNvSpPr/>
              <p:nvPr/>
            </p:nvSpPr>
            <p:spPr>
              <a:xfrm>
                <a:off x="3479400" y="2995560"/>
                <a:ext cx="92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пробе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Овал 10"/>
              <p:cNvSpPr/>
              <p:nvPr/>
            </p:nvSpPr>
            <p:spPr>
              <a:xfrm>
                <a:off x="5551200" y="3066840"/>
                <a:ext cx="142560" cy="142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31" name="Object 16"/>
              <p:cNvGraphicFramePr/>
              <p:nvPr/>
            </p:nvGraphicFramePr>
            <p:xfrm>
              <a:off x="5694120" y="2924280"/>
              <a:ext cx="357120" cy="47592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232" name="Object 16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5694120" y="2924280"/>
                        <a:ext cx="357120" cy="47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3" name="TextBox 12"/>
              <p:cNvSpPr/>
              <p:nvPr/>
            </p:nvSpPr>
            <p:spPr>
              <a:xfrm>
                <a:off x="5194080" y="292428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Овал 47"/>
              <p:cNvSpPr/>
              <p:nvPr/>
            </p:nvSpPr>
            <p:spPr>
              <a:xfrm>
                <a:off x="4979880" y="4066920"/>
                <a:ext cx="142560" cy="142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35" name="Object 17"/>
              <p:cNvGraphicFramePr/>
              <p:nvPr/>
            </p:nvGraphicFramePr>
            <p:xfrm>
              <a:off x="5194080" y="3924360"/>
              <a:ext cx="358560" cy="4744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36" name="Object 17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5194080" y="3924360"/>
                        <a:ext cx="358560" cy="47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7" name="Object 18"/>
              <p:cNvGraphicFramePr/>
              <p:nvPr/>
            </p:nvGraphicFramePr>
            <p:xfrm>
              <a:off x="4622400" y="3995640"/>
              <a:ext cx="320040" cy="35712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238" name="Object 18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4622400" y="3995640"/>
                        <a:ext cx="32004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9" name="Прямая соединительная линия 50"/>
              <p:cNvSpPr/>
              <p:nvPr/>
            </p:nvSpPr>
            <p:spPr>
              <a:xfrm>
                <a:off x="4479120" y="3209760"/>
                <a:ext cx="571320" cy="85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Прямая соединительная линия 51"/>
              <p:cNvSpPr/>
              <p:nvPr/>
            </p:nvSpPr>
            <p:spPr>
              <a:xfrm flipH="1">
                <a:off x="5050800" y="3209760"/>
                <a:ext cx="571320" cy="85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Овал 72"/>
              <p:cNvSpPr/>
              <p:nvPr/>
            </p:nvSpPr>
            <p:spPr>
              <a:xfrm>
                <a:off x="3850920" y="5138640"/>
                <a:ext cx="142560" cy="142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42" name="Object 19"/>
              <p:cNvGraphicFramePr/>
              <p:nvPr/>
            </p:nvGraphicFramePr>
            <p:xfrm>
              <a:off x="4065480" y="4995720"/>
              <a:ext cx="358560" cy="4744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243" name="Object 19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4065480" y="4995720"/>
                        <a:ext cx="358560" cy="47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4" name="Object 20"/>
              <p:cNvGraphicFramePr/>
              <p:nvPr/>
            </p:nvGraphicFramePr>
            <p:xfrm>
              <a:off x="3479400" y="5067000"/>
              <a:ext cx="350640" cy="35712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245" name="Object 20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3479400" y="5067000"/>
                        <a:ext cx="35064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6" name="Прямая соединительная линия 76"/>
              <p:cNvSpPr/>
              <p:nvPr/>
            </p:nvSpPr>
            <p:spPr>
              <a:xfrm flipH="1">
                <a:off x="3922560" y="4189320"/>
                <a:ext cx="1077840" cy="94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Прямая соединительная линия 78"/>
              <p:cNvSpPr/>
              <p:nvPr/>
            </p:nvSpPr>
            <p:spPr>
              <a:xfrm flipH="1" flipV="1">
                <a:off x="2836440" y="3209400"/>
                <a:ext cx="1085760" cy="192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250920" y="450756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им к 3-му шагу алгоритма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строению функции кодир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етим дуги, исходящие из каждой вершины дерева к ее сыновьям, единицей и нулем. Порядок пометки не имеет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Группа 96"/>
          <p:cNvGrpSpPr/>
          <p:nvPr/>
        </p:nvGrpSpPr>
        <p:grpSpPr>
          <a:xfrm>
            <a:off x="1643040" y="500040"/>
            <a:ext cx="5786640" cy="3700440"/>
            <a:chOff x="1643040" y="500040"/>
            <a:chExt cx="5786640" cy="3700440"/>
          </a:xfrm>
        </p:grpSpPr>
        <p:grpSp>
          <p:nvGrpSpPr>
            <p:cNvPr id="250" name="Группа 38"/>
            <p:cNvGrpSpPr/>
            <p:nvPr/>
          </p:nvGrpSpPr>
          <p:grpSpPr>
            <a:xfrm>
              <a:off x="1643040" y="500040"/>
              <a:ext cx="5786640" cy="1474560"/>
              <a:chOff x="1643040" y="500040"/>
              <a:chExt cx="5786640" cy="1474560"/>
            </a:xfrm>
          </p:grpSpPr>
          <p:grpSp>
            <p:nvGrpSpPr>
              <p:cNvPr id="251" name="Группа 13"/>
              <p:cNvGrpSpPr/>
              <p:nvPr/>
            </p:nvGrpSpPr>
            <p:grpSpPr>
              <a:xfrm>
                <a:off x="1643040" y="500040"/>
                <a:ext cx="857160" cy="476280"/>
                <a:chOff x="1643040" y="500040"/>
                <a:chExt cx="857160" cy="476280"/>
              </a:xfrm>
            </p:grpSpPr>
            <p:sp>
              <p:nvSpPr>
                <p:cNvPr id="252" name="Овал 5"/>
                <p:cNvSpPr/>
                <p:nvPr/>
              </p:nvSpPr>
              <p:spPr>
                <a:xfrm>
                  <a:off x="2000160" y="642960"/>
                  <a:ext cx="142920" cy="142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53" name="Object 15"/>
                <p:cNvGraphicFramePr/>
                <p:nvPr/>
              </p:nvGraphicFramePr>
              <p:xfrm>
                <a:off x="2143080" y="500040"/>
                <a:ext cx="357120" cy="4762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54" name="Object 1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143080" y="500040"/>
                          <a:ext cx="357120" cy="476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55" name="TextBox 63"/>
                <p:cNvSpPr/>
                <p:nvPr/>
              </p:nvSpPr>
              <p:spPr>
                <a:xfrm>
                  <a:off x="1643040" y="500040"/>
                  <a:ext cx="31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Группа 14"/>
              <p:cNvGrpSpPr/>
              <p:nvPr/>
            </p:nvGrpSpPr>
            <p:grpSpPr>
              <a:xfrm>
                <a:off x="2714400" y="500040"/>
                <a:ext cx="857160" cy="476280"/>
                <a:chOff x="2714400" y="500040"/>
                <a:chExt cx="857160" cy="476280"/>
              </a:xfrm>
            </p:grpSpPr>
            <p:sp>
              <p:nvSpPr>
                <p:cNvPr id="257" name="Овал 58"/>
                <p:cNvSpPr/>
                <p:nvPr/>
              </p:nvSpPr>
              <p:spPr>
                <a:xfrm>
                  <a:off x="3071520" y="642960"/>
                  <a:ext cx="142920" cy="142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58" name="Object 16"/>
                <p:cNvGraphicFramePr/>
                <p:nvPr/>
              </p:nvGraphicFramePr>
              <p:xfrm>
                <a:off x="3214440" y="500040"/>
                <a:ext cx="357120" cy="4762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59" name="Object 16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214440" y="500040"/>
                          <a:ext cx="357120" cy="476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60" name="TextBox 60"/>
                <p:cNvSpPr/>
                <p:nvPr/>
              </p:nvSpPr>
              <p:spPr>
                <a:xfrm>
                  <a:off x="2714400" y="500040"/>
                  <a:ext cx="31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</a:rPr>
                    <a:t>к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Группа 18"/>
              <p:cNvGrpSpPr/>
              <p:nvPr/>
            </p:nvGrpSpPr>
            <p:grpSpPr>
              <a:xfrm>
                <a:off x="3786120" y="500040"/>
                <a:ext cx="857160" cy="476280"/>
                <a:chOff x="3786120" y="500040"/>
                <a:chExt cx="857160" cy="476280"/>
              </a:xfrm>
            </p:grpSpPr>
            <p:sp>
              <p:nvSpPr>
                <p:cNvPr id="262" name="Овал 55"/>
                <p:cNvSpPr/>
                <p:nvPr/>
              </p:nvSpPr>
              <p:spPr>
                <a:xfrm>
                  <a:off x="4143240" y="642960"/>
                  <a:ext cx="142920" cy="142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63" name="Object 17"/>
                <p:cNvGraphicFramePr/>
                <p:nvPr/>
              </p:nvGraphicFramePr>
              <p:xfrm>
                <a:off x="4286160" y="500040"/>
                <a:ext cx="357120" cy="47628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64" name="Object 17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286160" y="500040"/>
                          <a:ext cx="357120" cy="476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65" name="TextBox 57"/>
                <p:cNvSpPr/>
                <p:nvPr/>
              </p:nvSpPr>
              <p:spPr>
                <a:xfrm>
                  <a:off x="3786120" y="500040"/>
                  <a:ext cx="31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</a:rPr>
                    <a:t>л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Группа 22"/>
              <p:cNvGrpSpPr/>
              <p:nvPr/>
            </p:nvGrpSpPr>
            <p:grpSpPr>
              <a:xfrm>
                <a:off x="4857840" y="500040"/>
                <a:ext cx="1428840" cy="476280"/>
                <a:chOff x="4857840" y="500040"/>
                <a:chExt cx="1428840" cy="476280"/>
              </a:xfrm>
            </p:grpSpPr>
            <p:sp>
              <p:nvSpPr>
                <p:cNvPr id="267" name="Овал 52"/>
                <p:cNvSpPr/>
                <p:nvPr/>
              </p:nvSpPr>
              <p:spPr>
                <a:xfrm>
                  <a:off x="5786640" y="642960"/>
                  <a:ext cx="142920" cy="142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68" name="Object 18"/>
                <p:cNvGraphicFramePr/>
                <p:nvPr/>
              </p:nvGraphicFramePr>
              <p:xfrm>
                <a:off x="5929560" y="500040"/>
                <a:ext cx="357120" cy="47628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69" name="Object 18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929560" y="500040"/>
                          <a:ext cx="357120" cy="476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0" name="TextBox 54"/>
                <p:cNvSpPr/>
                <p:nvPr/>
              </p:nvSpPr>
              <p:spPr>
                <a:xfrm>
                  <a:off x="4857840" y="571320"/>
                  <a:ext cx="928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пробел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Группа 26"/>
              <p:cNvGrpSpPr/>
              <p:nvPr/>
            </p:nvGrpSpPr>
            <p:grpSpPr>
              <a:xfrm>
                <a:off x="6572520" y="500040"/>
                <a:ext cx="857160" cy="476280"/>
                <a:chOff x="6572520" y="500040"/>
                <a:chExt cx="857160" cy="476280"/>
              </a:xfrm>
            </p:grpSpPr>
            <p:sp>
              <p:nvSpPr>
                <p:cNvPr id="272" name="Овал 49"/>
                <p:cNvSpPr/>
                <p:nvPr/>
              </p:nvSpPr>
              <p:spPr>
                <a:xfrm>
                  <a:off x="6929640" y="642960"/>
                  <a:ext cx="142920" cy="142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73" name="Object 19"/>
                <p:cNvGraphicFramePr/>
                <p:nvPr/>
              </p:nvGraphicFramePr>
              <p:xfrm>
                <a:off x="7072560" y="500040"/>
                <a:ext cx="357120" cy="47628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274" name="Object 19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7072560" y="500040"/>
                          <a:ext cx="357120" cy="476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5" name="TextBox 51"/>
                <p:cNvSpPr/>
                <p:nvPr/>
              </p:nvSpPr>
              <p:spPr>
                <a:xfrm>
                  <a:off x="6572520" y="500040"/>
                  <a:ext cx="31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Овал 44"/>
              <p:cNvSpPr/>
              <p:nvPr/>
            </p:nvSpPr>
            <p:spPr>
              <a:xfrm>
                <a:off x="6358320" y="1643040"/>
                <a:ext cx="142560" cy="142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77" name="Object 20"/>
              <p:cNvGraphicFramePr/>
              <p:nvPr/>
            </p:nvGraphicFramePr>
            <p:xfrm>
              <a:off x="6572520" y="1500120"/>
              <a:ext cx="358560" cy="4744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78" name="Object 2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572520" y="1500120"/>
                        <a:ext cx="358560" cy="47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9" name="Object 21"/>
              <p:cNvGraphicFramePr/>
              <p:nvPr/>
            </p:nvGraphicFramePr>
            <p:xfrm>
              <a:off x="6000840" y="1571400"/>
              <a:ext cx="320040" cy="3571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80" name="Object 21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000840" y="1571400"/>
                        <a:ext cx="32004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1" name="Прямая соединительная линия 47"/>
              <p:cNvSpPr/>
              <p:nvPr/>
            </p:nvSpPr>
            <p:spPr>
              <a:xfrm>
                <a:off x="5857200" y="785520"/>
                <a:ext cx="571320" cy="85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Прямая соединительная линия 48"/>
              <p:cNvSpPr/>
              <p:nvPr/>
            </p:nvSpPr>
            <p:spPr>
              <a:xfrm flipH="1">
                <a:off x="6429240" y="785520"/>
                <a:ext cx="571320" cy="85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Овал 64"/>
            <p:cNvSpPr/>
            <p:nvPr/>
          </p:nvSpPr>
          <p:spPr>
            <a:xfrm>
              <a:off x="5286600" y="2735280"/>
              <a:ext cx="142560" cy="142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4" name="Object 22"/>
            <p:cNvGraphicFramePr/>
            <p:nvPr/>
          </p:nvGraphicFramePr>
          <p:xfrm>
            <a:off x="5500800" y="2592720"/>
            <a:ext cx="358560" cy="474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5" name="Object 2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500800" y="2592720"/>
                      <a:ext cx="358560" cy="47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6" name="Object 23"/>
            <p:cNvGraphicFramePr/>
            <p:nvPr/>
          </p:nvGraphicFramePr>
          <p:xfrm>
            <a:off x="4786560" y="2571840"/>
            <a:ext cx="350640" cy="357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87" name="Object 2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86560" y="2571840"/>
                      <a:ext cx="35064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Прямая соединительная линия 67"/>
            <p:cNvSpPr/>
            <p:nvPr/>
          </p:nvSpPr>
          <p:spPr>
            <a:xfrm flipH="1">
              <a:off x="5357880" y="1785960"/>
              <a:ext cx="1077840" cy="9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69"/>
            <p:cNvSpPr/>
            <p:nvPr/>
          </p:nvSpPr>
          <p:spPr>
            <a:xfrm flipH="1" flipV="1">
              <a:off x="4214880" y="785520"/>
              <a:ext cx="1092240" cy="19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Прямая соединительная линия 75"/>
            <p:cNvSpPr/>
            <p:nvPr/>
          </p:nvSpPr>
          <p:spPr>
            <a:xfrm flipH="1">
              <a:off x="4572000" y="2786040"/>
              <a:ext cx="71424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Овал 76"/>
            <p:cNvSpPr/>
            <p:nvPr/>
          </p:nvSpPr>
          <p:spPr>
            <a:xfrm>
              <a:off x="4429080" y="3286080"/>
              <a:ext cx="142560" cy="142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2" name="Object 24"/>
            <p:cNvGraphicFramePr/>
            <p:nvPr/>
          </p:nvGraphicFramePr>
          <p:xfrm>
            <a:off x="4714920" y="3235320"/>
            <a:ext cx="358560" cy="474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93" name="Object 2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714920" y="3235320"/>
                      <a:ext cx="358560" cy="47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Object 25"/>
            <p:cNvGraphicFramePr/>
            <p:nvPr/>
          </p:nvGraphicFramePr>
          <p:xfrm>
            <a:off x="4000680" y="3071880"/>
            <a:ext cx="350640" cy="3571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5" name="Object 25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000680" y="3071880"/>
                      <a:ext cx="35064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6" name="Прямая соединительная линия 80"/>
            <p:cNvSpPr/>
            <p:nvPr/>
          </p:nvSpPr>
          <p:spPr>
            <a:xfrm flipH="1">
              <a:off x="3786120" y="3429000"/>
              <a:ext cx="64296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Овал 81"/>
            <p:cNvSpPr/>
            <p:nvPr/>
          </p:nvSpPr>
          <p:spPr>
            <a:xfrm>
              <a:off x="3643200" y="3908520"/>
              <a:ext cx="142560" cy="142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8" name="Object 26"/>
            <p:cNvGraphicFramePr/>
            <p:nvPr/>
          </p:nvGraphicFramePr>
          <p:xfrm>
            <a:off x="3857760" y="4000680"/>
            <a:ext cx="285480" cy="1998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99" name="Object 2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857760" y="4000680"/>
                      <a:ext cx="28548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0" name="Object 27"/>
            <p:cNvGraphicFramePr/>
            <p:nvPr/>
          </p:nvGraphicFramePr>
          <p:xfrm>
            <a:off x="3214800" y="3694320"/>
            <a:ext cx="350640" cy="3571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01" name="Object 2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214800" y="3694320"/>
                      <a:ext cx="35064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Прямая соединительная линия 85"/>
            <p:cNvSpPr/>
            <p:nvPr/>
          </p:nvSpPr>
          <p:spPr>
            <a:xfrm>
              <a:off x="2071440" y="785520"/>
              <a:ext cx="1643040" cy="31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Прямая соединительная линия 87"/>
            <p:cNvSpPr/>
            <p:nvPr/>
          </p:nvSpPr>
          <p:spPr>
            <a:xfrm>
              <a:off x="3142440" y="785520"/>
              <a:ext cx="130644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88"/>
            <p:cNvSpPr/>
            <p:nvPr/>
          </p:nvSpPr>
          <p:spPr>
            <a:xfrm>
              <a:off x="6075360" y="1000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89"/>
            <p:cNvSpPr/>
            <p:nvPr/>
          </p:nvSpPr>
          <p:spPr>
            <a:xfrm>
              <a:off x="4646520" y="2786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90"/>
            <p:cNvSpPr/>
            <p:nvPr/>
          </p:nvSpPr>
          <p:spPr>
            <a:xfrm>
              <a:off x="6504120" y="1000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91"/>
            <p:cNvSpPr/>
            <p:nvPr/>
          </p:nvSpPr>
          <p:spPr>
            <a:xfrm>
              <a:off x="3789000" y="3357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92"/>
            <p:cNvSpPr/>
            <p:nvPr/>
          </p:nvSpPr>
          <p:spPr>
            <a:xfrm>
              <a:off x="5575320" y="2000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93"/>
            <p:cNvSpPr/>
            <p:nvPr/>
          </p:nvSpPr>
          <p:spPr>
            <a:xfrm>
              <a:off x="2860200" y="2214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94"/>
            <p:cNvSpPr/>
            <p:nvPr/>
          </p:nvSpPr>
          <p:spPr>
            <a:xfrm>
              <a:off x="3717720" y="1785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95"/>
            <p:cNvSpPr/>
            <p:nvPr/>
          </p:nvSpPr>
          <p:spPr>
            <a:xfrm>
              <a:off x="4717800" y="1500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48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теперь, проходя путь из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ня дерева в вершину, имеющу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еткой символ алфавит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ыписывая все пометки дуг 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м пути, мы получим кодовое слово для этого симво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шем примере коды будут таки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           —     0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           —      10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            —      110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ел   —     1110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           —      11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д исходного сообщения е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0110111001001100111010010010011011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ина кодовой строк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д Хаффмана является префиксным: ни один путь от корня 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шине не  проходит через другую верши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ем бросать монету до тех пор, пока не выпадет герб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этого эксперимент закончи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Элементарный исход» этого эксперимента мо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ить в виде последова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, р, р, ..., р, г (где р — решка, г — герб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их последовательностей бесконечно мн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овательно, в данном случае множество Ω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сконеч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 Однократное бросание игральной кости. Будем считать, что возможен только один из 6 исходов, соответствующих падению кости гранями с 1, 2,...,6 очками вверх. Каждый возможный исход удобно обозначать числом выпавших оч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гда пространство элементарных событий Ω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{1,2,3,4,5,6}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разобранного примера можно построи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другое дерев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100101100001001000110010010000100101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3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Group 5"/>
          <p:cNvGrpSpPr/>
          <p:nvPr/>
        </p:nvGrpSpPr>
        <p:grpSpPr>
          <a:xfrm>
            <a:off x="1785960" y="1285920"/>
            <a:ext cx="5786280" cy="3643200"/>
            <a:chOff x="1785960" y="1285920"/>
            <a:chExt cx="5786280" cy="3643200"/>
          </a:xfrm>
        </p:grpSpPr>
        <p:sp>
          <p:nvSpPr>
            <p:cNvPr id="315" name="Овал 55"/>
            <p:cNvSpPr/>
            <p:nvPr/>
          </p:nvSpPr>
          <p:spPr>
            <a:xfrm>
              <a:off x="2500200" y="2786040"/>
              <a:ext cx="142920" cy="142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Овал 5"/>
            <p:cNvSpPr/>
            <p:nvPr/>
          </p:nvSpPr>
          <p:spPr>
            <a:xfrm>
              <a:off x="2143080" y="1428840"/>
              <a:ext cx="142920" cy="142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7" name="Object 4"/>
            <p:cNvGraphicFramePr/>
            <p:nvPr/>
          </p:nvGraphicFramePr>
          <p:xfrm>
            <a:off x="2286000" y="1285920"/>
            <a:ext cx="357120" cy="47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1285920"/>
                      <a:ext cx="35712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TextBox 52"/>
            <p:cNvSpPr/>
            <p:nvPr/>
          </p:nvSpPr>
          <p:spPr>
            <a:xfrm>
              <a:off x="1785960" y="1285920"/>
              <a:ext cx="31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Овал 47"/>
            <p:cNvSpPr/>
            <p:nvPr/>
          </p:nvSpPr>
          <p:spPr>
            <a:xfrm>
              <a:off x="3214800" y="1428840"/>
              <a:ext cx="142920" cy="142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1" name="Object 5"/>
            <p:cNvGraphicFramePr/>
            <p:nvPr/>
          </p:nvGraphicFramePr>
          <p:xfrm>
            <a:off x="3357720" y="1285920"/>
            <a:ext cx="35712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2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57720" y="1285920"/>
                      <a:ext cx="35712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3" name="TextBox 49"/>
            <p:cNvSpPr/>
            <p:nvPr/>
          </p:nvSpPr>
          <p:spPr>
            <a:xfrm>
              <a:off x="2857680" y="1285920"/>
              <a:ext cx="31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Овал 44"/>
            <p:cNvSpPr/>
            <p:nvPr/>
          </p:nvSpPr>
          <p:spPr>
            <a:xfrm>
              <a:off x="4286160" y="1428840"/>
              <a:ext cx="142920" cy="142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5" name="Object 6"/>
            <p:cNvGraphicFramePr/>
            <p:nvPr/>
          </p:nvGraphicFramePr>
          <p:xfrm>
            <a:off x="4429080" y="1285920"/>
            <a:ext cx="357120" cy="476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6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29080" y="1285920"/>
                      <a:ext cx="35712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7" name="TextBox 46"/>
            <p:cNvSpPr/>
            <p:nvPr/>
          </p:nvSpPr>
          <p:spPr>
            <a:xfrm>
              <a:off x="3929040" y="1285920"/>
              <a:ext cx="31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Овал 41"/>
            <p:cNvSpPr/>
            <p:nvPr/>
          </p:nvSpPr>
          <p:spPr>
            <a:xfrm>
              <a:off x="5929200" y="1428840"/>
              <a:ext cx="142920" cy="142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9" name="Object 7"/>
            <p:cNvGraphicFramePr/>
            <p:nvPr/>
          </p:nvGraphicFramePr>
          <p:xfrm>
            <a:off x="6072120" y="1285920"/>
            <a:ext cx="357120" cy="476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0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72120" y="1285920"/>
                      <a:ext cx="35712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1" name="TextBox 43"/>
            <p:cNvSpPr/>
            <p:nvPr/>
          </p:nvSpPr>
          <p:spPr>
            <a:xfrm>
              <a:off x="5000760" y="1357200"/>
              <a:ext cx="92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обе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Овал 38"/>
            <p:cNvSpPr/>
            <p:nvPr/>
          </p:nvSpPr>
          <p:spPr>
            <a:xfrm>
              <a:off x="7072200" y="1428840"/>
              <a:ext cx="142920" cy="142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3" name="Object 8"/>
            <p:cNvGraphicFramePr/>
            <p:nvPr/>
          </p:nvGraphicFramePr>
          <p:xfrm>
            <a:off x="7215120" y="1285920"/>
            <a:ext cx="357120" cy="476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34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15120" y="1285920"/>
                      <a:ext cx="35712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5" name="TextBox 40"/>
            <p:cNvSpPr/>
            <p:nvPr/>
          </p:nvSpPr>
          <p:spPr>
            <a:xfrm>
              <a:off x="6715080" y="1285920"/>
              <a:ext cx="31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Овал 33"/>
            <p:cNvSpPr/>
            <p:nvPr/>
          </p:nvSpPr>
          <p:spPr>
            <a:xfrm>
              <a:off x="6500880" y="2428920"/>
              <a:ext cx="142920" cy="142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7" name="Object 9"/>
            <p:cNvGraphicFramePr/>
            <p:nvPr/>
          </p:nvGraphicFramePr>
          <p:xfrm>
            <a:off x="6715080" y="2286000"/>
            <a:ext cx="358920" cy="474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8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15080" y="2286000"/>
                      <a:ext cx="358920" cy="47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9" name="Object 10"/>
            <p:cNvGraphicFramePr/>
            <p:nvPr/>
          </p:nvGraphicFramePr>
          <p:xfrm>
            <a:off x="6143760" y="2357280"/>
            <a:ext cx="320400" cy="357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40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43760" y="2357280"/>
                      <a:ext cx="3204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Прямая соединительная линия 36"/>
            <p:cNvSpPr/>
            <p:nvPr/>
          </p:nvSpPr>
          <p:spPr>
            <a:xfrm>
              <a:off x="6000120" y="1571760"/>
              <a:ext cx="571320" cy="85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37"/>
            <p:cNvSpPr/>
            <p:nvPr/>
          </p:nvSpPr>
          <p:spPr>
            <a:xfrm flipH="1">
              <a:off x="6572160" y="1571760"/>
              <a:ext cx="571680" cy="85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Овал 5"/>
            <p:cNvSpPr/>
            <p:nvPr/>
          </p:nvSpPr>
          <p:spPr>
            <a:xfrm>
              <a:off x="5429160" y="3521160"/>
              <a:ext cx="142920" cy="142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44" name="Object 11"/>
            <p:cNvGraphicFramePr/>
            <p:nvPr/>
          </p:nvGraphicFramePr>
          <p:xfrm>
            <a:off x="5643720" y="3378240"/>
            <a:ext cx="358560" cy="474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45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643720" y="3378240"/>
                      <a:ext cx="358560" cy="47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6" name="Object 12"/>
            <p:cNvGraphicFramePr/>
            <p:nvPr/>
          </p:nvGraphicFramePr>
          <p:xfrm>
            <a:off x="4929120" y="3357720"/>
            <a:ext cx="351000" cy="357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47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929120" y="3357720"/>
                      <a:ext cx="35100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Прямая соединительная линия 8"/>
            <p:cNvSpPr/>
            <p:nvPr/>
          </p:nvSpPr>
          <p:spPr>
            <a:xfrm flipH="1">
              <a:off x="5499000" y="2573280"/>
              <a:ext cx="1077840" cy="9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49" name="Object 13"/>
            <p:cNvGraphicFramePr/>
            <p:nvPr/>
          </p:nvGraphicFramePr>
          <p:xfrm>
            <a:off x="2643120" y="2643120"/>
            <a:ext cx="358920" cy="474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50" name="Object 1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643120" y="2643120"/>
                      <a:ext cx="358920" cy="47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Object 14"/>
            <p:cNvGraphicFramePr/>
            <p:nvPr/>
          </p:nvGraphicFramePr>
          <p:xfrm>
            <a:off x="2071800" y="2643120"/>
            <a:ext cx="350640" cy="3571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52" name="Object 1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071800" y="2643120"/>
                      <a:ext cx="35064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Овал 15"/>
            <p:cNvSpPr/>
            <p:nvPr/>
          </p:nvSpPr>
          <p:spPr>
            <a:xfrm>
              <a:off x="3786120" y="4694400"/>
              <a:ext cx="142920" cy="142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4" name="Object 16"/>
            <p:cNvGraphicFramePr/>
            <p:nvPr/>
          </p:nvGraphicFramePr>
          <p:xfrm>
            <a:off x="3357720" y="4572000"/>
            <a:ext cx="350640" cy="3571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55" name="Object 1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357720" y="4572000"/>
                      <a:ext cx="35064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6" name="TextBox 20"/>
            <p:cNvSpPr/>
            <p:nvPr/>
          </p:nvSpPr>
          <p:spPr>
            <a:xfrm>
              <a:off x="6217920" y="1785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22"/>
            <p:cNvSpPr/>
            <p:nvPr/>
          </p:nvSpPr>
          <p:spPr>
            <a:xfrm>
              <a:off x="6646320" y="1785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Box 23"/>
            <p:cNvSpPr/>
            <p:nvPr/>
          </p:nvSpPr>
          <p:spPr>
            <a:xfrm>
              <a:off x="4574880" y="3714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Box 24"/>
            <p:cNvSpPr/>
            <p:nvPr/>
          </p:nvSpPr>
          <p:spPr>
            <a:xfrm>
              <a:off x="5717880" y="2786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26"/>
            <p:cNvSpPr/>
            <p:nvPr/>
          </p:nvSpPr>
          <p:spPr>
            <a:xfrm>
              <a:off x="3288960" y="3714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27"/>
            <p:cNvSpPr/>
            <p:nvPr/>
          </p:nvSpPr>
          <p:spPr>
            <a:xfrm>
              <a:off x="4860360" y="22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60"/>
            <p:cNvSpPr/>
            <p:nvPr/>
          </p:nvSpPr>
          <p:spPr>
            <a:xfrm>
              <a:off x="2288880" y="1928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61"/>
            <p:cNvSpPr/>
            <p:nvPr/>
          </p:nvSpPr>
          <p:spPr>
            <a:xfrm>
              <a:off x="2646000" y="1928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ая соединительная линия 63"/>
            <p:cNvSpPr/>
            <p:nvPr/>
          </p:nvSpPr>
          <p:spPr>
            <a:xfrm>
              <a:off x="2214720" y="1571760"/>
              <a:ext cx="357120" cy="12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ая соединительная линия 64"/>
            <p:cNvSpPr/>
            <p:nvPr/>
          </p:nvSpPr>
          <p:spPr>
            <a:xfrm flipH="1">
              <a:off x="2571480" y="1550880"/>
              <a:ext cx="66348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67"/>
            <p:cNvSpPr/>
            <p:nvPr/>
          </p:nvSpPr>
          <p:spPr>
            <a:xfrm>
              <a:off x="4359240" y="1571760"/>
              <a:ext cx="1092240" cy="19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69"/>
            <p:cNvSpPr/>
            <p:nvPr/>
          </p:nvSpPr>
          <p:spPr>
            <a:xfrm flipV="1">
              <a:off x="3916440" y="3584520"/>
              <a:ext cx="1520640" cy="11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Прямая соединительная линия 71"/>
            <p:cNvSpPr/>
            <p:nvPr/>
          </p:nvSpPr>
          <p:spPr>
            <a:xfrm flipH="1" flipV="1">
              <a:off x="2571840" y="2928960"/>
              <a:ext cx="128592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3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3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читаем информационную емкость кода: длина исход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бщения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8, длина код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9 би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ельная информационная емкость алфавит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распределе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быточность к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0" name="Object 6"/>
          <p:cNvGraphicFramePr/>
          <p:nvPr/>
        </p:nvGraphicFramePr>
        <p:xfrm>
          <a:off x="468360" y="2421000"/>
          <a:ext cx="814392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21000"/>
                    <a:ext cx="81439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7"/>
          <p:cNvGraphicFramePr/>
          <p:nvPr/>
        </p:nvGraphicFramePr>
        <p:xfrm>
          <a:off x="1979640" y="4581360"/>
          <a:ext cx="448632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581360"/>
                    <a:ext cx="44863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9" dur="indefinite" restart="never" nodeType="tmRoot">
          <p:childTnLst>
            <p:seq>
              <p:cTn id="1920" dur="indefinite" nodeType="mainSeq">
                <p:childTnLst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орема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ина кодового слова в методе Хаффм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граничена порядковым номером минимального чис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боначчи, превосходящего длину входного тек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, для кодирования текста размером 1Мб кодовые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будут превышать 32 битов или 1 машинного сло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т результат напрямую следует из доказуемого факта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заданной длине текст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ибольшая высота дер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аффмана возникает тогда, когда числители частот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спериментальном распределении образуют нача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овательности Фибонач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9" dur="indefinite" restart="never" nodeType="tmRoot">
          <p:childTnLst>
            <p:seq>
              <p:cTn id="1960" dur="indefinite" nodeType="mainSeq">
                <p:childTnLst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569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Определить набор входных символов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 =&lt;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, ... 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&gt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их распределение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Р =&lt;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 ... 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&gt;.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Упорядочим входные символы по возрастанию частот 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каждого символа определим частичную сумму следующи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разо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∑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=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j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1..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Расположим входные символы по возрастанию в перв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олбце, а частичные суммы по возрастанию – во втор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олбц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Столбец символов рассечем на две части так, чтоб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астичная сумма, соответствующая точке сечения, была ка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ближе к 0.5. В третьем столбце в верхней части 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ждой строке поставим, например, 1, а в нижней части – 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7" dur="indefinite" restart="never" nodeType="tmRoot">
          <p:childTnLst>
            <p:seq>
              <p:cTn id="2008" dur="indefinite" nodeType="mainSeq">
                <p:childTnLst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Процесс рассечения полученных полученных столбц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олжим так, чтобы каждый раз частичная сумма в точ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чения оказывалась как можно ближе к средне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ифметическому частичных сумм на нижнем и верхнем кра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екаемого столб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раз в следующем  столбце в верхней части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ой строке поставим  1, а в нижней части – 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сть заданы пять  входных символов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, b, c, d, e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 вероятностям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= 0.11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= 0.15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= 0.20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= 0.24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= 0.3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положим их в первый столбец, частичные суммы – во второй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.46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лиже к 0.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0.26 ближе всех 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0.00+0.46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2=0.2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0.70 ближе всех 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0.46+1.00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=0.7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0.11 ближе всех 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0.00+0.26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2=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0.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780000" y="2276640"/>
          <a:ext cx="4608360" cy="3362040"/>
        </p:xfrm>
        <a:graphic>
          <a:graphicData uri="http://schemas.openxmlformats.org/drawingml/2006/table">
            <a:tbl>
              <a:tblPr/>
              <a:tblGrid>
                <a:gridCol w="768240"/>
                <a:gridCol w="766800"/>
                <a:gridCol w="769680"/>
                <a:gridCol w="768600"/>
                <a:gridCol w="766800"/>
                <a:gridCol w="7682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Line 62"/>
          <p:cNvSpPr/>
          <p:nvPr/>
        </p:nvSpPr>
        <p:spPr>
          <a:xfrm>
            <a:off x="6877080" y="4221000"/>
            <a:ext cx="7207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63"/>
          <p:cNvSpPr/>
          <p:nvPr/>
        </p:nvSpPr>
        <p:spPr>
          <a:xfrm>
            <a:off x="6877080" y="5157720"/>
            <a:ext cx="7207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4"/>
          <p:cNvSpPr/>
          <p:nvPr/>
        </p:nvSpPr>
        <p:spPr>
          <a:xfrm>
            <a:off x="7596360" y="3789360"/>
            <a:ext cx="792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5"/>
          <p:cNvSpPr/>
          <p:nvPr/>
        </p:nvSpPr>
        <p:spPr>
          <a:xfrm>
            <a:off x="6877080" y="4724280"/>
            <a:ext cx="72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67"/>
          <p:cNvSpPr/>
          <p:nvPr/>
        </p:nvSpPr>
        <p:spPr>
          <a:xfrm flipH="1">
            <a:off x="6084360" y="4724280"/>
            <a:ext cx="792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893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горитм кодирования Фано имеет простую графическу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люстрацию 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е дерева, которое строится следующ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корневой вершин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ходят два ребра, одно 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ых помечено символом 0, другое – символо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два ребра соответствуют разбиению множества сообщ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дв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ы, одной из которых сопоставляетс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мвол 0, 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о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символ 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ра, исходящие из вершин следующ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этажа», соответствую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биению получившихся групп снова 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руппы и т. 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ая концевая вершина соответствует некоторому кодово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в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азать это слово, надо пройти путь от корне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шины до соответствующе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цевой, выписывая в поряд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ования по этому пути символ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ходимых ребе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 Шенн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4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 Упорядочим входные символы по возрастанию частот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у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тичные сумм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 Для каждог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alibri"/>
              </a:rPr>
              <a:t>n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≤ 2*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alibri"/>
              </a:rPr>
              <a:t>n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агаем в двочную дробь 0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ервы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фр э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оби  задают код для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 симво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ожени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= 0.08,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0.08,   4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000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0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= 0.12,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0.20,   4,    0.001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= 0.15,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0.35,   3,     0.01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= 0.28,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0.63,  2,     0.1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= 0.37,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1.00,  2,     0.1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0.08 = 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   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≤ 1/12 ≤ 2*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3" dur="indefinite" restart="never" nodeType="tmRoot">
          <p:childTnLst>
            <p:seq>
              <p:cTn id="2134" dur="indefinite" nodeType="mainSeq">
                <p:childTnLst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ация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хиватор должен вызываться из командной строк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ат вызо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rc.exe –[axdlt] ar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.ext]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le_1 file_2 … file_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держиваемые операци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местить файл(ы) в архи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извлечь файл(ы) из архи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удалить файл(ы) из архи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ывести информацию о файлах, хранящихся в архив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проверить целостность архи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целостности арх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_stat,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stat, _stati64, _wstati6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(const char* path, struct _stat *buffer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sys/stat.h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C32 –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а контрольных сум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ула ω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начает, что элементарное событи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ω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вля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ментом пространства Ω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ие события естественно описыва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жествам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ленными из элементарны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ход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имер, событие, состоящее в появлении четн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а очков, описывается множеством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{2,4,6}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ул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Ω означает, что событи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вляе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множеством пространства Ω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лучайная величина     —&gt;     переме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Элементарный исход   —&gt;    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еремен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странство элементарных исходов —&gt;   област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    знач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обытие               —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подмножество области  знач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им формально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меру событ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тображение 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ранства Ω в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бладающее следующими свойств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6327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500040"/>
            <a:ext cx="87105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им формально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меру событ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тображение 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ранства Ω в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бладающее следующими свойств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    - пустое множество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множество, не содержащее ни одного элемен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539640" y="1844640"/>
          <a:ext cx="128592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12859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5"/>
          <p:cNvGraphicFramePr/>
          <p:nvPr/>
        </p:nvGraphicFramePr>
        <p:xfrm>
          <a:off x="2627280" y="1844640"/>
          <a:ext cx="285840" cy="3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1844640"/>
                    <a:ext cx="2858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6"/>
          <p:cNvGraphicFramePr/>
          <p:nvPr/>
        </p:nvGraphicFramePr>
        <p:xfrm>
          <a:off x="539640" y="2708280"/>
          <a:ext cx="260532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2708280"/>
                    <a:ext cx="26053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7"/>
          <p:cNvGraphicFramePr/>
          <p:nvPr/>
        </p:nvGraphicFramePr>
        <p:xfrm>
          <a:off x="3524400" y="2708280"/>
          <a:ext cx="206208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24400" y="2708280"/>
                    <a:ext cx="2062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9"/>
          <p:cNvGraphicFramePr/>
          <p:nvPr/>
        </p:nvGraphicFramePr>
        <p:xfrm>
          <a:off x="561960" y="3284640"/>
          <a:ext cx="402120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1960" y="3284640"/>
                    <a:ext cx="40212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86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едем функцию </a:t>
            </a:r>
            <a:r>
              <a:rPr b="0" i="1" lang="en-US" sz="2400" spc="-1" strike="noStrike">
                <a:solidFill>
                  <a:srgbClr val="0000ff"/>
                </a:solidFill>
                <a:latin typeface="Calibri"/>
              </a:rPr>
              <a:t>p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Calibri"/>
              </a:rPr>
              <a:t>S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) вероятности событ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числен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жения возможности события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данном пространст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ментарных исходов Ω следующим образ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-161280" y="3006720"/>
            <a:ext cx="9235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Желательные» исходы  - элементарные исходы, образующие событие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0 ≤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≤ 1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 р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0) = 0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, р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бытие с вероятностью 1 содержит все элементарные исходы 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едовательно, происходит наверня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бытие с вероятностью 0 не содержит ни одного исход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едовательно, не происходит никог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1619280" y="1844640"/>
          <a:ext cx="18097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44640"/>
                    <a:ext cx="18097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Box 9"/>
          <p:cNvSpPr/>
          <p:nvPr/>
        </p:nvSpPr>
        <p:spPr>
          <a:xfrm>
            <a:off x="3709800" y="1916280"/>
            <a:ext cx="35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желательных ис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всех возможных ис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ворят, что заданы вероятности элементарных событ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на Ω задана неотрицательная числовая функция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ака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Object 3"/>
          <p:cNvGraphicFramePr/>
          <p:nvPr/>
        </p:nvGraphicFramePr>
        <p:xfrm>
          <a:off x="2124000" y="2205000"/>
          <a:ext cx="306396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205000"/>
                    <a:ext cx="30639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6:01:18Z</dcterms:created>
  <dc:creator>Admin</dc:creator>
  <dc:description/>
  <dc:language>en-US</dc:language>
  <cp:lastModifiedBy>Tatyana Churina</cp:lastModifiedBy>
  <dcterms:modified xsi:type="dcterms:W3CDTF">2010-11-02T14:35:48Z</dcterms:modified>
  <cp:revision>236</cp:revision>
  <dc:subject/>
  <dc:title>Двусвязность</dc:title>
</cp:coreProperties>
</file>