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C07-D32E-4D8A-91D6-A64AE899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209-E1FD-4DC3-BE3A-50826DD5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170-8634-454A-89A2-F9E22A79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DAF-CCFD-4CF0-B38F-698161A2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F83-954C-49BB-AE65-1A1819B0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13D-3FAC-4B2E-8958-C0590FE0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2C7-7A29-42DD-9946-0B67BD9C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31B-70AC-4A38-BC45-EFA906D7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D86-4ED2-4D12-921E-2FA37DCA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F3D-3447-4E9A-A128-0DE70FAB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969-65ED-4500-BF8F-0AAE84EA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D3C-BF18-43D8-AE62-9536A52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14B9-D0BD-49D7-94BF-9F790CB4E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 с возвра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екция 1</a:t>
            </a: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Выбор представления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более детального описания алгоритма нужно выбр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торое представление для данн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ку мож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ть как матрицу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[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] = 0  – поле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еще не посещалос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[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] =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 поле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посещалось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м ход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Выбор парамет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аметры должны определять начальные условия следующего хода и результат (если ход сделан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рвом случае достаточно задавать координаты поля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откуда следует ход, и число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указывающее  номер х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чевидно, условие «ход не последний» можно переписать как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того, если ввести две локальные переменны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 позиции возможного хода, определяемого в соответствии с правилами хода коня, то условие «ход приемлем» можно представить как конъюнкцию условий, что новое поле находится в пределах до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0 ≤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0 ≤ 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еще не посещалось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[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0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 хо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[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дем локальную переменную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результа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0"/>
          <a:ext cx="20808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0" y="0"/>
          <a:ext cx="20808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0" y="0"/>
          <a:ext cx="20808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0" y="0"/>
          <a:ext cx="20808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Конкретизация сх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8920" y="500040"/>
            <a:ext cx="87138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 in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х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у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u,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ициация выбора хода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- координаты следующего хода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0&lt;=u)&amp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u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(0&lt;=v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(h[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]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]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*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(i+1,u,v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!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]=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q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!q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&amp;&amp; 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ть другие ходы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Выбор хо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981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ю с координатами 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присваивается значение 1, остальные поля помечаются как свобод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задана начальная пара координат х, у, то для следующего ход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уществует максимально восемь возможных вариан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ат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u, 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з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, 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ожно, если к последним добавлять разности между координатами, хранящиеся либо в массиве разностей, либо в двух массивах, хранящих отдельные раз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им вспомогательную матрицу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http://www.mgopu.ru/PVU/2.1/Recurs/BacketTm/CnReturn/Images/horse/Image966.gif"/>
          <p:cNvPicPr/>
          <p:nvPr/>
        </p:nvPicPr>
        <p:blipFill>
          <a:blip r:embed="rId1"/>
          <a:stretch/>
        </p:blipFill>
        <p:spPr>
          <a:xfrm>
            <a:off x="2268360" y="4221000"/>
            <a:ext cx="3888000" cy="831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9"/>
          <p:cNvSpPr/>
          <p:nvPr/>
        </p:nvSpPr>
        <p:spPr>
          <a:xfrm>
            <a:off x="611280" y="5140440"/>
            <a:ext cx="8136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оля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построим последовательность ход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0,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    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0, 1, ..., 7)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отберем из них те, которые не выводят за пределы по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www.mgopu.ru/PVU/2.1/Recurs/BacketTm/CnReturn/Images/horse/horse.gif"/>
          <p:cNvPicPr/>
          <p:nvPr/>
        </p:nvPicPr>
        <p:blipFill>
          <a:blip r:embed="rId1"/>
          <a:stretch/>
        </p:blipFill>
        <p:spPr>
          <a:xfrm>
            <a:off x="324000" y="1700280"/>
            <a:ext cx="8353440" cy="4321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50920" y="404640"/>
            <a:ext cx="820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иведен фрагмент доски. Кон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тоит в позиции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етки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ифрами вокруг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это поля, на которые конь мож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ться 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за один х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Правило Варнсдорфа, 18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каждом ходу ставь коня на такое поле, из которого можно совершить наименьшее число ходов на еще не пройденные поля. Если таких полей несколько, разрешается выбирать любое из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лгое время не было известно, справедливо ли о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но для доски от 5x5 до 76x7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овержение правила Варнсдорфа: для любого исходного поля доски указаны контрпримеры, построенные с помощью ЭВМ. Иными словами, с какого бы поля конь ни начал движение, следуя правилу Варнсдорфа, его можно завести в тупик до полного обхода дос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200" spc="-1" strike="noStrike">
                <a:solidFill>
                  <a:srgbClr val="666633"/>
                </a:solidFill>
                <a:latin typeface="Calibri"/>
              </a:rPr>
              <a:t>Задача о восьми ферзя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2952720" cy="2376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569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а о восьми ферзях — хорошо известный пример использования методов проб и ошибок и алгоритмов с возврат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50 г. эту задачу исследовал К. Ф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усс, однако полностью он ее так и не реши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емь ферзей нужно расставить на шахматной доске так, чтобы ни один ферзь не угрожал друго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143080" y="1643040"/>
          <a:ext cx="4214880" cy="3322800"/>
        </p:xfrm>
        <a:graphic>
          <a:graphicData uri="http://schemas.openxmlformats.org/drawingml/2006/table">
            <a:tbl>
              <a:tblPr/>
              <a:tblGrid>
                <a:gridCol w="1054080"/>
                <a:gridCol w="1052640"/>
                <a:gridCol w="1054080"/>
                <a:gridCol w="10540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Овал 4"/>
          <p:cNvSpPr/>
          <p:nvPr/>
        </p:nvSpPr>
        <p:spPr>
          <a:xfrm>
            <a:off x="1071720" y="1785960"/>
            <a:ext cx="642960" cy="642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5"/>
          <p:cNvSpPr/>
          <p:nvPr/>
        </p:nvSpPr>
        <p:spPr>
          <a:xfrm>
            <a:off x="1143000" y="2571840"/>
            <a:ext cx="642960" cy="642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6"/>
          <p:cNvSpPr/>
          <p:nvPr/>
        </p:nvSpPr>
        <p:spPr>
          <a:xfrm>
            <a:off x="1143000" y="3429000"/>
            <a:ext cx="642960" cy="642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7"/>
          <p:cNvSpPr/>
          <p:nvPr/>
        </p:nvSpPr>
        <p:spPr>
          <a:xfrm>
            <a:off x="1143000" y="4286160"/>
            <a:ext cx="642960" cy="642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8.09249E-007 L 0.13507 0.00393 E">
                                      <p:cBhvr>
                                        <p:cTn id="33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6763E-006 L 0.36354 0.00463 E">
                                      <p:cBhvr>
                                        <p:cTn id="33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354 0.00463 L 0.4875 0.00463 E">
                                      <p:cBhvr>
                                        <p:cTn id="34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6763E-006 L 2.77778E-007 -1.6763E-006 E">
                                      <p:cBhvr>
                                        <p:cTn id="348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75 0.00463 L 0.00139 0.00463 E">
                                      <p:cBhvr>
                                        <p:cTn id="35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5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4624E-006 L 0.47239 4.04624E-006 E">
                                      <p:cBhvr>
                                        <p:cTn id="36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83237E-006 L 0.13524 0.00578 E">
                                      <p:cBhvr>
                                        <p:cTn id="36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65896E-006 L 0.36354 -0.0037 E">
                                      <p:cBhvr>
                                        <p:cTn id="36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9298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Схема нахождения всех решений</a:t>
            </a:r>
            <a:r>
              <a:rPr b="0" lang="en-US" sz="2800" spc="-1" strike="noStrike">
                <a:solidFill>
                  <a:srgbClr val="666633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шагов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вариантов на каждом шаге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928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; 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 m; k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бор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-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го кандидат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подходит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го запись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&lt; 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i+1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чатать реш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тирание запис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Calibri"/>
              </a:rPr>
              <a:t>Задача о стабильных бра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ются два непересекающихся множеств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Нуж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множество  пар &lt;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gt;, таких, что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 они удовлетворяют некоторым услов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выбора таких пар существует много различных критериев; один из них называется «правилом стабильных браков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 А — множество мужчин, а В — женщин. У каждых мужчины и женщины есть различные предпочтения возможного партне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сред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бранных пар существуют мужчины и женщины, не состоящие между собой в браке, но предпочитающие друг друга, а не своих фактических супругов, то такое множество браков считается нестабиль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же таких пар нет, то множество считается стабиль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Calibri"/>
              </a:rPr>
              <a:t>NP-полная зад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6760" y="1071720"/>
            <a:ext cx="85726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NP-полная задача</a:t>
            </a:r>
            <a:r>
              <a:rPr b="0" lang="ru-RU" sz="20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такая задача из </a:t>
            </a:r>
            <a:r>
              <a:rPr b="0" i="1" lang="ru-RU" sz="20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класса N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 которой можно свести любую другую задачу из класса NP за полиномиальное время.  NP-полные задачи образуют в некотором смысле подмножество «самых сложных» задач в классе NP; и если для какой-то из них будет найден «быстрый» алгоритм решения, то и любая другая задача из класса NP может быть решена так же «быстр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N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on-deterministic polynomia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называют множество задач распознавания, решение которых при наличии некоторых дополнительных сведений можно «быстро» (за время, не превосходящее полинома от размера данных) проверить н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аши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ьюринг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вивалентно класс NP можно определить как содержащий задачи, которые можно «быстро» решить н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детерминирован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ашине Тьюрин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646de"/>
                </a:solidFill>
                <a:latin typeface="Calibri"/>
              </a:rPr>
              <a:t>Классом 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polynomia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называют множество задач, для которых существуют «быстрые» алгоритмы решения (время работы которых полиномиально зависит от размера входных данных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Алгоритм поиска супруги для мужчины </a:t>
            </a:r>
            <a:r>
              <a:rPr b="0" i="1" lang="ru-RU" sz="2800" spc="-1" strike="noStrike">
                <a:solidFill>
                  <a:srgbClr val="666633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 ведется в порядке списка предпочтений именно эт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жчин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(m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; r&lt;n; r++) {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бор</a:t>
            </a:r>
            <a:r>
              <a:rPr b="0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-ой</a:t>
            </a:r>
            <a:r>
              <a:rPr b="0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етендентки</a:t>
            </a:r>
            <a:r>
              <a:rPr b="0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я</a:t>
            </a:r>
            <a:r>
              <a:rPr b="0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дходит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пись</a:t>
            </a:r>
            <a:r>
              <a:rPr b="0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брака</a:t>
            </a:r>
            <a:r>
              <a:rPr b="0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0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- нe</a:t>
            </a:r>
            <a:r>
              <a:rPr b="0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следний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1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записать стабильное множество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i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менить брак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Выбор структур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981000"/>
            <a:ext cx="8642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ем использовать две матрицы, задающие предпочтительных партнеров для мужчин и женщи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d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rM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[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женщина, стоящая 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м месте в списке для  мужчин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rLad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[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мужчина, стоящий 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м месте в спис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нщин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 — массив женщин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ответствует партнерше для мужчин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оддержания симметрии между мужчинами и женщинам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ля эффективности алгоритма будем использовать дополнительный  масси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партнер для женщины 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Конкретизация сх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ика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ходи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ожно представить в виде конъюнкции single и stable, где stable — функция, которую нужно еще определи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,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; r&lt;n; r++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]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]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 st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m]= w; y[w]= m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ng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]=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 &lt;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+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cord se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ng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]=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Стабильность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ытаемся определить возможность бра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в спис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 мес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е источники неприятностей могут быть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ожет существовать женщи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д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почтительне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дл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жчина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чтительнее ее супру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ожет существовать мужчи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дл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чтительне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чем дл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нщи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чтительнее его супру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уя первый источник неприятностей, мы сравниваем ранг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нщин, котрых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очитает больш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Мы знаем, что все э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нщины уже были выданы замуж, иначе бы выбрали е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l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= 1; i = 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i&lt;r)&amp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le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a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 i+1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ingle[pw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l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orLady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p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] 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Lady[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y[pw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жно проверить всех кандидатов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торые дл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дпочтительн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уженому». Здесь не надо проводить сравнение с мужчинами,  котор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не женаты. Нужно использовать проверку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&lt;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се  мужчин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шествующи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уже жена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Напишите проверку 2) самостоятель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Calibri"/>
              </a:rPr>
              <a:t>Задача о куб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дано описание кубика и входная стро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ли получить входную строку, прокатив куби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нумеруем грани куби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 123456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124536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 – нижня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хня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1+6 = 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 – фронтальна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 – задня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3+4 = 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ковая лева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ковая правая (2+5 = 7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гда соседними для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й будут все, кром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й 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)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пробуем построить слово, начиная со всех шести гран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менной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1, если можно получить слово, записанное в глобальной строк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чиная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о символа, перекатывая кубик, лежащий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й гранью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hkword(g,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(n&gt;strlen(w)) || (w[n]== ‘ ‘)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CB[g] != w[n]) brea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i=1; i&lt;=6; i++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(i != g) &amp;&amp; (i+g != 7)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=chkwrd(i,n+1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q) return 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Calibri"/>
              </a:rPr>
              <a:t>Нахождение оптимальной выборки </a:t>
            </a:r>
            <a:br>
              <a:rPr sz="3200"/>
            </a:br>
            <a:r>
              <a:rPr b="0" lang="ru-RU" sz="3200" spc="-1" strike="noStrike">
                <a:solidFill>
                  <a:srgbClr val="666633"/>
                </a:solidFill>
                <a:latin typeface="Calibri"/>
              </a:rPr>
              <a:t>(задача о рюкзак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213920"/>
            <a:ext cx="8858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дано множество веще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вещь имеет свой вес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свою стоимо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жно из этого множества выбрать такой набор вещей, что их общий вес не превышал бы заданного числа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их общая стоимость была бы максималь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ещь не взята,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1, ина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1000080" y="5143680"/>
            <a:ext cx="2013120" cy="1285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4429080" y="5072040"/>
            <a:ext cx="2378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686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Схема перебора всех решений</a:t>
            </a:r>
            <a:r>
              <a:rPr b="0" lang="en-US" sz="2800" spc="-1" strike="noStrike">
                <a:solidFill>
                  <a:srgbClr val="666633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и выбора оптималь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включение приемлемо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ключени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-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го объекта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&lt; 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i+1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верка оптима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ключени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-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го объект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приемлемо невключение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&lt; 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i+1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верка оптима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Calibri"/>
              </a:rPr>
              <a:t>Метод ветвей и грани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 для нахождения оптимальных решений различных задач оптимизации.  Метод — есть вариация полного перебора с отсечением подмножеств допустимых решений, заведомо не содержащих оптимальных реш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ервые метод ветвей и границ был предложен Лендом и Дойгом  в 1960 для решения общей задачи целочисленного линейного программирования. Интерес к этому методу и фактически его “второе рождение” связано с работой Литтла, Мурти, Суини и Кэрела, посвященной задаче коммивояжера. Начиная с этого момента, появилось большое число работ, посвященных методу ветвей и границ и различным его модифика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Гипотеза </a:t>
            </a: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P ≠ N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120" y="9288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падают ли классы P и NP уже более 30 лет является открытым вопрос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ное сообщество склоняется к отрицательному ответу на этот вопрос — в этом случае за полиномиальное время решать NP-полные задачи не удас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Дерево по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480" y="857160"/>
            <a:ext cx="86439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основе метода ветвей и границ лежит идея последовательного разбиения множества допустимых решений на подмножества меньших размеров. Процедуру можно рекурсивно применять к полученным подмножествам. Эти подмножества образуют дерево, называемое </a:t>
            </a:r>
            <a:r>
              <a:rPr b="0" i="1" lang="ru-RU" sz="20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деревом поиска</a:t>
            </a:r>
            <a:r>
              <a:rPr b="0" lang="ru-RU" sz="20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ли </a:t>
            </a:r>
            <a:r>
              <a:rPr b="0" i="1" lang="ru-RU" sz="20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деревом ветвей и границ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Узлами этого дерева являются построенные подмнож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шаге разбиения осуществляется проверка того, содержит ли данное подмножество оптимальное решение или нет. Проверка осуществляется посредством вычисления оценок </a:t>
            </a:r>
            <a:r>
              <a:rPr b="0" i="1" lang="ru-RU" sz="20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сниз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сверх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целевой функции на данном подмножестве. Если для пары подмножеств получается такая ситуация,  что </a:t>
            </a:r>
            <a:r>
              <a:rPr b="0" i="1" lang="ru-RU" sz="20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нижня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ница для первого подмножества дерева поиска больше, чем </a:t>
            </a:r>
            <a:r>
              <a:rPr b="0" i="1" lang="ru-RU" sz="20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верхня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ница для второго подмножества, то  тогда первое подмножество можно исключить из дальнейшего рассмотр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ижняя граница для узла дерева совпадает с верхней границей, то это значение является минимумом функции и достигается на соответствующем подмножест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58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Использование метода ветвей и границ для решения задачи о рюкза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142640"/>
            <a:ext cx="8572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в переменной оптимум будет храниться лучшее из полученных к этому времени решений. Процедур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y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зывается рекурсивно для  исследования очередного объекта до тех пор, пока все объекты не будут рассмотрены.  При этом возможны два заключения: либо включать объект в текущую выборку, либо не включать. Оба варианта должны быть рассмотре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op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оптимальная выборка, полученная к данному момент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x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ее ценность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текущая выбор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ъект можно включать в выборку, если он подходит по весовым ограничения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итерием неприемлимости будет то, что после данного исключения общая ценность выборки будет не меньше полученного до этого момента оптимум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840" y="107172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дем рассматривать следующие оцен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общий вес выборки к данному момен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общая ценность текущей выборки, которую можно еще достич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ловие “включение приемлемо” можно сформулировать в вид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раж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ка оптимальности будет следующе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pts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v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ловие “приемлемо невключение” проверяется с помощью выраж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g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v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NP</a:t>
            </a:r>
            <a:r>
              <a:rPr b="0" lang="ru-RU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-трудная зад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120" y="11430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П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 </a:t>
            </a:r>
            <a:r>
              <a:rPr b="0" i="1" lang="ru-RU" sz="24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сводится по Тьюринг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задаче П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существует алгорит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 задачи П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ользующий алгорит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 задачи П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чем так, что 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омиальный алгоритм, то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полиномиальн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П называется </a:t>
            </a:r>
            <a:r>
              <a:rPr b="0" i="1" lang="en-US" sz="24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NP</a:t>
            </a:r>
            <a:r>
              <a:rPr b="0" i="1" lang="ru-RU" sz="2400" spc="-1" strike="noStrike">
                <a:solidFill>
                  <a:srgbClr val="3646de"/>
                </a:solidFill>
                <a:latin typeface="Times New Roman"/>
                <a:ea typeface="Times New Roman"/>
              </a:rPr>
              <a:t>-труд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существует NP-полная задача П’, которая сводится по Тьюрингу к задаче  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римеры </a:t>
            </a:r>
            <a:r>
              <a:rPr b="0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NP-</a:t>
            </a:r>
            <a:r>
              <a:rPr b="0" lang="ru-RU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олных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а коммивояжё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а о вершинном покрыт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а о покрытии множ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а о раскраске граф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33"/>
                </a:solidFill>
                <a:latin typeface="Calibri"/>
              </a:rPr>
              <a:t>Постановка задач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есная область программирования— задачи так называемого «искусственного интеллекта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ищем решение не по заданным правилам вычислений, а путем проб и ошиб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ычно процесс проб и ошибок разделяется на отдельные задачи, и они  наиболее естественно выражаются в терминах рекурсии и требуют исследования конечного числа подзада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щем виде весь процесс можно мыслить как процесс поиска, строящий (и обрезающий) дерево подзада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многих проблемах такое дерево поиска растет очень быстро, рост зависит от параметров задачи и часто бывает экспоненциаль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, используя некоторые эвристики, дерево поиска удается сократить и свести затраты на вычисления к разумным предел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нем с демонстрации основных методов на хорошо известном примере — задаче о ходе ко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666633"/>
                </a:solidFill>
                <a:latin typeface="Calibri"/>
              </a:rPr>
              <a:t>Задача о ходе коня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3529080" cy="2808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а доска размеро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начале на поле с координатами  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помещается конь — фигура, перемещающаяся по обычным шахматным правил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а заключается в поиске последовательности ходов, при которой конь точно один раз побывает на всех полях дос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ttp://upload.wikimedia.org/wikipedia/commons/c/ca/Knights-Tour-Animation.gif"/>
          <p:cNvPicPr/>
          <p:nvPr/>
        </p:nvPicPr>
        <p:blipFill>
          <a:blip r:embed="rId1"/>
          <a:stretch/>
        </p:blipFill>
        <p:spPr>
          <a:xfrm>
            <a:off x="1835280" y="1484280"/>
            <a:ext cx="4392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748720" cy="559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6633"/>
                </a:solidFill>
                <a:latin typeface="Calibri"/>
              </a:rPr>
              <a:t>Алгоритм выполнения очередного х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39840" y="1072440"/>
            <a:ext cx="8791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y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ициализация выбора хода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бор очередного хода из списка возможных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f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выбранный ход приемлем)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пись хода;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(доска нe заполнена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i+1)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неудача)отменить предыдущий ход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неудача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есть другие ходы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6:01:18Z</dcterms:created>
  <dc:creator>Admin</dc:creator>
  <dc:description/>
  <dc:language>en-US</dc:language>
  <cp:lastModifiedBy>Tatyana Churina</cp:lastModifiedBy>
  <dcterms:modified xsi:type="dcterms:W3CDTF">2011-04-05T14:20:33Z</dcterms:modified>
  <cp:revision>157</cp:revision>
  <dc:subject/>
  <dc:title>Двусвязность</dc:title>
</cp:coreProperties>
</file>