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37E-7790-4EFA-B08B-3ACC4FA5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434-3F0A-4D69-87FA-F0CE6C77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EFE-FDC9-4119-8C70-75D7280E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9A3-2380-4507-A9E3-3ABF4EFE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EEB-3C40-4B83-B2DC-B52B0074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361-0BBF-4D30-ACDD-9D1BE57E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383-75DC-44E6-BB32-C77D6D8E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BBD-A7DF-4D51-BEC6-F7C74D7B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EC1-EA6F-48AE-B3A7-F8D4C01C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16A-481E-4FF5-A223-68305742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094-BC00-4661-95C5-F96806AF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BC7-E00E-447C-8B1E-033F5BA0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8243-0671-46C5-9FBB-67B6A95DD8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0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тировка файлов</a:t>
            </a:r>
            <a:br>
              <a:rPr sz="4400"/>
            </a:b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и 8-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433"/>
                </a:solidFill>
                <a:latin typeface="Calibri"/>
              </a:rPr>
              <a:t>Реализация сортировки слиянием для массив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erge (key al[], int lenl, key a2[], int Ien2, key ar[]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 Слияние отсортированных массивов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l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длины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nl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а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длины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n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в массив а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*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int i=0, j=0, k=0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ey x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i&lt;lenl)||(j&lt;len2)){  /*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ка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ть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элементы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*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nl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         /* 1-я кончилась: берем из 2-й *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х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+]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n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)  /* 2-я кончилась: берем из 1-й *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l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+]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l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]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]) /* выбираем наименьший *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al[i++]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a2[j++]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[k++] = x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13840" y="1000080"/>
            <a:ext cx="8929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key a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;  /* вспомогательный глобальный массив для слияния *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ort_merging (key a[], int L, int 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- границы сортируемой части массива а *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int i,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(L+R)/2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L &lt; 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rt_merging(a, L, M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(M+l &lt; 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rt_merging(a, M+l,R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*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лияние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частей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w  *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rge(&amp;a[L],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-L+l,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a[M+l], R-M, &amp;aw[L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* копирование в исход.фрагмент *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L; i&lt;=R; i++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aw[i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433"/>
                </a:solidFill>
                <a:latin typeface="Calibri"/>
              </a:rPr>
              <a:t>Рекурсивная реализ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433"/>
                </a:solidFill>
                <a:latin typeface="Calibri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слияния двух отсортированых частей необходим третий массив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зультат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ко, поскольку упорядоченные данные должны накапливаться д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ующего слияния в исходном массиве, приходится дополнитель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писывать результат на место исходной подпоследова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м было бы достаточно иметь в качестве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w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окальный рабочий масси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ины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 1, но в Си невозможно описать массив переменной дли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без обращения к более медленным средствам динамической памяти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ведение же локального массива максимальной длины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N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уем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шь частично привело бы к затратам памяти до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 log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исей, так к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каждом из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вней рекурсии в памяти хранился бы отдель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чий массив длины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ие глобального массива приводит к оценке затр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мяти в данном методе ~ 2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записей и в данном случа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овано корректно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 один элемент массив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w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исанный в функции слиян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может быть изменен до переписи его в массив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фун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ртировки, а после переписи он становится не нуж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b5433"/>
                </a:solidFill>
                <a:latin typeface="Calibri"/>
              </a:rPr>
              <a:t>Сортировка файла простым двухпутевым слияние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7120" y="128592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теперь вместо массива </a:t>
            </a:r>
            <a:r>
              <a:rPr b="0" i="1" lang="ru-RU" sz="2400" spc="-1" strike="noStrike">
                <a:solidFill>
                  <a:srgbClr val="5e31dd"/>
                </a:solidFill>
                <a:latin typeface="Calibri"/>
              </a:rPr>
              <a:t>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 файл </a:t>
            </a:r>
            <a:r>
              <a:rPr b="0" i="1" lang="en-US" sz="2400" spc="-1" strike="noStrike">
                <a:solidFill>
                  <a:srgbClr val="5e31dd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который нуж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сортирова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метим, что в функции слияния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erg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уп к элемента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тей массива и к массиву-результату исключитель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довательны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ексы-указатели текущего доступа сдвигаются только 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иницу вперед, без возвратов и скач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операции вид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 +] для массива можно замен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типовые операции чтения и записи элемента файла 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вижением к позиции следующего элем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4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разделении массива нам не приходилось явно отвод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мять под образуемые части и переписывать в них элемен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место этого мы устанавливали и перемещали два указател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ко файл читать можно только по одному указателю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разделяемые части придется явно переписывать 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дельные файл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им образом, нужна процедура </a:t>
            </a:r>
            <a:r>
              <a:rPr b="0" i="1" lang="en-US" sz="2400" spc="-1" strike="noStrike">
                <a:solidFill>
                  <a:srgbClr val="5e31dd"/>
                </a:solidFill>
                <a:latin typeface="Calibri"/>
              </a:rPr>
              <a:t>split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яющ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ическое разде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42560" y="785520"/>
            <a:ext cx="9001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разделения массива пополам мы пользовались знанием его длин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файла число его записей не всегда известно и определе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ины требует дополнительного холостого считыв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препятствие мы устраним так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кольку разделяются еще неотсортированные файлы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деление можно организовать подобно тому, как сдается колода кар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двух игроков: элементы разделяемого файла по мере считывани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писываются в два новых файла поочередн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цом «раздачи» является достижение конца входного файл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этом количество элементов в новых файлах отличает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симум  на единицу, что и требует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4292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433"/>
                </a:solidFill>
                <a:latin typeface="Calibri"/>
              </a:rPr>
              <a:t>Разделение фай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86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1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2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99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21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7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45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6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5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80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 разделение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13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71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 99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37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66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75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 3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86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52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21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45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 4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 8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 разделение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13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99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66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31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 71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 37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 75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86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21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 4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 52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45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 8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 разделение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13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66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99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31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71 75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37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86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 4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2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 80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 разделени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1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66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99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3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7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75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37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86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2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5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8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ующие процедуры реализуют все описанны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дификации. Мы пользуемся стандартными файлов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ями библиотеки Си, в том числе средствами созд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ежуточных рабочих файлов, для которых не нуж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спокоиться о выборе уникальных им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/* упрощенные вызовы файловых функций С *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#define fget(f,x) fread(&amp;x, sizeof(x), 1, f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#define fput(f,x) fwrite(&amp;x, sizeof(x), 1, 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57120" y="6429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 split (FILE *f, FILE *fl, FILE * f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* Перепись элементов нечетных позиций в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 четных - в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1" i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ey 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0;      /*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счетчик длины файла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win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/*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врат к началу разделяемого файла *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get (f, x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eof(f)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*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eof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абатывает ПОСЛЕ попытки чтения!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*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put (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get (f, x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!feof(f)) {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put (f2, x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get (f, x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++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/*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(длина 0 или 1) сигнализирует о  прекращении разделения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370800" y="14292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433"/>
                </a:solidFill>
                <a:latin typeface="Times New Roman"/>
                <a:ea typeface="Times New Roman"/>
              </a:rPr>
              <a:t>Разделение фай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, затрачиваемое алгоритмом, как функция от разм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и, называется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временн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сложность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дение этой сложности в пределе при увелич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мера задачи называется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асимптотическ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ремен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жнос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Линей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≈ n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иск элемента в неотсортированном массив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Логарифмическ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≈ log n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инарный поис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≈ n* log n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лучшенные сортировк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П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оли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но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миальные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≈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ртировки, транзит. замыкани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Э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кспоненциальная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≈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а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ахматные расстановк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Факториальна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≈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!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иск перестаново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85840" y="665280"/>
            <a:ext cx="85010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erge (FILE *fl, FILE *f2, FILE *fr)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в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ey xl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wind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);  /* перемотка к началу всех файлов *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wind(f2); rewind(fr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get(fl, xl); fget(f2, x2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eof(fl) || !feof(f2)) {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eof(fl)) {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put(fr, x2); fget(f2, x2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if (feof(f2)) {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put(fr, xl); fget(fl, xl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if (xl&lt;x2) {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put(fr, xl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get(fl, xl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put(fr, x2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get(f2, x2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285840" y="21420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433"/>
                </a:solidFill>
                <a:latin typeface="Times New Roman"/>
                <a:ea typeface="Times New Roman"/>
              </a:rPr>
              <a:t>Слияние двух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433"/>
                </a:solidFill>
                <a:latin typeface="Calibri"/>
              </a:rPr>
              <a:t>Функция </a:t>
            </a:r>
            <a:r>
              <a:rPr b="0" i="1" lang="ru-RU" sz="3200" spc="-1" strike="noStrike">
                <a:solidFill>
                  <a:srgbClr val="5b5433"/>
                </a:solidFill>
                <a:latin typeface="Calibri"/>
              </a:rPr>
              <a:t>tmpfile</a:t>
            </a:r>
            <a:r>
              <a:rPr b="0" lang="ru-RU" sz="3200" spc="-1" strike="noStrike">
                <a:solidFill>
                  <a:srgbClr val="5b5433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3840" y="142884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ет временный файл и возвращает указа-тель на этот фай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файл не может быть открыт, функция tmpfile возвраща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азатель NUL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т временный файл автомати чески удаляется, ког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а заканчивается нормально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енный файл открывается в режиме "w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13840" y="1143000"/>
            <a:ext cx="85726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or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rg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/*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ходной файл должен быть открыт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*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/*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создание временных файлов для частей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*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*fl = tmpfile(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*f2 = tmpfil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/*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разделение на фазе спуска в рекурсию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plit(f, fl, f2)) {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rt_merge(f1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rt_merge(f2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/*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слияние на фазе возврата из рекурсии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*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rg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/*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акрытие и удаление рабочих файлов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*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close(f1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close(f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356760" y="214200"/>
            <a:ext cx="560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433"/>
                </a:solidFill>
                <a:latin typeface="Times New Roman"/>
                <a:ea typeface="Times New Roman"/>
              </a:rPr>
              <a:t>Главная процедура сортир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57120" y="1143000"/>
            <a:ext cx="85010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 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int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ey 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* f = fopen("inputfile","r+b"); /*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крытие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файла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*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r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rg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/*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сортировка открытого файл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*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clos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   /*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закрытие выходного файл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428760" y="285840"/>
            <a:ext cx="48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433"/>
                </a:solidFill>
                <a:latin typeface="Times New Roman"/>
                <a:ea typeface="Times New Roman"/>
              </a:rPr>
              <a:t>Сортировка фай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28400" y="880560"/>
            <a:ext cx="84452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оценки числа сравнений и перемещений элементов для сортиров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йлов остаются теми же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и для массив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считаем количество используемой внешней памяти, равн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ммарной длине всех одновременно существующих файл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ходный файл существует всегда, в нем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мен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а файла 1-го уровня после разделения тоже существуют всегда, впло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слияния – в них тоже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мен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йлы 2-го уровня существуют не одновременно: те, которые получаю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делением 1-го файла 1-го уровня, уничтожаются после слияния, и п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ходе ко 2-му фай­лу 1-го уровня занимаемая ими память может бы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использована. Таким образом, на 2-м уровне всегда хранится око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/2 элемен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огично, на 3-м уровне хранится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/4 элемента, н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м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/2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1 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оследнем [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вне— 1 элемен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ончательно на самом глубоком уровне рекурсии в памяти мож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ходиться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+ 2 + 4 + .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+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/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~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5e31dd"/>
                </a:solidFill>
                <a:latin typeface="Calibri"/>
              </a:rPr>
              <a:t>3</a:t>
            </a:r>
            <a:r>
              <a:rPr b="1" i="1" lang="en-US" sz="2000" spc="-1" strike="noStrike">
                <a:solidFill>
                  <a:srgbClr val="5e31dd"/>
                </a:solidFill>
                <a:latin typeface="Calibri"/>
              </a:rPr>
              <a:t>N</a:t>
            </a:r>
            <a:r>
              <a:rPr b="0" i="1" lang="en-US" sz="2000" spc="-1" strike="noStrike">
                <a:solidFill>
                  <a:srgbClr val="5e31dd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5e31dd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462600" y="2142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433"/>
                </a:solidFill>
                <a:latin typeface="Courier New"/>
              </a:rPr>
              <a:t>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щение записей во внешней памяти может занять значительное врем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этому для внешней сортировки оптимизация именно этого важ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ще во времена, когда файлы располагались на магнитофонных лентах, 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еремотка» означала действительную перемотку катушки, был придум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ухуровневый способ организации файлов: в виде файла записей, содержаще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бственно данные, и </a:t>
            </a:r>
            <a:r>
              <a:rPr b="0" i="1" lang="ru-RU" sz="1800" spc="-1" strike="noStrike">
                <a:solidFill>
                  <a:srgbClr val="5e31dd"/>
                </a:solidFill>
                <a:latin typeface="Calibri"/>
              </a:rPr>
              <a:t>индекс-файла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щего короткие записи-па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ключ + ссылка». Ключи,  это только та информация, сравнением котор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тся относительный порядок записей, а ссылки — это пози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сновном файле записей, соответствующих ключа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всех операциях поиска и сортировки обрабатываются более коротк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декс-файлы, а доступ к основному файлу выполняется один раз, когда пози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уемой записи становится определе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удалении записи обычно удалялся только индекс из индекс-файла, а запи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файле только помечалась как удаленная. Специально проводимая опера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лотнения файла выполнялась во время техобслуживания устройств, ког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ы на машине не производилис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ременные машины, конечно, намного производительнее, но возросли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мы обрабатываемых данных. Поэтому технологии индексированных фай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няются в  системах обработки данных до сих по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e663e"/>
                </a:solidFill>
                <a:latin typeface="Times New Roman"/>
                <a:ea typeface="Times New Roman"/>
              </a:rPr>
              <a:t>Слияние последовательностей</a:t>
            </a:r>
            <a:r>
              <a:rPr b="0" lang="ru-RU" sz="3200" spc="-1" strike="noStrike">
                <a:solidFill>
                  <a:srgbClr val="6e663e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 </a:t>
            </a:r>
            <a:r>
              <a:rPr b="0" i="1" lang="ru-RU" sz="2000" spc="-1" strike="noStrike">
                <a:solidFill>
                  <a:srgbClr val="5e31dd"/>
                </a:solidFill>
                <a:latin typeface="Calibri"/>
              </a:rPr>
              <a:t>слиянием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удем понимать объединение двух или боле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орядоченных последовательностей в одну </a:t>
            </a: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упорядоченну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можно сделать следующим образом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авнить наименьшие элементы из упорядоченных последовательност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аименьший из 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нести в готовую последователь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лее снова сравнить начала последовательностей и наименьший 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их элементов добавить в готовую последовательность и т. 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только одна из последовательностей закончится, она исключа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рассмотрен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гда остается только одна последовательность,  ее «хвост» мож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то переместить в готову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Слияние двух файлов в третий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позиция считывания отмечена черт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8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40  5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7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Font typeface="Symbol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9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1  1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авним первые элементы отсортированных файло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именьший из них запишем в выходной фай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38    40    5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7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1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9  101  1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ующий ша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40    51  7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1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63  89  101  1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1  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35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Слияние двух файлов в третий - продол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т процесс продолжится до тех пор, п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элементы первого и второго файлов 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ут переписаны в третий в задан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яд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получим отсортированный по возрастанию фай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1   8   15  38  40  51   63  75  89   101   10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слияния — один из самых первых методов, котор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тественным образом можно применить к сортиров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йлов, а именно два отсортированных файла слить 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отсортированны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ный метод слияния был предложен фон Нейма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45 г. и предназначался именно для сортировки фай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5010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433"/>
                </a:solidFill>
                <a:latin typeface="Calibri"/>
              </a:rPr>
              <a:t>Сортировка массива простым двухпутевым слияни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ея метода сортировки слиянием таков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делим входную последовательность на две ча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сортируем каждую из них по отдельно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ы сольем, как описано выш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ходная задача сводится к двум аналогичным задачам 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ньшим объемом данных, применим рекурси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фазе рекурсивного спуска каждая из образующихся последовательностей делится на две части до тех пор, пока не образуются последовательности длины 0 или 1, которые сортировать не над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фазе возврата из рекурсии пары уже отсортированных подпоследовательностей слива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ияние элементарных последовательностей начинается из глубины рекурсии и дает следующие подпоследовательн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8964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3:10:58Z</dcterms:created>
  <dc:creator>Нестеренко</dc:creator>
  <dc:description/>
  <dc:language>en-US</dc:language>
  <cp:lastModifiedBy>Tatyana Churina</cp:lastModifiedBy>
  <dcterms:modified xsi:type="dcterms:W3CDTF">2010-12-10T13:55:26Z</dcterms:modified>
  <cp:revision>140</cp:revision>
  <dc:subject/>
  <dc:title>Отношения, графы, деревья</dc:title>
</cp:coreProperties>
</file>