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3780-EDD6-4031-8B9D-42E8548CF9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иклическом списке можно получить доступ к любому элементу списка, находясь в любом месте его, в отличие от односвязного нецикличес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460D-FC3D-4E76-AF9F-0C033CD49F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9CF0-A297-492D-98C8-DAFDD14EF1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3BB-E304-480B-B69B-A28E9C75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944-E89E-40A3-8287-02FC7F26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A9C-CA7E-4C03-AF33-1AAF33F4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9F5-4B4E-4DDC-A867-FDC6E15B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A4DC-9B0E-486E-8083-5D3C5557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051F-3CF6-41D0-B612-6E2A4DBB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7E34-48EC-4142-9A8B-E1D17882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C8B8-225F-4E4A-9139-A8E46418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E1DE-2231-4F18-B35F-F214BFA4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4985-9313-4524-98BC-ED77CC3A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D140-E421-4279-B642-C143FEC7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A45-0BA4-40E5-BDEF-1EA54AE5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DA05-B845-4113-A4FB-BB1CB897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585B-C0B7-4E45-81FD-22904BE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889E-2A43-4159-95F2-740144B9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4C3A-BA8D-4FE6-BD1D-F1BF045A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EF3F-2615-477E-867E-B8F38BE6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E60B-0BC8-4390-A184-2525D5BF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7D59-3A76-40E9-B666-B86E9E5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9B74-2430-4FA8-B03E-8D521DDC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CA0F-4BBE-4538-8295-CB2A0F66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7FFE7-FE0C-437D-9D6C-F5A55B71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60A-6A24-4BE4-A6AA-AB510055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AB1A-23F4-434B-8512-5CA46123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AA136-E49A-4C66-9225-8A72853D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ED68-CFB0-42FE-A689-8BC3A14B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DB9B-BE4B-4E96-9DB8-8FA94AE6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73B1-3D6E-470C-B5A8-036E9D95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03DB0-6EE6-49FA-9110-FA048731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25B8-6A1B-41F6-A620-AB87D1E6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5F364-7B8C-42CD-A055-D2181766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E7C08-801A-4A31-B8F7-31D449C5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89283-0A09-4524-B973-F1DA480C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839-4C83-4706-85E1-A0CEB5CE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1F1C-4A56-460B-9594-53A95CD9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75133-C53C-4819-BFBF-B83E9EA7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A6167-1EED-4CB2-A618-2F47F992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B6684-A0AA-4C3C-BF49-60AEB330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3A95-C26C-4A68-85E2-6B48E322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D6457-3010-4E21-9038-56C51D35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620D-89A8-42FC-ACEF-0420A05A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722B-6254-45C8-AD65-C45418A3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E52DE-4CAE-48B0-9DD2-BE469DC9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5BB3-9B3C-4DB8-9AC6-F5E72A91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26A-59F7-43B3-919F-8F267AF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C74D3-EF4E-47EA-85B6-520642AB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40E2A-EDF7-4A38-B6CB-4E8C90A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704C6-BF29-479F-B988-69623956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AEE15-B92A-4269-9AF9-0DAFDC10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DD236-7176-4ECF-91B3-432C287C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80208-A163-4F8D-80FD-5331CD20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8D8BC-E684-4B44-AC3D-864891DD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4DA9E-D317-4D26-A480-CA9DD564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CB05F-1594-475C-87A0-1D51EE9E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1C5A-BC78-4993-8FD8-9F25F5E6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B4F-F1D7-4A9D-9D68-73D2B86F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16241-0C8B-4742-9AD8-5CB9B1A7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49AF2-5916-405E-866D-4C402789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EB4CF-C36E-4BF0-B8DB-A3DBB63B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76359-C0E1-48F1-9DB0-E483D5A0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4972A-9765-4A0A-A25F-B916B8FD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3B746-60A1-4302-854A-2AD7CEB0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4E252-37EB-4E50-9399-ABDF9D22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AB15C-731C-489E-BD71-985A26AB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21CE4-412B-4C48-97A4-F49ECCCE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963CC-526A-4795-A961-B7B8149C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295-87C0-4065-9F52-17CC70B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04854-1B29-44D7-B24B-29E9ED6A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C80D-12A3-4D80-A18D-7C8AC245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538CF-D494-47B9-AAC9-1C98535C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4BD7B-6B2D-4CB7-977A-B905752F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23305-2F0A-45B3-BEE6-79451AFF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3049C-E3A6-44B0-84E2-F5ADAB68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4E64A-3974-4ED9-85CC-794B07B7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707BE-B5A8-47EE-BA59-44034949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127C-8952-4CB1-9921-5CE5542D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E6400-3354-49B4-9C79-B081A09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451-B197-460A-8FAC-EE06B6DA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A9206-879A-45F4-B624-349D750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056E4-B9D0-4189-91C2-5E98DCD8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FA97E-BE7D-4719-886D-C20A0199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9D1AB-B506-446B-9E60-31F78525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FF470-CA84-4FF7-9DAB-F0530D00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499-3CBE-4213-BC4F-031677C0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98D1-7130-4EC7-99F9-8F41EA8B85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C1B5-C69B-4BC1-8C8D-93D48A98B5B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BC54-5550-48D9-8EF8-B7BD493A9E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3F0E-B916-48C6-8C38-227AF83B692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C1E8-4E77-4ECE-817D-A4D9D7C5C0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81C0-C4B3-43F6-8ADD-F254D5847A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75C3-EC1C-464A-85C0-AF462F94D6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740736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Списки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898989"/>
                </a:solidFill>
                <a:latin typeface="Corbel"/>
              </a:rPr>
              <a:t>Лекция 10</a:t>
            </a: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28440" y="185688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Corbe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 add_first (TList * head, const char * data) {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b8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</a:t>
            </a:r>
            <a:r>
              <a:rPr b="1" lang="ru-RU" sz="2400" spc="-1" strike="noStrike">
                <a:solidFill>
                  <a:srgbClr val="feb80a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 = new_el(data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cur) cu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-&gt;nex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ad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ur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 = add_first (head, ″first″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000080" y="142920"/>
            <a:ext cx="8858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03b"/>
                </a:solidFill>
                <a:latin typeface="Corbel"/>
              </a:rPr>
              <a:t>Вставка элемента в голову односвязного списка</a:t>
            </a:r>
            <a:r>
              <a:rPr b="0" lang="en-US" sz="2800" spc="-1" strike="noStrike">
                <a:solidFill>
                  <a:srgbClr val="67603b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4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590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Удаление элемента из односвязного спис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8" name="Рисунок 5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158436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6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6624720" cy="187164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7"/>
          <p:cNvSpPr/>
          <p:nvPr/>
        </p:nvSpPr>
        <p:spPr>
          <a:xfrm>
            <a:off x="1258920" y="1052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ление элемента из середины односвязного сп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8"/>
          <p:cNvSpPr/>
          <p:nvPr/>
        </p:nvSpPr>
        <p:spPr>
          <a:xfrm>
            <a:off x="1258920" y="33577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ление элемента из начала односвязного сп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67603b"/>
                </a:solidFill>
                <a:latin typeface="Corbel"/>
              </a:rPr>
              <a:t>Проход по списку, поиск элемента в списке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p) {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не дошли до конц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!=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-&gt;next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переходим к следующем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 find (TList * head, const char * s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няя переменная, достаточн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q &amp;&amp; strcmp(q-&gt;wor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 = q-&gt;next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q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603b"/>
                </a:solidFill>
                <a:latin typeface="Corbel"/>
              </a:rPr>
              <a:t>Циклические спис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107172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Corbel"/>
              </a:rPr>
              <a:t>Циклический список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– это список, в котором связь последнего элемента указывает на первый или один из других элементов этого списк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1285920" y="3929040"/>
            <a:ext cx="714240" cy="28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5"/>
          <p:cNvSpPr/>
          <p:nvPr/>
        </p:nvSpPr>
        <p:spPr>
          <a:xfrm>
            <a:off x="1143000" y="42861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7"/>
          <p:cNvSpPr/>
          <p:nvPr/>
        </p:nvSpPr>
        <p:spPr>
          <a:xfrm>
            <a:off x="6000840" y="3214800"/>
            <a:ext cx="1214280" cy="57132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8"/>
          <p:cNvSpPr/>
          <p:nvPr/>
        </p:nvSpPr>
        <p:spPr>
          <a:xfrm>
            <a:off x="6786720" y="321480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Скругленная соединительная линия 10"/>
          <p:cNvCxnSpPr>
            <a:endCxn id="471" idx="1"/>
          </p:cNvCxnSpPr>
          <p:nvPr/>
        </p:nvCxnSpPr>
        <p:spPr>
          <a:xfrm flipV="1">
            <a:off x="1714320" y="3499920"/>
            <a:ext cx="929160" cy="57240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471" name="Прямоугольник 12"/>
          <p:cNvSpPr/>
          <p:nvPr/>
        </p:nvSpPr>
        <p:spPr>
          <a:xfrm>
            <a:off x="2643120" y="3214800"/>
            <a:ext cx="142884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ая соединительная линия 13"/>
          <p:cNvSpPr/>
          <p:nvPr/>
        </p:nvSpPr>
        <p:spPr>
          <a:xfrm flipH="1">
            <a:off x="3499920" y="3214800"/>
            <a:ext cx="180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Скругленная соединительная линия 18"/>
          <p:cNvCxnSpPr>
            <a:endCxn id="474" idx="1"/>
          </p:cNvCxnSpPr>
          <p:nvPr/>
        </p:nvCxnSpPr>
        <p:spPr>
          <a:xfrm>
            <a:off x="3857760" y="3499920"/>
            <a:ext cx="429120" cy="2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475" name="Прямоугольник 16"/>
          <p:cNvSpPr/>
          <p:nvPr/>
        </p:nvSpPr>
        <p:spPr>
          <a:xfrm>
            <a:off x="7429680" y="3214800"/>
            <a:ext cx="142848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ая соединительная линия 17"/>
          <p:cNvSpPr/>
          <p:nvPr/>
        </p:nvSpPr>
        <p:spPr>
          <a:xfrm flipH="1">
            <a:off x="8286840" y="321480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4"/>
          <p:cNvSpPr/>
          <p:nvPr/>
        </p:nvSpPr>
        <p:spPr>
          <a:xfrm>
            <a:off x="4286160" y="3214800"/>
            <a:ext cx="135756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25"/>
          <p:cNvSpPr/>
          <p:nvPr/>
        </p:nvSpPr>
        <p:spPr>
          <a:xfrm flipH="1">
            <a:off x="5143680" y="321480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Скругленная соединительная линия 18"/>
          <p:cNvCxnSpPr>
            <a:endCxn id="471" idx="1"/>
          </p:cNvCxnSpPr>
          <p:nvPr/>
        </p:nvCxnSpPr>
        <p:spPr>
          <a:xfrm flipH="1" flipV="1">
            <a:off x="2642400" y="3499560"/>
            <a:ext cx="5930280" cy="2520"/>
          </a:xfrm>
          <a:prstGeom prst="curvedConnector5">
            <a:avLst>
              <a:gd name="adj1" fmla="val -8462"/>
              <a:gd name="adj2" fmla="val 21650000"/>
              <a:gd name="adj3" fmla="val -8462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79" name="Скругленная соединительная линия 18"/>
          <p:cNvCxnSpPr/>
          <p:nvPr/>
        </p:nvCxnSpPr>
        <p:spPr>
          <a:xfrm>
            <a:off x="7000560" y="3499920"/>
            <a:ext cx="4294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80" name="Скругленная соединительная линия 18"/>
          <p:cNvCxnSpPr>
            <a:endCxn id="468" idx="1"/>
          </p:cNvCxnSpPr>
          <p:nvPr/>
        </p:nvCxnSpPr>
        <p:spPr>
          <a:xfrm>
            <a:off x="5429160" y="3499920"/>
            <a:ext cx="572400" cy="2520"/>
          </a:xfrm>
          <a:prstGeom prst="curvedConnector5">
            <a:avLst>
              <a:gd name="adj1" fmla="val 49968"/>
              <a:gd name="adj2" fmla="val 50000"/>
              <a:gd name="adj3" fmla="val 49968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481" name="TextBox 65"/>
          <p:cNvSpPr/>
          <p:nvPr/>
        </p:nvSpPr>
        <p:spPr>
          <a:xfrm>
            <a:off x="928800" y="5286240"/>
            <a:ext cx="600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дача: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заданного односвязного списка определ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ли он циклическ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образовывать список нельз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515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603b"/>
                </a:solidFill>
                <a:latin typeface="Corbel"/>
              </a:rPr>
              <a:t>Двусвязные спис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144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Corbel"/>
              </a:rPr>
              <a:t>Двусвязные списки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– это списки, элементы которых имеют по две связи, указывающие на предыдущий и следующий элемент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TextBox 66"/>
          <p:cNvSpPr/>
          <p:nvPr/>
        </p:nvSpPr>
        <p:spPr>
          <a:xfrm>
            <a:off x="250920" y="4221000"/>
            <a:ext cx="907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 Tlist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word[256]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ласть данных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li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сылка на следующий уз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li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сылка на предыдущий уз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TList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27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55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Реализация двусвязного спис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14400" y="9288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2 * head = NULL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голова списк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2 * new_el_2(const char * newWord) 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2 * p = (TList2 *)malloc(sizeof(TList2))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p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py(p-&gt;word, newWord); /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записать слов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ледующего узла нет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едыдущего узла нет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зультат функции – адрес элемент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9298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Удаление элемента с адресом </a:t>
            </a:r>
            <a:r>
              <a:rPr b="0" i="1" lang="en-US" sz="3200" spc="-1" strike="noStrike">
                <a:solidFill>
                  <a:srgbClr val="67603b"/>
                </a:solidFill>
                <a:latin typeface="Gill Sans MT"/>
              </a:rPr>
              <a:t>cur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1440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-&gt;prev-&gt;next = cur-&gt;next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-&gt;next-&gt;prev = cur-&gt;prev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0" name="Рисунок 4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7777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7603b"/>
                </a:solidFill>
                <a:latin typeface="Corbel"/>
              </a:rPr>
              <a:t>Вставка элемента в двусвязный список</a:t>
            </a:r>
            <a:r>
              <a:rPr b="0" lang="en-US" sz="2900" spc="-1" strike="noStrike">
                <a:solidFill>
                  <a:srgbClr val="67603b"/>
                </a:solidFill>
                <a:latin typeface="Gill Sans MT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67603b"/>
                </a:solidFill>
                <a:latin typeface="Corbel"/>
              </a:rPr>
              <a:t>после элемента с адресом </a:t>
            </a:r>
            <a:r>
              <a:rPr b="0" i="1" lang="en-US" sz="2900" spc="-1" strike="noStrike">
                <a:solidFill>
                  <a:srgbClr val="67603b"/>
                </a:solidFill>
                <a:latin typeface="Gill Sans MT"/>
              </a:rPr>
              <a:t>pr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76000" y="1125000"/>
            <a:ext cx="51116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r = new_el_2(data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ur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r-&gt;next = pr-&gt;next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-&gt;next-&gt;prev = cur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-&gt;next = cur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r-&gt;prev = pr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3" name="Рисунок 4" descr=""/>
          <p:cNvPicPr/>
          <p:nvPr/>
        </p:nvPicPr>
        <p:blipFill>
          <a:blip r:embed="rId1"/>
          <a:stretch/>
        </p:blipFill>
        <p:spPr>
          <a:xfrm>
            <a:off x="1476360" y="3645000"/>
            <a:ext cx="7343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Иерархические списк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914400" y="92844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Это списки, значениями элементов которых являются указатели на другие списки (подсписки)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Прямоугольник 3"/>
          <p:cNvSpPr/>
          <p:nvPr/>
        </p:nvSpPr>
        <p:spPr>
          <a:xfrm>
            <a:off x="1000080" y="3143160"/>
            <a:ext cx="714600" cy="28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4"/>
          <p:cNvSpPr/>
          <p:nvPr/>
        </p:nvSpPr>
        <p:spPr>
          <a:xfrm>
            <a:off x="5715000" y="2428920"/>
            <a:ext cx="1214280" cy="57132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Скругленная соединительная линия 5"/>
          <p:cNvCxnSpPr>
            <a:endCxn id="499" idx="1"/>
          </p:cNvCxnSpPr>
          <p:nvPr/>
        </p:nvCxnSpPr>
        <p:spPr>
          <a:xfrm flipV="1">
            <a:off x="1428480" y="2714040"/>
            <a:ext cx="929160" cy="572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499" name="Прямоугольник 6"/>
          <p:cNvSpPr/>
          <p:nvPr/>
        </p:nvSpPr>
        <p:spPr>
          <a:xfrm>
            <a:off x="2357280" y="2428920"/>
            <a:ext cx="142884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7"/>
          <p:cNvSpPr/>
          <p:nvPr/>
        </p:nvSpPr>
        <p:spPr>
          <a:xfrm flipH="1">
            <a:off x="3499920" y="2428920"/>
            <a:ext cx="180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Скругленная соединительная линия 18"/>
          <p:cNvCxnSpPr>
            <a:endCxn id="502" idx="1"/>
          </p:cNvCxnSpPr>
          <p:nvPr/>
        </p:nvCxnSpPr>
        <p:spPr>
          <a:xfrm>
            <a:off x="3642840" y="2714760"/>
            <a:ext cx="358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503" name="Прямоугольник 9"/>
          <p:cNvSpPr/>
          <p:nvPr/>
        </p:nvSpPr>
        <p:spPr>
          <a:xfrm>
            <a:off x="7143840" y="2428920"/>
            <a:ext cx="150012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10"/>
          <p:cNvSpPr/>
          <p:nvPr/>
        </p:nvSpPr>
        <p:spPr>
          <a:xfrm flipH="1">
            <a:off x="8214840" y="2428920"/>
            <a:ext cx="1800" cy="5698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1"/>
          <p:cNvSpPr/>
          <p:nvPr/>
        </p:nvSpPr>
        <p:spPr>
          <a:xfrm>
            <a:off x="4000680" y="2428920"/>
            <a:ext cx="135720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12"/>
          <p:cNvSpPr/>
          <p:nvPr/>
        </p:nvSpPr>
        <p:spPr>
          <a:xfrm flipH="1">
            <a:off x="5072040" y="242892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Скругленная соединительная линия 18"/>
          <p:cNvCxnSpPr/>
          <p:nvPr/>
        </p:nvCxnSpPr>
        <p:spPr>
          <a:xfrm flipH="1" rot="16200000">
            <a:off x="7536600" y="3107160"/>
            <a:ext cx="929160" cy="143280"/>
          </a:xfrm>
          <a:prstGeom prst="curvedConnector5">
            <a:avLst>
              <a:gd name="adj1" fmla="val 50000"/>
              <a:gd name="adj2" fmla="val 49874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507" name="Скругленная соединительная линия 18"/>
          <p:cNvCxnSpPr/>
          <p:nvPr/>
        </p:nvCxnSpPr>
        <p:spPr>
          <a:xfrm>
            <a:off x="6714720" y="2714760"/>
            <a:ext cx="4294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508" name="Скругленная соединительная линия 18"/>
          <p:cNvCxnSpPr>
            <a:endCxn id="497" idx="1"/>
          </p:cNvCxnSpPr>
          <p:nvPr/>
        </p:nvCxnSpPr>
        <p:spPr>
          <a:xfrm>
            <a:off x="5214600" y="2714760"/>
            <a:ext cx="50076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509" name="Прямая соединительная линия 16"/>
          <p:cNvSpPr/>
          <p:nvPr/>
        </p:nvSpPr>
        <p:spPr>
          <a:xfrm flipH="1">
            <a:off x="3071880" y="242892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ая соединительная линия 17"/>
          <p:cNvSpPr/>
          <p:nvPr/>
        </p:nvSpPr>
        <p:spPr>
          <a:xfrm flipH="1">
            <a:off x="4714920" y="242892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18"/>
          <p:cNvSpPr/>
          <p:nvPr/>
        </p:nvSpPr>
        <p:spPr>
          <a:xfrm flipH="1">
            <a:off x="6286680" y="242892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19"/>
          <p:cNvSpPr/>
          <p:nvPr/>
        </p:nvSpPr>
        <p:spPr>
          <a:xfrm flipH="1">
            <a:off x="6571800" y="2428920"/>
            <a:ext cx="180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20"/>
          <p:cNvSpPr/>
          <p:nvPr/>
        </p:nvSpPr>
        <p:spPr>
          <a:xfrm flipH="1">
            <a:off x="7786800" y="242892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Скругленная соединительная линия 18"/>
          <p:cNvCxnSpPr/>
          <p:nvPr/>
        </p:nvCxnSpPr>
        <p:spPr>
          <a:xfrm rot="5400000">
            <a:off x="6035760" y="3036240"/>
            <a:ext cx="714960" cy="72000"/>
          </a:xfrm>
          <a:prstGeom prst="curvedConnector5">
            <a:avLst>
              <a:gd name="adj1" fmla="val 49974"/>
              <a:gd name="adj2" fmla="val 49748"/>
              <a:gd name="adj3" fmla="val 49974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515" name="Скругленная соединительная линия 18"/>
          <p:cNvCxnSpPr>
            <a:endCxn id="516" idx="1"/>
          </p:cNvCxnSpPr>
          <p:nvPr/>
        </p:nvCxnSpPr>
        <p:spPr>
          <a:xfrm rot="5400000">
            <a:off x="3570840" y="3000240"/>
            <a:ext cx="1572480" cy="1143720"/>
          </a:xfrm>
          <a:prstGeom prst="curvedConnector5">
            <a:avLst>
              <a:gd name="adj1" fmla="val 40897"/>
              <a:gd name="adj2" fmla="val 59981"/>
              <a:gd name="adj3" fmla="val 40897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517" name="TextBox 24"/>
          <p:cNvSpPr/>
          <p:nvPr/>
        </p:nvSpPr>
        <p:spPr>
          <a:xfrm>
            <a:off x="8146800" y="2571840"/>
            <a:ext cx="5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5"/>
          <p:cNvSpPr/>
          <p:nvPr/>
        </p:nvSpPr>
        <p:spPr>
          <a:xfrm>
            <a:off x="357120" y="30718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48"/>
          <p:cNvSpPr/>
          <p:nvPr/>
        </p:nvSpPr>
        <p:spPr>
          <a:xfrm>
            <a:off x="7143840" y="4071960"/>
            <a:ext cx="1214280" cy="57132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49"/>
          <p:cNvSpPr/>
          <p:nvPr/>
        </p:nvSpPr>
        <p:spPr>
          <a:xfrm>
            <a:off x="3786120" y="4071960"/>
            <a:ext cx="142884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50"/>
          <p:cNvSpPr/>
          <p:nvPr/>
        </p:nvSpPr>
        <p:spPr>
          <a:xfrm flipH="1">
            <a:off x="4928760" y="4071960"/>
            <a:ext cx="180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Скругленная соединительная линия 18"/>
          <p:cNvCxnSpPr>
            <a:endCxn id="522" idx="1"/>
          </p:cNvCxnSpPr>
          <p:nvPr/>
        </p:nvCxnSpPr>
        <p:spPr>
          <a:xfrm>
            <a:off x="5072040" y="4357800"/>
            <a:ext cx="357840" cy="2160"/>
          </a:xfrm>
          <a:prstGeom prst="curvedConnector5">
            <a:avLst>
              <a:gd name="adj1" fmla="val 49949"/>
              <a:gd name="adj2" fmla="val 40000"/>
              <a:gd name="adj3" fmla="val 49949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522" name="Прямоугольник 54"/>
          <p:cNvSpPr/>
          <p:nvPr/>
        </p:nvSpPr>
        <p:spPr>
          <a:xfrm>
            <a:off x="5429160" y="4071960"/>
            <a:ext cx="135756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55"/>
          <p:cNvSpPr/>
          <p:nvPr/>
        </p:nvSpPr>
        <p:spPr>
          <a:xfrm flipH="1">
            <a:off x="6500880" y="407196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Скругленная соединительная линия 18"/>
          <p:cNvCxnSpPr/>
          <p:nvPr/>
        </p:nvCxnSpPr>
        <p:spPr>
          <a:xfrm>
            <a:off x="8143560" y="4357800"/>
            <a:ext cx="4294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525" name="Скругленная соединительная линия 18"/>
          <p:cNvCxnSpPr>
            <a:endCxn id="519" idx="1"/>
          </p:cNvCxnSpPr>
          <p:nvPr/>
        </p:nvCxnSpPr>
        <p:spPr>
          <a:xfrm>
            <a:off x="6643440" y="4357800"/>
            <a:ext cx="50076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526" name="Прямая соединительная линия 58"/>
          <p:cNvSpPr/>
          <p:nvPr/>
        </p:nvSpPr>
        <p:spPr>
          <a:xfrm flipH="1">
            <a:off x="4500720" y="407196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59"/>
          <p:cNvSpPr/>
          <p:nvPr/>
        </p:nvSpPr>
        <p:spPr>
          <a:xfrm flipH="1">
            <a:off x="6143760" y="407196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60"/>
          <p:cNvSpPr/>
          <p:nvPr/>
        </p:nvSpPr>
        <p:spPr>
          <a:xfrm flipH="1">
            <a:off x="7714800" y="4071960"/>
            <a:ext cx="180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61"/>
          <p:cNvSpPr/>
          <p:nvPr/>
        </p:nvSpPr>
        <p:spPr>
          <a:xfrm flipH="1">
            <a:off x="8001000" y="407196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Скругленная соединительная линия 18"/>
          <p:cNvCxnSpPr/>
          <p:nvPr/>
        </p:nvCxnSpPr>
        <p:spPr>
          <a:xfrm rot="5400000">
            <a:off x="2892600" y="3036240"/>
            <a:ext cx="714960" cy="72000"/>
          </a:xfrm>
          <a:prstGeom prst="curvedConnector5">
            <a:avLst>
              <a:gd name="adj1" fmla="val 49974"/>
              <a:gd name="adj2" fmla="val 49748"/>
              <a:gd name="adj3" fmla="val 49974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531" name="Прямоугольник 72"/>
          <p:cNvSpPr/>
          <p:nvPr/>
        </p:nvSpPr>
        <p:spPr>
          <a:xfrm>
            <a:off x="571680" y="5286240"/>
            <a:ext cx="142848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ая соединительная линия 73"/>
          <p:cNvSpPr/>
          <p:nvPr/>
        </p:nvSpPr>
        <p:spPr>
          <a:xfrm flipH="1">
            <a:off x="1714680" y="528624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Скругленная соединительная линия 18"/>
          <p:cNvCxnSpPr>
            <a:endCxn id="534" idx="1"/>
          </p:cNvCxnSpPr>
          <p:nvPr/>
        </p:nvCxnSpPr>
        <p:spPr>
          <a:xfrm>
            <a:off x="1856880" y="5571720"/>
            <a:ext cx="3582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534" name="Прямоугольник 75"/>
          <p:cNvSpPr/>
          <p:nvPr/>
        </p:nvSpPr>
        <p:spPr>
          <a:xfrm>
            <a:off x="2214720" y="5286240"/>
            <a:ext cx="135720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76"/>
          <p:cNvSpPr/>
          <p:nvPr/>
        </p:nvSpPr>
        <p:spPr>
          <a:xfrm flipH="1">
            <a:off x="3285720" y="5286240"/>
            <a:ext cx="180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Скругленная соединительная линия 18"/>
          <p:cNvCxnSpPr/>
          <p:nvPr/>
        </p:nvCxnSpPr>
        <p:spPr>
          <a:xfrm>
            <a:off x="3428640" y="5571720"/>
            <a:ext cx="50076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537" name="Прямая соединительная линия 78"/>
          <p:cNvSpPr/>
          <p:nvPr/>
        </p:nvSpPr>
        <p:spPr>
          <a:xfrm flipH="1">
            <a:off x="1285920" y="528624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ая соединительная линия 79"/>
          <p:cNvSpPr/>
          <p:nvPr/>
        </p:nvSpPr>
        <p:spPr>
          <a:xfrm flipH="1">
            <a:off x="2928960" y="528624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93"/>
          <p:cNvSpPr/>
          <p:nvPr/>
        </p:nvSpPr>
        <p:spPr>
          <a:xfrm>
            <a:off x="7643880" y="6072120"/>
            <a:ext cx="1214280" cy="57168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94"/>
          <p:cNvSpPr/>
          <p:nvPr/>
        </p:nvSpPr>
        <p:spPr>
          <a:xfrm>
            <a:off x="4286160" y="6072120"/>
            <a:ext cx="142884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ая соединительная линия 95"/>
          <p:cNvSpPr/>
          <p:nvPr/>
        </p:nvSpPr>
        <p:spPr>
          <a:xfrm flipH="1">
            <a:off x="5428800" y="6072120"/>
            <a:ext cx="180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Скругленная соединительная линия 18"/>
          <p:cNvCxnSpPr>
            <a:endCxn id="543" idx="1"/>
          </p:cNvCxnSpPr>
          <p:nvPr/>
        </p:nvCxnSpPr>
        <p:spPr>
          <a:xfrm>
            <a:off x="5572080" y="6357960"/>
            <a:ext cx="357840" cy="2160"/>
          </a:xfrm>
          <a:prstGeom prst="curvedConnector5">
            <a:avLst>
              <a:gd name="adj1" fmla="val 49949"/>
              <a:gd name="adj2" fmla="val 40000"/>
              <a:gd name="adj3" fmla="val 49949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543" name="Прямоугольник 97"/>
          <p:cNvSpPr/>
          <p:nvPr/>
        </p:nvSpPr>
        <p:spPr>
          <a:xfrm>
            <a:off x="5929200" y="6072120"/>
            <a:ext cx="135756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ая соединительная линия 98"/>
          <p:cNvSpPr/>
          <p:nvPr/>
        </p:nvSpPr>
        <p:spPr>
          <a:xfrm flipH="1">
            <a:off x="7000920" y="607212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Скругленная соединительная линия 18"/>
          <p:cNvCxnSpPr>
            <a:endCxn id="539" idx="1"/>
          </p:cNvCxnSpPr>
          <p:nvPr/>
        </p:nvCxnSpPr>
        <p:spPr>
          <a:xfrm>
            <a:off x="7143480" y="6357960"/>
            <a:ext cx="50076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546" name="Прямая соединительная линия 100"/>
          <p:cNvSpPr/>
          <p:nvPr/>
        </p:nvSpPr>
        <p:spPr>
          <a:xfrm flipH="1">
            <a:off x="5000760" y="607212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ая соединительная линия 101"/>
          <p:cNvSpPr/>
          <p:nvPr/>
        </p:nvSpPr>
        <p:spPr>
          <a:xfrm flipH="1">
            <a:off x="6643800" y="607212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102"/>
          <p:cNvSpPr/>
          <p:nvPr/>
        </p:nvSpPr>
        <p:spPr>
          <a:xfrm flipH="1">
            <a:off x="8214840" y="6072120"/>
            <a:ext cx="180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ая соединительная линия 103"/>
          <p:cNvSpPr/>
          <p:nvPr/>
        </p:nvSpPr>
        <p:spPr>
          <a:xfrm flipH="1">
            <a:off x="8501040" y="607212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Скругленная соединительная линия 18"/>
          <p:cNvCxnSpPr>
            <a:endCxn id="531" idx="1"/>
          </p:cNvCxnSpPr>
          <p:nvPr/>
        </p:nvCxnSpPr>
        <p:spPr>
          <a:xfrm flipV="1" rot="10800000">
            <a:off x="570960" y="4356720"/>
            <a:ext cx="4072320" cy="1215000"/>
          </a:xfrm>
          <a:prstGeom prst="curvedConnector5">
            <a:avLst>
              <a:gd name="adj1" fmla="val 105614"/>
              <a:gd name="adj2" fmla="val 50000"/>
              <a:gd name="adj3" fmla="val 105614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551" name="Скругленная соединительная линия 18"/>
          <p:cNvCxnSpPr>
            <a:endCxn id="540" idx="1"/>
          </p:cNvCxnSpPr>
          <p:nvPr/>
        </p:nvCxnSpPr>
        <p:spPr>
          <a:xfrm flipV="1" rot="10800000">
            <a:off x="4285440" y="4428720"/>
            <a:ext cx="2001240" cy="1929600"/>
          </a:xfrm>
          <a:prstGeom prst="curvedConnector5">
            <a:avLst>
              <a:gd name="adj1" fmla="val 110687"/>
              <a:gd name="adj2" fmla="val 49990"/>
              <a:gd name="adj3" fmla="val 110687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603b"/>
                </a:solidFill>
                <a:latin typeface="Corbel"/>
              </a:rPr>
              <a:t>Линейный список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914400" y="10000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это множество, состоящее из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≥0)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зл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лементов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1],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2], … 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],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руктурные свойства которого ограничены линейным (одномерным) относительным положением узлов (элементов), т.е. следующими условиям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&gt; 0,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о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1] 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вый узе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о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у узлу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едшествует узел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 за узлом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ледует узел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последний узе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9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603b"/>
                </a:solidFill>
                <a:latin typeface="Corbel"/>
              </a:rPr>
              <a:t>Списк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05228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Список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– структура данных, представляющая собой конечную последовательность элемент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лемент списка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2428920" y="3786120"/>
            <a:ext cx="4429080" cy="1571760"/>
          </a:xfrm>
          <a:prstGeom prst="rect">
            <a:avLst/>
          </a:prstGeom>
          <a:noFill/>
          <a:ln w="381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5"/>
          <p:cNvSpPr/>
          <p:nvPr/>
        </p:nvSpPr>
        <p:spPr>
          <a:xfrm flipH="1">
            <a:off x="5214960" y="3787920"/>
            <a:ext cx="1440" cy="157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3357720" y="43578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5572080" y="44290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Операции над линейными спискам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4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лучить доступ к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k-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у элементу списка, проанализировать и/или изменить значения его поле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8960" indent="-498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ключить новый узел перед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8960" indent="-498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Исключить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й узе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8960" indent="-498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бъединить два или более линейных списков в оди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8960" indent="-498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збить линейный список на два или более линейных списк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8960" indent="-498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делать копию линейного спис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8960" indent="-498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пределить количество уз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8960" indent="-498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полнить сортировку в возрастающем порядке по некоторым значениям полей в узл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8960" indent="-498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йти в списке узел с заданным значением в некотором пол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8960" indent="-498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…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и т.д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14400" y="428760"/>
            <a:ext cx="82296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rbel"/>
              </a:rPr>
              <a:t>Не все операции нужны одновременно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удем различать типы линейных списков по набору главных операций, которые над ними выполняю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77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3" dur="77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7" dur="77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603b"/>
                </a:solidFill>
                <a:latin typeface="Corbel"/>
              </a:rPr>
              <a:t>Стек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91440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то линейный список, в котором все включения и исключения (и всякий доступ) делаются на одном конце списка (вершина стек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Прямоугольник 26"/>
          <p:cNvSpPr/>
          <p:nvPr/>
        </p:nvSpPr>
        <p:spPr>
          <a:xfrm>
            <a:off x="4214880" y="2214720"/>
            <a:ext cx="1071360" cy="5713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7"/>
          <p:cNvSpPr/>
          <p:nvPr/>
        </p:nvSpPr>
        <p:spPr>
          <a:xfrm>
            <a:off x="4214880" y="3214800"/>
            <a:ext cx="1071360" cy="5713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28"/>
          <p:cNvSpPr/>
          <p:nvPr/>
        </p:nvSpPr>
        <p:spPr>
          <a:xfrm>
            <a:off x="4214880" y="4214880"/>
            <a:ext cx="1071360" cy="5713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9"/>
          <p:cNvSpPr/>
          <p:nvPr/>
        </p:nvSpPr>
        <p:spPr>
          <a:xfrm>
            <a:off x="4214880" y="5143680"/>
            <a:ext cx="1071360" cy="5713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30"/>
          <p:cNvSpPr/>
          <p:nvPr/>
        </p:nvSpPr>
        <p:spPr>
          <a:xfrm>
            <a:off x="4214880" y="6072120"/>
            <a:ext cx="107136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1"/>
          <p:cNvSpPr/>
          <p:nvPr/>
        </p:nvSpPr>
        <p:spPr>
          <a:xfrm>
            <a:off x="5360400" y="2357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2"/>
          <p:cNvSpPr/>
          <p:nvPr/>
        </p:nvSpPr>
        <p:spPr>
          <a:xfrm>
            <a:off x="5357160" y="42861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сверх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3"/>
          <p:cNvSpPr/>
          <p:nvPr/>
        </p:nvSpPr>
        <p:spPr>
          <a:xfrm>
            <a:off x="5364000" y="32860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сверх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4"/>
          <p:cNvSpPr/>
          <p:nvPr/>
        </p:nvSpPr>
        <p:spPr>
          <a:xfrm>
            <a:off x="5367960" y="521496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сверх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5"/>
          <p:cNvSpPr/>
          <p:nvPr/>
        </p:nvSpPr>
        <p:spPr>
          <a:xfrm>
            <a:off x="5362920" y="621504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Прямая со стрелкой 36"/>
          <p:cNvCxnSpPr>
            <a:stCxn id="560" idx="2"/>
            <a:endCxn id="561" idx="0"/>
          </p:cNvCxnSpPr>
          <p:nvPr/>
        </p:nvCxnSpPr>
        <p:spPr>
          <a:xfrm flipH="1">
            <a:off x="4749480" y="2785680"/>
            <a:ext cx="2160" cy="4294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71" name="Прямая со стрелкой 37"/>
          <p:cNvCxnSpPr>
            <a:stCxn id="561" idx="2"/>
            <a:endCxn id="562" idx="0"/>
          </p:cNvCxnSpPr>
          <p:nvPr/>
        </p:nvCxnSpPr>
        <p:spPr>
          <a:xfrm flipH="1">
            <a:off x="4749480" y="3787920"/>
            <a:ext cx="216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72" name="Прямая со стрелкой 38"/>
          <p:cNvCxnSpPr>
            <a:stCxn id="562" idx="2"/>
            <a:endCxn id="563" idx="0"/>
          </p:cNvCxnSpPr>
          <p:nvPr/>
        </p:nvCxnSpPr>
        <p:spPr>
          <a:xfrm flipH="1">
            <a:off x="4749480" y="4788000"/>
            <a:ext cx="2160" cy="357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73" name="Прямая со стрелкой 39"/>
          <p:cNvCxnSpPr>
            <a:stCxn id="563" idx="2"/>
            <a:endCxn id="564" idx="0"/>
          </p:cNvCxnSpPr>
          <p:nvPr/>
        </p:nvCxnSpPr>
        <p:spPr>
          <a:xfrm flipH="1">
            <a:off x="4749480" y="5716080"/>
            <a:ext cx="2160" cy="358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574" name="TextBox 41"/>
          <p:cNvSpPr/>
          <p:nvPr/>
        </p:nvSpPr>
        <p:spPr>
          <a:xfrm>
            <a:off x="1438200" y="335772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ить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78721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Операции работы со стеком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9144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enull (S) 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елает стек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усты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e(S) 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дает сте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 (S) 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дает значение верхнего элемента стека, не удаляя е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(S)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выдает значение верхнего элемента стека и удаляет его из сте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(x, S)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помещает в стек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вый элемент со значением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pty (S) -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стек пуст, то функция возвращает 1 (истина), иначе – 0 (ложь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0009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Сте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14400" y="1071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sh-down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исо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версивная памя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нездовая памя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гази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FO (last-in-first-ou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исок йо-й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856800" y="285480"/>
            <a:ext cx="85186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Использование сте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современных компьютерах стек используется дл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мещения локальных переменных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мещения параметров процедуры или функ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хранения адреса возврата (по какому адресу надо вернуться из процедуры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ременного хранения данны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 стек выделяется ограниченная область памят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каждом вызове процедуры в стек добавляются новы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лементы. Поэтому если вложенных вызовов будет много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ек переполнитс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пасной в отношении переполнения стека является рекурс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587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03b"/>
                </a:solidFill>
                <a:latin typeface="Corbel"/>
              </a:rPr>
              <a:t>Реализация стек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42600" y="57168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ct Tlist 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data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list *next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 stru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 Stack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этом случае работ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ая же, как 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освязным списко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Будем использовать другую реализацию стека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 Stack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tack_Item * next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StackItem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 _Stack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Item * top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6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8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20"/>
                            </p:stCondLst>
                            <p:childTnLst>
                              <p:par>
                                <p:cTn id="10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8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880"/>
                            </p:stCondLst>
                            <p:childTnLst>
                              <p:par>
                                <p:cTn id="10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8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600"/>
                            </p:stCondLst>
                            <p:childTnLst>
                              <p:par>
                                <p:cTn id="10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680"/>
                            </p:stCondLst>
                            <p:childTnLst>
                              <p:par>
                                <p:cTn id="10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8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520"/>
                            </p:stCondLst>
                            <p:childTnLst>
                              <p:par>
                                <p:cTn id="10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3" dur="8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8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440"/>
                            </p:stCondLst>
                            <p:childTnLst>
                              <p:par>
                                <p:cTn id="10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7400"/>
                            </p:stCondLst>
                            <p:childTnLst>
                              <p:par>
                                <p:cTn id="10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7480"/>
                            </p:stCondLst>
                            <p:childTnLst>
                              <p:par>
                                <p:cTn id="10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80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7840"/>
                            </p:stCondLst>
                            <p:childTnLst>
                              <p:par>
                                <p:cTn id="10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8760"/>
                            </p:stCondLst>
                            <p:childTnLst>
                              <p:par>
                                <p:cTn id="1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924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5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5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5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40"/>
                            </p:stCondLst>
                            <p:childTnLst>
                              <p:par>
                                <p:cTn id="1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5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5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5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12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5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5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5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0720"/>
                            </p:stCondLst>
                            <p:childTnLst>
                              <p:par>
                                <p:cTn id="1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6" dur="80"/>
                                        <p:tgtEl>
                                          <p:spTgt spid="5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5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8" dur="80"/>
                                        <p:tgtEl>
                                          <p:spTgt spid="5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587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03b"/>
                </a:solidFill>
                <a:latin typeface="Corbel"/>
              </a:rPr>
              <a:t>Реализация стек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4000" y="880560"/>
            <a:ext cx="8785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03b"/>
                </a:solidFill>
                <a:latin typeface="Gill Sans MT"/>
              </a:rPr>
              <a:t>	</a:t>
            </a:r>
            <a:r>
              <a:rPr b="0" lang="ru-RU" sz="2400" spc="-1" strike="noStrike">
                <a:solidFill>
                  <a:srgbClr val="67603b"/>
                </a:solidFill>
                <a:latin typeface="Corbel"/>
              </a:rPr>
              <a:t>Опустошение сте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kenull (Stack * 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Item * p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-&gt;top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s-&gt;top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-&gt;top = p-&gt;next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p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680"/>
                            </p:stCondLst>
                            <p:childTnLst>
                              <p:par>
                                <p:cTn id="1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560"/>
                            </p:stCondLst>
                            <p:childTnLst>
                              <p:par>
                                <p:cTn id="1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640"/>
                            </p:stCondLst>
                            <p:childTnLst>
                              <p:par>
                                <p:cTn id="1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8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160"/>
                            </p:stCondLst>
                            <p:childTnLst>
                              <p:par>
                                <p:cTn id="1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9" dur="8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0" dur="8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8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720"/>
                            </p:stCondLst>
                            <p:childTnLst>
                              <p:par>
                                <p:cTn id="1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5" dur="8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6" dur="8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7" dur="8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2800"/>
                            </p:stCondLst>
                            <p:childTnLst>
                              <p:par>
                                <p:cTn id="1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8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200"/>
                            </p:stCondLst>
                            <p:childTnLst>
                              <p:par>
                                <p:cTn id="1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3840"/>
                            </p:stCondLst>
                            <p:childTnLst>
                              <p:par>
                                <p:cTn id="1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5" dur="80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4200"/>
                            </p:stCondLst>
                            <p:childTnLst>
                              <p:par>
                                <p:cTn id="1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80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4280"/>
                            </p:stCondLst>
                            <p:childTnLst>
                              <p:par>
                                <p:cTn id="1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5" dur="80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80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914400" y="285480"/>
            <a:ext cx="822960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603b"/>
                </a:solidFill>
                <a:latin typeface="Corbel"/>
              </a:rPr>
              <a:t>Создание сте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*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*S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(Stack *)malloc(sizeof(Stack)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-&gt;top = NULL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603b"/>
                </a:solidFill>
                <a:latin typeface="Corbel"/>
              </a:rPr>
              <a:t>Верхушка стек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op (Stack *S) {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-&gt;top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S-&gt;top-&gt;data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есь может быть реакция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/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шибку – обращение к пустому стек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914400" y="4042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603b"/>
                </a:solidFill>
                <a:latin typeface="Corbel"/>
              </a:rPr>
              <a:t>Взятие верхнего элемента сте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op(Stack * 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Item * p = s-&gt;top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 = p-&gt;data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-&gt;top = p-&gt;next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0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1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2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120"/>
                            </p:stCondLst>
                            <p:childTnLst>
                              <p:par>
                                <p:cTn id="1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6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7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760"/>
                            </p:stCondLst>
                            <p:childTnLst>
                              <p:par>
                                <p:cTn id="1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2" dur="8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3" dur="8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8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840"/>
                            </p:stCondLst>
                            <p:childTnLst>
                              <p:par>
                                <p:cTn id="1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9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640"/>
                            </p:stCondLst>
                            <p:childTnLst>
                              <p:par>
                                <p:cTn id="1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5" dur="8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8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3200"/>
                            </p:stCondLst>
                            <p:childTnLst>
                              <p:par>
                                <p:cTn id="1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0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1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2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840"/>
                            </p:stCondLst>
                            <p:childTnLst>
                              <p:par>
                                <p:cTn id="1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6" dur="8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7" dur="8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8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4200"/>
                            </p:stCondLst>
                            <p:childTnLst>
                              <p:par>
                                <p:cTn id="1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3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4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4560"/>
                            </p:stCondLst>
                            <p:childTnLst>
                              <p:par>
                                <p:cTn id="1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8" dur="80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9" dur="80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80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57160" y="357120"/>
            <a:ext cx="850752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603b"/>
                </a:solidFill>
                <a:latin typeface="Corbel"/>
              </a:rPr>
              <a:t>Классификация списко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дносвязные (в том числе циклические 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вусвязные (в том числе циклические 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ерархическ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68360" y="404640"/>
            <a:ext cx="914400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603b"/>
                </a:solidFill>
                <a:latin typeface="Corbel"/>
              </a:rPr>
              <a:t>         </a:t>
            </a:r>
            <a:r>
              <a:rPr b="0" lang="ru-RU" sz="2200" spc="-1" strike="noStrike">
                <a:solidFill>
                  <a:srgbClr val="67603b"/>
                </a:solidFill>
                <a:latin typeface="Corbel"/>
              </a:rPr>
              <a:t>Помещение в стек нового элемент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ush(int a, Stack * s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Item * p =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StackItem*)malloc(sizeof(StackItem)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 p )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-&gt;data = a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-&gt;next = s-&gt;top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op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7603b"/>
                </a:solidFill>
                <a:latin typeface="Gill Sans MT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67603b"/>
                </a:solidFill>
                <a:latin typeface="Gill Sans MT"/>
                <a:ea typeface="Courier New"/>
              </a:rPr>
              <a:t>	</a:t>
            </a:r>
            <a:r>
              <a:rPr b="0" lang="ru-RU" sz="2200" spc="-1" strike="noStrike">
                <a:solidFill>
                  <a:srgbClr val="67603b"/>
                </a:solidFill>
                <a:latin typeface="Corbel"/>
                <a:ea typeface="Courier New"/>
              </a:rPr>
              <a:t>Проверка на пустот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mpty (Stack * s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 s-&gt;top == NULL 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8" dur="8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8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4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5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1" dur="8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2" dur="8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3" dur="8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8" dur="8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9" dur="8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0" dur="8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5" dur="8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6" dur="8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7" dur="8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2" dur="8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8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9" dur="8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0" dur="8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1" dur="8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6" dur="8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7" dur="8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8" dur="8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3" dur="8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4" dur="8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8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80"/>
                            </p:stCondLst>
                            <p:childTnLst>
                              <p:par>
                                <p:cTn id="1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3" dur="80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80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0" dur="80"/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1" dur="80"/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2" dur="80"/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7" dur="80"/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8" dur="80"/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80"/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4" dur="80"/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80"/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1" dur="80"/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2" dur="80"/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80"/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7515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иды записи выражени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Префиксна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операция перед операндам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Инфиксна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ли скобочная (операция между операндам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Постфиксна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ли обратная польская (операция после операнд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+ (f – b * c / (z – x) + y) / (a * r – k)   -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нфиксн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a /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f /*b c –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z x y –*a r k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фиксн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 b c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* z x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r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* k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/ +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тфиксн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9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6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1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Перевод из инфиксной формы в постфиксную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914400" y="92880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rbel"/>
              </a:rPr>
              <a:t>Вход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: строка, содержащая арифметическое выражение, записанное в инфиксной форм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rbel"/>
              </a:rPr>
              <a:t>Выход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: строка, содержащая то же выражение, записанное в постфиксной форме (обратной польской записи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rbel"/>
              </a:rPr>
              <a:t>Обозначения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исла, строки (идентификаторы) – операнд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928880" y="3571920"/>
          <a:ext cx="5286240" cy="2352600"/>
        </p:xfrm>
        <a:graphic>
          <a:graphicData uri="http://schemas.openxmlformats.org/drawingml/2006/table">
            <a:tbl>
              <a:tblPr/>
              <a:tblGrid>
                <a:gridCol w="235728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наки опер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ритеты опер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,  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*, 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3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0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5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0722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Алгоритм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914400" y="6429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аг 0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первый элемент из входной строки и поместить его 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ная строка и стек  пус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аг 1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перанд, то дописать его в конец выходной стро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(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то поместить его в ст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вытолкнуть из стека и поместить в конец выходн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все элементы до первой встреченной открывающ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бки. Эту скобку вытолкнуть из ст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нак операции, отличный от скобок, 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стек не пуст, и верхний элемент стека имеет приоритет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й либо равный приоритет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толкнуть его из стека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стить в выходную строку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поместит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аг 2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ходная строка не исчерпана, то поместить 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ой элемент входной строки и перейти на Шаг 1, инач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стек не пуст, вытолкнуть из стека содержимое в выходную стро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9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9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9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10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9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9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9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9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10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9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9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9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900" fill="hold"/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5009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Пример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13840" y="714240"/>
            <a:ext cx="89298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ходная строка: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  +  (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f  – b  *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z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) +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*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k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357120" y="378612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ходная ст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6"/>
          <p:cNvSpPr/>
          <p:nvPr/>
        </p:nvSpPr>
        <p:spPr>
          <a:xfrm>
            <a:off x="357120" y="4429080"/>
            <a:ext cx="6572160" cy="50004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8"/>
          <p:cNvSpPr/>
          <p:nvPr/>
        </p:nvSpPr>
        <p:spPr>
          <a:xfrm>
            <a:off x="64296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9"/>
          <p:cNvSpPr/>
          <p:nvPr/>
        </p:nvSpPr>
        <p:spPr>
          <a:xfrm>
            <a:off x="92880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11"/>
          <p:cNvSpPr/>
          <p:nvPr/>
        </p:nvSpPr>
        <p:spPr>
          <a:xfrm>
            <a:off x="121428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12"/>
          <p:cNvSpPr/>
          <p:nvPr/>
        </p:nvSpPr>
        <p:spPr>
          <a:xfrm>
            <a:off x="157176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13"/>
          <p:cNvSpPr/>
          <p:nvPr/>
        </p:nvSpPr>
        <p:spPr>
          <a:xfrm>
            <a:off x="192888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4"/>
          <p:cNvSpPr/>
          <p:nvPr/>
        </p:nvSpPr>
        <p:spPr>
          <a:xfrm>
            <a:off x="228600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5"/>
          <p:cNvSpPr/>
          <p:nvPr/>
        </p:nvSpPr>
        <p:spPr>
          <a:xfrm>
            <a:off x="264312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6"/>
          <p:cNvSpPr/>
          <p:nvPr/>
        </p:nvSpPr>
        <p:spPr>
          <a:xfrm>
            <a:off x="300024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17"/>
          <p:cNvSpPr/>
          <p:nvPr/>
        </p:nvSpPr>
        <p:spPr>
          <a:xfrm>
            <a:off x="335772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18"/>
          <p:cNvSpPr/>
          <p:nvPr/>
        </p:nvSpPr>
        <p:spPr>
          <a:xfrm>
            <a:off x="371484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19"/>
          <p:cNvSpPr/>
          <p:nvPr/>
        </p:nvSpPr>
        <p:spPr>
          <a:xfrm>
            <a:off x="407196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20"/>
          <p:cNvSpPr/>
          <p:nvPr/>
        </p:nvSpPr>
        <p:spPr>
          <a:xfrm>
            <a:off x="442908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21"/>
          <p:cNvSpPr/>
          <p:nvPr/>
        </p:nvSpPr>
        <p:spPr>
          <a:xfrm>
            <a:off x="478620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22"/>
          <p:cNvSpPr/>
          <p:nvPr/>
        </p:nvSpPr>
        <p:spPr>
          <a:xfrm>
            <a:off x="514368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23"/>
          <p:cNvSpPr/>
          <p:nvPr/>
        </p:nvSpPr>
        <p:spPr>
          <a:xfrm>
            <a:off x="550080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24"/>
          <p:cNvSpPr/>
          <p:nvPr/>
        </p:nvSpPr>
        <p:spPr>
          <a:xfrm>
            <a:off x="621504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25"/>
          <p:cNvSpPr/>
          <p:nvPr/>
        </p:nvSpPr>
        <p:spPr>
          <a:xfrm>
            <a:off x="585792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ая соединительная линия 26"/>
          <p:cNvSpPr/>
          <p:nvPr/>
        </p:nvSpPr>
        <p:spPr>
          <a:xfrm>
            <a:off x="6572160" y="4429080"/>
            <a:ext cx="0" cy="500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7"/>
          <p:cNvSpPr/>
          <p:nvPr/>
        </p:nvSpPr>
        <p:spPr>
          <a:xfrm>
            <a:off x="7576920" y="257184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28"/>
          <p:cNvSpPr/>
          <p:nvPr/>
        </p:nvSpPr>
        <p:spPr>
          <a:xfrm>
            <a:off x="7358040" y="3214800"/>
            <a:ext cx="1571760" cy="3286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29"/>
          <p:cNvSpPr/>
          <p:nvPr/>
        </p:nvSpPr>
        <p:spPr>
          <a:xfrm>
            <a:off x="7429680" y="5500800"/>
            <a:ext cx="1428480" cy="42840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30"/>
          <p:cNvSpPr/>
          <p:nvPr/>
        </p:nvSpPr>
        <p:spPr>
          <a:xfrm>
            <a:off x="7429680" y="5000760"/>
            <a:ext cx="1428480" cy="42840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31"/>
          <p:cNvSpPr/>
          <p:nvPr/>
        </p:nvSpPr>
        <p:spPr>
          <a:xfrm>
            <a:off x="7429680" y="4500720"/>
            <a:ext cx="1428480" cy="42840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32"/>
          <p:cNvSpPr/>
          <p:nvPr/>
        </p:nvSpPr>
        <p:spPr>
          <a:xfrm>
            <a:off x="7429680" y="6000840"/>
            <a:ext cx="1428480" cy="42840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33"/>
          <p:cNvSpPr/>
          <p:nvPr/>
        </p:nvSpPr>
        <p:spPr>
          <a:xfrm>
            <a:off x="7429680" y="4000680"/>
            <a:ext cx="1428480" cy="42840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34"/>
          <p:cNvSpPr/>
          <p:nvPr/>
        </p:nvSpPr>
        <p:spPr>
          <a:xfrm>
            <a:off x="7429680" y="3500280"/>
            <a:ext cx="1428480" cy="428760"/>
          </a:xfrm>
          <a:prstGeom prst="rect">
            <a:avLst/>
          </a:prstGeom>
          <a:noFill/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35"/>
          <p:cNvSpPr/>
          <p:nvPr/>
        </p:nvSpPr>
        <p:spPr>
          <a:xfrm>
            <a:off x="214200" y="12859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6"/>
          <p:cNvSpPr/>
          <p:nvPr/>
        </p:nvSpPr>
        <p:spPr>
          <a:xfrm>
            <a:off x="571680" y="12859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37"/>
          <p:cNvSpPr/>
          <p:nvPr/>
        </p:nvSpPr>
        <p:spPr>
          <a:xfrm>
            <a:off x="1002600" y="128592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38"/>
          <p:cNvSpPr/>
          <p:nvPr/>
        </p:nvSpPr>
        <p:spPr>
          <a:xfrm>
            <a:off x="1288440" y="128592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39"/>
          <p:cNvSpPr/>
          <p:nvPr/>
        </p:nvSpPr>
        <p:spPr>
          <a:xfrm>
            <a:off x="1571760" y="1285920"/>
            <a:ext cx="3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0"/>
          <p:cNvSpPr/>
          <p:nvPr/>
        </p:nvSpPr>
        <p:spPr>
          <a:xfrm>
            <a:off x="1860840" y="128592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1"/>
          <p:cNvSpPr/>
          <p:nvPr/>
        </p:nvSpPr>
        <p:spPr>
          <a:xfrm>
            <a:off x="2286000" y="128592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42"/>
          <p:cNvSpPr/>
          <p:nvPr/>
        </p:nvSpPr>
        <p:spPr>
          <a:xfrm>
            <a:off x="2643120" y="12859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43"/>
          <p:cNvSpPr/>
          <p:nvPr/>
        </p:nvSpPr>
        <p:spPr>
          <a:xfrm>
            <a:off x="3145680" y="1285920"/>
            <a:ext cx="3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44"/>
          <p:cNvSpPr/>
          <p:nvPr/>
        </p:nvSpPr>
        <p:spPr>
          <a:xfrm>
            <a:off x="3500280" y="1285920"/>
            <a:ext cx="3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45"/>
          <p:cNvSpPr/>
          <p:nvPr/>
        </p:nvSpPr>
        <p:spPr>
          <a:xfrm>
            <a:off x="3788640" y="1285920"/>
            <a:ext cx="34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46"/>
          <p:cNvSpPr/>
          <p:nvPr/>
        </p:nvSpPr>
        <p:spPr>
          <a:xfrm>
            <a:off x="4146840" y="12859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47"/>
          <p:cNvSpPr/>
          <p:nvPr/>
        </p:nvSpPr>
        <p:spPr>
          <a:xfrm>
            <a:off x="4502880" y="13572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48"/>
          <p:cNvSpPr/>
          <p:nvPr/>
        </p:nvSpPr>
        <p:spPr>
          <a:xfrm>
            <a:off x="4860360" y="128592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49"/>
          <p:cNvSpPr/>
          <p:nvPr/>
        </p:nvSpPr>
        <p:spPr>
          <a:xfrm>
            <a:off x="5075640" y="12859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0"/>
          <p:cNvSpPr/>
          <p:nvPr/>
        </p:nvSpPr>
        <p:spPr>
          <a:xfrm>
            <a:off x="5429160" y="1285920"/>
            <a:ext cx="3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51"/>
          <p:cNvSpPr/>
          <p:nvPr/>
        </p:nvSpPr>
        <p:spPr>
          <a:xfrm>
            <a:off x="5860440" y="128592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2"/>
          <p:cNvSpPr/>
          <p:nvPr/>
        </p:nvSpPr>
        <p:spPr>
          <a:xfrm>
            <a:off x="6146280" y="1357200"/>
            <a:ext cx="3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53"/>
          <p:cNvSpPr/>
          <p:nvPr/>
        </p:nvSpPr>
        <p:spPr>
          <a:xfrm>
            <a:off x="6429240" y="1357200"/>
            <a:ext cx="3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4"/>
          <p:cNvSpPr/>
          <p:nvPr/>
        </p:nvSpPr>
        <p:spPr>
          <a:xfrm>
            <a:off x="6789960" y="128592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5"/>
          <p:cNvSpPr/>
          <p:nvPr/>
        </p:nvSpPr>
        <p:spPr>
          <a:xfrm>
            <a:off x="7147440" y="12859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56"/>
          <p:cNvSpPr/>
          <p:nvPr/>
        </p:nvSpPr>
        <p:spPr>
          <a:xfrm>
            <a:off x="7574400" y="128592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57"/>
          <p:cNvSpPr/>
          <p:nvPr/>
        </p:nvSpPr>
        <p:spPr>
          <a:xfrm>
            <a:off x="7861680" y="12859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58"/>
          <p:cNvSpPr/>
          <p:nvPr/>
        </p:nvSpPr>
        <p:spPr>
          <a:xfrm>
            <a:off x="8289000" y="128592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9"/>
          <p:cNvSpPr/>
          <p:nvPr/>
        </p:nvSpPr>
        <p:spPr>
          <a:xfrm>
            <a:off x="8646480" y="128592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60"/>
          <p:cNvSpPr/>
          <p:nvPr/>
        </p:nvSpPr>
        <p:spPr>
          <a:xfrm>
            <a:off x="428760" y="30002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Стрелка вверх 61"/>
          <p:cNvSpPr/>
          <p:nvPr/>
        </p:nvSpPr>
        <p:spPr>
          <a:xfrm>
            <a:off x="142920" y="1785960"/>
            <a:ext cx="428760" cy="571320"/>
          </a:xfrm>
          <a:prstGeom prst="upArrow">
            <a:avLst>
              <a:gd name="adj1" fmla="val 50000"/>
              <a:gd name="adj2" fmla="val 4996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09879 0.24885 E">
                                      <p:cBhvr>
                                        <p:cTn id="1682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78 0.24884 L 0.01215 0.45879 E">
                                      <p:cBhvr>
                                        <p:cTn id="1686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04358 -0.00162 E">
                                      <p:cBhvr>
                                        <p:cTn id="169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1065 L 0.06372 0.24884 E">
                                      <p:cBhvr>
                                        <p:cTn id="1696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71 0.24884 L 0.81962 0.67939 E">
                                      <p:cBhvr>
                                        <p:cTn id="1700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58 -0.00162 L 0.08299 -0.00162 E">
                                      <p:cBhvr>
                                        <p:cTn id="1706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1065 L 0.01944 0.24884 E">
                                      <p:cBhvr>
                                        <p:cTn id="1712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4 0.24884 L 0.77534 0.60601 E">
                                      <p:cBhvr>
                                        <p:cTn id="1716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98 -0.00162 L 0.12239 -0.00162 E">
                                      <p:cBhvr>
                                        <p:cTn id="1722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065 L -0.01181 0.24884 E">
                                      <p:cBhvr>
                                        <p:cTn id="1728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24885 L -0.06702 0.46945 E">
                                      <p:cBhvr>
                                        <p:cTn id="1732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4 -0.00162 L 0.16164 -0.00162 E">
                                      <p:cBhvr>
                                        <p:cTn id="1736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-0.04757 0.24885 E">
                                      <p:cBhvr>
                                        <p:cTn id="1742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0.24885 L 0.70052 0.53241 E">
                                      <p:cBhvr>
                                        <p:cTn id="1746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64 -0.00162 L 0.19323 -0.00162 E">
                                      <p:cBhvr>
                                        <p:cTn id="1752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0.01065 L -0.07934 0.24884 E">
                                      <p:cBhvr>
                                        <p:cTn id="1758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34 0.24884 L -0.10295 0.4588 E">
                                      <p:cBhvr>
                                        <p:cTn id="1762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323 -0.00162 L 0.23264 -0.00162 E">
                                      <p:cBhvr>
                                        <p:cTn id="1766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5 0.25208 E">
                                      <p:cBhvr>
                                        <p:cTn id="1772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69 0.24885 L 0.61459 0.4588 E">
                                      <p:cBhvr>
                                        <p:cTn id="1776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64 -0.00162 L 0.27188 -0.00162 E">
                                      <p:cBhvr>
                                        <p:cTn id="1782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1065 L -0.16684 0.24884 E">
                                      <p:cBhvr>
                                        <p:cTn id="1788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84 0.24885 L -0.15903 0.4588 E">
                                      <p:cBhvr>
                                        <p:cTn id="1792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87 -0.00162 L 0.31927 -0.00162 E">
                                      <p:cBhvr>
                                        <p:cTn id="1796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2049 0.25208 E">
                                      <p:cBhvr>
                                        <p:cTn id="1802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459 0.4588 L -0.08628 0.4588 E">
                                      <p:cBhvr>
                                        <p:cTn id="1806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84 0.24885 L 0.53906 0.4588 E">
                                      <p:cBhvr>
                                        <p:cTn id="1812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927 -0.00162 L 0.35851 -0.00162 E">
                                      <p:cBhvr>
                                        <p:cTn id="1818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9 0.25208 E">
                                      <p:cBhvr>
                                        <p:cTn id="1824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99 0.24885 L 0.4941 0.38542 E">
                                      <p:cBhvr>
                                        <p:cTn id="1828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51 -0.00162 L 0.39792 -0.00162 E">
                                      <p:cBhvr>
                                        <p:cTn id="1834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132 0.25208 E">
                                      <p:cBhvr>
                                        <p:cTn id="1840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3 0.24885 L -0.2007 0.44838 E">
                                      <p:cBhvr>
                                        <p:cTn id="1844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792 -0.00162 L 0.42952 -0.00162 E">
                                      <p:cBhvr>
                                        <p:cTn id="1848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073 0.25208 E">
                                      <p:cBhvr>
                                        <p:cTn id="1854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882 0.24885 L 0.41146 0.31181 E">
                                      <p:cBhvr>
                                        <p:cTn id="1858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952 -0.00162 L 0.47674 -0.00162 E">
                                      <p:cBhvr>
                                        <p:cTn id="1864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.23102 E">
                                      <p:cBhvr>
                                        <p:cTn id="1870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32 0.23843 L -0.24826 0.44838 E">
                                      <p:cBhvr>
                                        <p:cTn id="1874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674 -0.00162 L 0.50816 -0.00162 E">
                                      <p:cBhvr>
                                        <p:cTn id="1878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0156 0.24166 E">
                                      <p:cBhvr>
                                        <p:cTn id="1884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146 0.31181 L -0.16336 0.4588 E">
                                      <p:cBhvr>
                                        <p:cTn id="1888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816 -0.00162 L 0.54757 -0.00162 E">
                                      <p:cBhvr>
                                        <p:cTn id="1902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43316 0.24166 E">
                                      <p:cBhvr>
                                        <p:cTn id="1908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344 0.4588 L -0.01997 0.44838 E">
                                      <p:cBhvr>
                                        <p:cTn id="1912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052 0.53241 L 0.19653 0.4588 E">
                                      <p:cBhvr>
                                        <p:cTn id="1918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038 0.24885 L 0.32552 0.54283 E">
                                      <p:cBhvr>
                                        <p:cTn id="1924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757 -0.00162 L 0.58698 -0.00162 E">
                                      <p:cBhvr>
                                        <p:cTn id="193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7257 0.24166 E">
                                      <p:cBhvr>
                                        <p:cTn id="1936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23 0.24885 L -0.18472 0.44838 E">
                                      <p:cBhvr>
                                        <p:cTn id="1940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98 -0.00162 L 0.6184 -0.00162 E">
                                      <p:cBhvr>
                                        <p:cTn id="1944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181 0.2625 E">
                                      <p:cBhvr>
                                        <p:cTn id="1950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771 0.53241 L -0.10746 0.44838 E">
                                      <p:cBhvr>
                                        <p:cTn id="1954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841 -0.00162 L 0.65 -0.00162 E">
                                      <p:cBhvr>
                                        <p:cTn id="1969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4341 0.24166 E">
                                      <p:cBhvr>
                                        <p:cTn id="1975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97 0.23843 L 0.22674 0.5956 E">
                                      <p:cBhvr>
                                        <p:cTn id="1979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 -0.00162 L 0.68924 -0.00162 E">
                                      <p:cBhvr>
                                        <p:cTn id="1985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7483 0.25208 E">
                                      <p:cBhvr>
                                        <p:cTn id="1991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431 0.23843 L 0.17378 0.53241 E">
                                      <p:cBhvr>
                                        <p:cTn id="1995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923 -0.00162 L 0.72083 -0.00162 E">
                                      <p:cBhvr>
                                        <p:cTn id="2001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L -0.61736 0.25949 E">
                                      <p:cBhvr>
                                        <p:cTn id="2007" dur="2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736 0.24885 L -0.25521 0.4588 E">
                                      <p:cBhvr>
                                        <p:cTn id="2011" dur="2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084 -0.00162 L 0.76806 -0.00162 E">
                                      <p:cBhvr>
                                        <p:cTn id="2015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0.01065 L -0.65694 0.24884 E">
                                      <p:cBhvr>
                                        <p:cTn id="2021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94 0.24885 L 0.10695 0.4588 E">
                                      <p:cBhvr>
                                        <p:cTn id="2025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6806 -0.00162 L 0.80747 -0.00162 E">
                                      <p:cBhvr>
                                        <p:cTn id="2031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70833 0.25949 E">
                                      <p:cBhvr>
                                        <p:cTn id="2037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035 0.24885 L -0.3066 0.44838 E">
                                      <p:cBhvr>
                                        <p:cTn id="2041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747 -0.00162 L 0.83889 -0.00162 E">
                                      <p:cBhvr>
                                        <p:cTn id="2045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-0.73507 0.25949 E">
                                      <p:cBhvr>
                                        <p:cTn id="2051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34 0.4588 L -0.22378 0.44838 E">
                                      <p:cBhvr>
                                        <p:cTn id="2055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3507 0.24885 L 0.02101 0.4588 E">
                                      <p:cBhvr>
                                        <p:cTn id="2061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889 -0.00162 L 0.88611 -0.00162 E">
                                      <p:cBhvr>
                                        <p:cTn id="2067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-0.78073 0.25949 E">
                                      <p:cBhvr>
                                        <p:cTn id="2073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073 0.24885 L -0.30035 0.44838 E">
                                      <p:cBhvr>
                                        <p:cTn id="2077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8611 -0.00162 L 0.92552 -0.00162 E">
                                      <p:cBhvr>
                                        <p:cTn id="2081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 L -0.81649 0.26991 E">
                                      <p:cBhvr>
                                        <p:cTn id="2087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.4588 L -0.21528 0.44838 E">
                                      <p:cBhvr>
                                        <p:cTn id="2091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094 0.5956 L 0.00608 0.44838 E">
                                      <p:cBhvr>
                                        <p:cTn id="2103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1962 0.67939 L 0.65434 0.44838 E">
                                      <p:cBhvr>
                                        <p:cTn id="2109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Вычисления на стеке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9144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Вход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: строка, содержащая выражение, записанное в постфиксной форм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Выход</a:t>
            </a: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число - значение заданного выраж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Алгоритм</a:t>
            </a: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Шаг 0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ек  пус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зять первый элемент из входной строки и поместить его в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Шаг 1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 –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перанд, то поместить его в ст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 –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нак операции, то вытолкнуть из стека два верхних элемента, применить к ним соответствующую операцию, результат положить в ст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Шаг 2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входная строка не исчерпана, то  поместить в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чередной элемент входной строки и перейти на Шаг 1, иначе вытолкнуть из стека результат вычисления выраж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2" dur="500"/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5" dur="500"/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3" dur="500"/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6" dur="500"/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1" dur="500"/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4" dur="500"/>
                                        <p:tgtEl>
                                          <p:spTgt spid="6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Пример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356840" y="1571400"/>
            <a:ext cx="611532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ая строка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4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  −  4   /   +   1   −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TextBox 3"/>
          <p:cNvSpPr/>
          <p:nvPr/>
        </p:nvSpPr>
        <p:spPr>
          <a:xfrm>
            <a:off x="1717200" y="328608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4"/>
          <p:cNvSpPr/>
          <p:nvPr/>
        </p:nvSpPr>
        <p:spPr>
          <a:xfrm>
            <a:off x="1714680" y="3786120"/>
            <a:ext cx="1357200" cy="25718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5"/>
          <p:cNvSpPr/>
          <p:nvPr/>
        </p:nvSpPr>
        <p:spPr>
          <a:xfrm>
            <a:off x="1785960" y="5857920"/>
            <a:ext cx="1214280" cy="42876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6"/>
          <p:cNvSpPr/>
          <p:nvPr/>
        </p:nvSpPr>
        <p:spPr>
          <a:xfrm>
            <a:off x="1785960" y="5357880"/>
            <a:ext cx="1214280" cy="4284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7"/>
          <p:cNvSpPr/>
          <p:nvPr/>
        </p:nvSpPr>
        <p:spPr>
          <a:xfrm>
            <a:off x="1785960" y="4357800"/>
            <a:ext cx="1214280" cy="4284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оугольник 8"/>
          <p:cNvSpPr/>
          <p:nvPr/>
        </p:nvSpPr>
        <p:spPr>
          <a:xfrm>
            <a:off x="1785960" y="4857840"/>
            <a:ext cx="1214280" cy="4284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9"/>
          <p:cNvSpPr/>
          <p:nvPr/>
        </p:nvSpPr>
        <p:spPr>
          <a:xfrm>
            <a:off x="1503720" y="20718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2000160" y="20718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1"/>
          <p:cNvSpPr/>
          <p:nvPr/>
        </p:nvSpPr>
        <p:spPr>
          <a:xfrm>
            <a:off x="2928960" y="207180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"/>
          <p:cNvSpPr/>
          <p:nvPr/>
        </p:nvSpPr>
        <p:spPr>
          <a:xfrm>
            <a:off x="3857760" y="2071800"/>
            <a:ext cx="3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2428920" y="2071800"/>
            <a:ext cx="3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4"/>
          <p:cNvSpPr/>
          <p:nvPr/>
        </p:nvSpPr>
        <p:spPr>
          <a:xfrm>
            <a:off x="3429000" y="207180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5"/>
          <p:cNvSpPr/>
          <p:nvPr/>
        </p:nvSpPr>
        <p:spPr>
          <a:xfrm>
            <a:off x="4786200" y="207180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6"/>
          <p:cNvSpPr/>
          <p:nvPr/>
        </p:nvSpPr>
        <p:spPr>
          <a:xfrm>
            <a:off x="4357800" y="2071800"/>
            <a:ext cx="3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7"/>
          <p:cNvSpPr/>
          <p:nvPr/>
        </p:nvSpPr>
        <p:spPr>
          <a:xfrm>
            <a:off x="7072200" y="207180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8"/>
          <p:cNvSpPr/>
          <p:nvPr/>
        </p:nvSpPr>
        <p:spPr>
          <a:xfrm>
            <a:off x="6643800" y="2071800"/>
            <a:ext cx="3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9"/>
          <p:cNvSpPr/>
          <p:nvPr/>
        </p:nvSpPr>
        <p:spPr>
          <a:xfrm>
            <a:off x="6143760" y="2071800"/>
            <a:ext cx="3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20"/>
          <p:cNvSpPr/>
          <p:nvPr/>
        </p:nvSpPr>
        <p:spPr>
          <a:xfrm>
            <a:off x="5643720" y="2143080"/>
            <a:ext cx="3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1"/>
          <p:cNvSpPr/>
          <p:nvPr/>
        </p:nvSpPr>
        <p:spPr>
          <a:xfrm>
            <a:off x="5214960" y="207180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22"/>
          <p:cNvSpPr/>
          <p:nvPr/>
        </p:nvSpPr>
        <p:spPr>
          <a:xfrm>
            <a:off x="4929120" y="3786120"/>
            <a:ext cx="642960" cy="571680"/>
          </a:xfrm>
          <a:prstGeom prst="rect">
            <a:avLst/>
          </a:prstGeom>
          <a:noFill/>
          <a:ln w="1584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23"/>
          <p:cNvSpPr/>
          <p:nvPr/>
        </p:nvSpPr>
        <p:spPr>
          <a:xfrm>
            <a:off x="6643800" y="3786120"/>
            <a:ext cx="571320" cy="571680"/>
          </a:xfrm>
          <a:prstGeom prst="rect">
            <a:avLst/>
          </a:prstGeom>
          <a:noFill/>
          <a:ln w="1584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24"/>
          <p:cNvSpPr/>
          <p:nvPr/>
        </p:nvSpPr>
        <p:spPr>
          <a:xfrm>
            <a:off x="8215200" y="3786120"/>
            <a:ext cx="571680" cy="571680"/>
          </a:xfrm>
          <a:prstGeom prst="rect">
            <a:avLst/>
          </a:prstGeom>
          <a:noFill/>
          <a:ln w="1584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25"/>
          <p:cNvSpPr/>
          <p:nvPr/>
        </p:nvSpPr>
        <p:spPr>
          <a:xfrm>
            <a:off x="5786280" y="3714840"/>
            <a:ext cx="714600" cy="714240"/>
          </a:xfrm>
          <a:prstGeom prst="ellipse">
            <a:avLst/>
          </a:prstGeom>
          <a:noFill/>
          <a:ln w="1584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26"/>
          <p:cNvSpPr/>
          <p:nvPr/>
        </p:nvSpPr>
        <p:spPr>
          <a:xfrm>
            <a:off x="7575840" y="37861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Стрелка вверх 27"/>
          <p:cNvSpPr/>
          <p:nvPr/>
        </p:nvSpPr>
        <p:spPr>
          <a:xfrm>
            <a:off x="1357200" y="2714760"/>
            <a:ext cx="500040" cy="285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28"/>
          <p:cNvSpPr/>
          <p:nvPr/>
        </p:nvSpPr>
        <p:spPr>
          <a:xfrm>
            <a:off x="8286840" y="378612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29"/>
          <p:cNvSpPr/>
          <p:nvPr/>
        </p:nvSpPr>
        <p:spPr>
          <a:xfrm>
            <a:off x="8286840" y="37861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0"/>
          <p:cNvSpPr/>
          <p:nvPr/>
        </p:nvSpPr>
        <p:spPr>
          <a:xfrm>
            <a:off x="8286840" y="3714840"/>
            <a:ext cx="3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31"/>
          <p:cNvSpPr/>
          <p:nvPr/>
        </p:nvSpPr>
        <p:spPr>
          <a:xfrm>
            <a:off x="8290080" y="3714840"/>
            <a:ext cx="38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32"/>
          <p:cNvSpPr/>
          <p:nvPr/>
        </p:nvSpPr>
        <p:spPr>
          <a:xfrm>
            <a:off x="8290080" y="3786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33"/>
          <p:cNvSpPr/>
          <p:nvPr/>
        </p:nvSpPr>
        <p:spPr>
          <a:xfrm>
            <a:off x="8290080" y="3786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5" dur="indefinite" restart="never" nodeType="tmRoot">
          <p:childTnLst>
            <p:seq>
              <p:cTn id="2166" dur="indefinite" nodeType="mainSeq">
                <p:childTnLst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0.08872 0.05695 0.17761 0.11435 0.21129 0.20417 C 0.24497 0.29375 0.22639 0.48148 0.20174 0.53889 C 0.17709 0.5963 0.08611 0.54653 0.06302 0.54792 E">
                                      <p:cBhvr>
                                        <p:cTn id="2201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0.06354 -0.00069 E">
                                      <p:cBhvr>
                                        <p:cTn id="220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7552 0.10903 0.15104 0.21829 0.18298 0.29375 C 0.21528 0.36898 0.22135 0.42222 0.19236 0.45139 C 0.16337 0.48102 0.03958 0.46597 0.0092 0.46921 E">
                                      <p:cBhvr>
                                        <p:cTn id="2213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-0.00069 L 0.11076 -0.00069 E">
                                      <p:cBhvr>
                                        <p:cTn id="2219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6771 0.09236 0.13559 0.18472 0.16441 0.24954 C 0.19323 0.31435 0.20729 0.36505 0.17257 0.38935 C 0.13784 0.41366 -0.00764 0.39468 -0.04358 0.39583 E">
                                      <p:cBhvr>
                                        <p:cTn id="2225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76 -0.00069 L 0.16579 -0.00069 E">
                                      <p:cBhvr>
                                        <p:cTn id="2231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33837 0.25 E">
                                      <p:cBhvr>
                                        <p:cTn id="2237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58 0.39584 L 0.47968 0.26042 E">
                                      <p:cBhvr>
                                        <p:cTn id="2241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 0.46922 L 0.33177 0.26042 E">
                                      <p:cBhvr>
                                        <p:cTn id="2246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C 0.03021 0.06157 0.06076 0.12338 0.02066 0.1699 C -0.01944 0.21643 -0.12292 0.2743 -0.24028 0.27963 C -0.35747 0.28495 -0.52049 0.24351 -0.68351 0.20231 E">
                                      <p:cBhvr>
                                        <p:cTn id="2255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98 -0.00069 L 0.22101 -0.00069 E">
                                      <p:cBhvr>
                                        <p:cTn id="226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C 0.03142 0.0956 0.06302 0.1912 0.08229 0.25694 C 0.10156 0.32245 0.15399 0.37083 0.11615 0.39421 C 0.0783 0.41782 -0.10156 0.3963 -0.14514 0.39676 E">
                                      <p:cBhvr>
                                        <p:cTn id="2273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0069 L 0.27604 -0.00069 E">
                                      <p:cBhvr>
                                        <p:cTn id="2279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57 0.06181 0.04514 0.12361 0.05157 0.17199 C 0.05799 0.22037 0.08195 0.26551 0.03872 0.29028 C -0.00451 0.31505 -0.10625 0.3176 -0.20798 0.32037 E">
                                      <p:cBhvr>
                                        <p:cTn id="2285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04 -0.00069 L 0.32327 -0.00069 E">
                                      <p:cBhvr>
                                        <p:cTn id="2291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18212 0.26041 E">
                                      <p:cBhvr>
                                        <p:cTn id="2297" dur="20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799 0.32037 C -0.05382 0.35555 0.10052 0.39097 0.18055 0.40416 C 0.26059 0.41736 0.25052 0.42453 0.27257 0.39976 C 0.29462 0.375 0.30607 0.27986 0.31284 0.25578 E">
                                      <p:cBhvr>
                                        <p:cTn id="2300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295 0.39583 C -0.06389 0.45416 0.02535 0.5125 0.07292 0.52476 C 0.12049 0.53703 0.11702 0.51365 0.13264 0.46898 C 0.14827 0.4243 0.16094 0.29143 0.1665 0.25601 E">
                                      <p:cBhvr>
                                        <p:cTn id="2305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C -0.00191 0.07893 -0.00364 0.1581 -0.0467 0.19792 C -0.08975 0.23773 -0.14843 0.24861 -0.25833 0.23889 C -0.3677 0.22917 -0.63038 0.15625 -0.70486 0.13981 E">
                                      <p:cBhvr>
                                        <p:cTn id="2314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327 -0.00069 L 0.37066 -0.00069 E">
                                      <p:cBhvr>
                                        <p:cTn id="2326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40741E-007 L 0.13524 0.26042 E">
                                      <p:cBhvr>
                                        <p:cTn id="2332" dur="2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993 0.14584 C -0.575 0.15926 -0.46006 0.17292 -0.37083 0.17153 C -0.28142 0.17037 -0.18697 0.16875 -0.15347 0.13889 C -0.11979 0.10903 -0.16631 0.01621 -0.16875 -0.00833 E">
                                      <p:cBhvr>
                                        <p:cTn id="2335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229 0.21921 C -0.62483 0.24305 -0.56719 0.2669 -0.51128 0.27615 C -0.45538 0.28518 -0.37292 0.31898 -0.34687 0.27384 C -0.32083 0.22893 -0.35347 0.05023 -0.35486 0.00555 E">
                                      <p:cBhvr>
                                        <p:cTn id="2340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C 0.02726 0.0581 0.05452 0.1162 0.01129 0.15926 C -0.03194 0.20231 -0.1434 0.24907 -0.25972 0.2581 C -0.37604 0.26713 -0.5316 0.24004 -0.68715 0.21296 E">
                                      <p:cBhvr>
                                        <p:cTn id="2349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66 -0.00069 L 0.41806 -0.00069 E">
                                      <p:cBhvr>
                                        <p:cTn id="2362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0.34479 0.39699 E">
                                      <p:cBhvr>
                                        <p:cTn id="2368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805 -0.00069 L 0.45729 -0.00069 E">
                                      <p:cBhvr>
                                        <p:cTn id="2374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.24166 E">
                                      <p:cBhvr>
                                        <p:cTn id="238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826 0.39583 C -0.21267 0.44745 -0.07708 0.49907 0.00174 0.51412 C 0.08056 0.52916 0.0974 0.52731 0.12431 0.48634 C 0.15122 0.44537 0.15712 0.35717 0.16302 0.26898 E">
                                      <p:cBhvr>
                                        <p:cTn id="2383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038 0.22963 C -0.61041 0.2669 -0.54027 0.30417 -0.48524 0.32431 C -0.43021 0.34445 -0.371 0.40093 -0.34982 0.35 C -0.32864 0.29908 -0.34323 0.1588 -0.35781 0.01875 E">
                                      <p:cBhvr>
                                        <p:cTn id="2388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3194 C -0.01302 0.10417 -0.03021 0.24051 -0.06597 0.29329 C -0.10174 0.3463 -0.10746 0.30047 -0.2099 0.28403 C -0.3125 0.26736 -0.4967 0.23033 -0.68038 0.19375 E">
                                      <p:cBhvr>
                                        <p:cTn id="2398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729 -0.00069 L 0.52031 -0.00069 E">
                                      <p:cBhvr>
                                        <p:cTn id="2411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-0.0132 0.26042 E">
                                      <p:cBhvr>
                                        <p:cTn id="2417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038 0.19375 C -0.51996 0.2382 -0.3592 0.2831 -0.27187 0.29491 C -0.18437 0.30648 -0.17396 0.31644 -0.1559 0.26366 C -0.13732 0.21111 -0.15 0.09537 -0.1625 -0.02037 E">
                                      <p:cBhvr>
                                        <p:cTn id="2420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54792 C 0.11146 0.5662 0.16007 0.58472 0.20973 0.5963 C 0.25973 0.6081 0.3316 0.67338 0.36181 0.61852 C 0.39219 0.56412 0.39167 0.41736 0.39132 0.27107 E">
                                      <p:cBhvr>
                                        <p:cTn id="2425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823 0.08565 0.03663 0.17153 0.00972 0.2345 C -0.01719 0.29746 -0.04653 0.36945 -0.16129 0.37848 C -0.27622 0.3875 -0.47761 0.33774 -0.67899 0.2882 E">
                                      <p:cBhvr>
                                        <p:cTn id="2434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031 -0.00069 L 0.57534 -0.00069 E">
                                      <p:cBhvr>
                                        <p:cTn id="244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L -0.49323 0.47037 E">
                                      <p:cBhvr>
                                        <p:cTn id="2453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534 -0.00069 L 0.63055 -0.00069 E">
                                      <p:cBhvr>
                                        <p:cTn id="2459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0.12257 0.26041 E">
                                      <p:cBhvr>
                                        <p:cTn id="2465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07 0.46922 C -0.45434 0.50533 -0.40799 0.54167 -0.33611 0.56598 C -0.26424 0.59028 -0.1257 0.66505 -0.06997 0.61551 C -0.01424 0.56598 -0.00834 0.4176 -0.00226 0.26922 E">
                                      <p:cBhvr>
                                        <p:cTn id="2468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917 0.29792 C -0.57205 0.31181 -0.46476 0.3257 -0.41476 0.31713 C -0.36476 0.30857 -0.38611 0.29723 -0.37917 0.2463 C -0.37222 0.19537 -0.37257 0.10348 -0.37274 0.01181 E">
                                      <p:cBhvr>
                                        <p:cTn id="2473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2477 L -0.67917 0.29791 E">
                                      <p:cBhvr>
                                        <p:cTn id="2483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055 -0.00069 L 0.69357 -0.00069 E">
                                      <p:cBhvr>
                                        <p:cTn id="2496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Очередь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914400" y="78588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это линейный список, в котором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все включения производятся на одном конце списка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все исключения – на другом его конц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Gill Sans MT"/>
              </a:rPr>
              <a:t>FIFO (first-in-first-out) 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первый вошел, первый вышел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88" name="Группа 19"/>
          <p:cNvGrpSpPr/>
          <p:nvPr/>
        </p:nvGrpSpPr>
        <p:grpSpPr>
          <a:xfrm>
            <a:off x="857160" y="4071960"/>
            <a:ext cx="7358040" cy="939960"/>
            <a:chOff x="857160" y="4071960"/>
            <a:chExt cx="7358040" cy="939960"/>
          </a:xfrm>
        </p:grpSpPr>
        <p:sp>
          <p:nvSpPr>
            <p:cNvPr id="689" name="Прямоугольник 3"/>
            <p:cNvSpPr/>
            <p:nvPr/>
          </p:nvSpPr>
          <p:spPr>
            <a:xfrm>
              <a:off x="857160" y="4071960"/>
              <a:ext cx="928440" cy="50004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Прямоугольник 4"/>
            <p:cNvSpPr/>
            <p:nvPr/>
          </p:nvSpPr>
          <p:spPr>
            <a:xfrm>
              <a:off x="7286760" y="4071960"/>
              <a:ext cx="928440" cy="50004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Прямоугольник 5"/>
            <p:cNvSpPr/>
            <p:nvPr/>
          </p:nvSpPr>
          <p:spPr>
            <a:xfrm>
              <a:off x="2571480" y="4071960"/>
              <a:ext cx="928440" cy="50004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Прямоугольник 6"/>
            <p:cNvSpPr/>
            <p:nvPr/>
          </p:nvSpPr>
          <p:spPr>
            <a:xfrm>
              <a:off x="4214520" y="4071960"/>
              <a:ext cx="928440" cy="50004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Прямоугольник 7"/>
            <p:cNvSpPr/>
            <p:nvPr/>
          </p:nvSpPr>
          <p:spPr>
            <a:xfrm>
              <a:off x="5715000" y="4071960"/>
              <a:ext cx="928440" cy="50004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4" name="Прямая со стрелкой 9"/>
            <p:cNvCxnSpPr>
              <a:stCxn id="689" idx="3"/>
              <a:endCxn id="691" idx="1"/>
            </p:cNvCxnSpPr>
            <p:nvPr/>
          </p:nvCxnSpPr>
          <p:spPr>
            <a:xfrm>
              <a:off x="1785600" y="4322880"/>
              <a:ext cx="786240" cy="2160"/>
            </a:xfrm>
            <a:prstGeom prst="straightConnector1">
              <a:avLst/>
            </a:prstGeom>
            <a:ln w="9360">
              <a:solidFill>
                <a:srgbClr val="3891a7"/>
              </a:solidFill>
              <a:miter/>
              <a:tailEnd len="med" type="arrow" w="med"/>
            </a:ln>
          </p:spPr>
        </p:cxnSp>
        <p:cxnSp>
          <p:nvCxnSpPr>
            <p:cNvPr id="695" name="Прямая со стрелкой 11"/>
            <p:cNvCxnSpPr>
              <a:stCxn id="691" idx="3"/>
              <a:endCxn id="692" idx="1"/>
            </p:cNvCxnSpPr>
            <p:nvPr/>
          </p:nvCxnSpPr>
          <p:spPr>
            <a:xfrm>
              <a:off x="3500280" y="4322880"/>
              <a:ext cx="714960" cy="2160"/>
            </a:xfrm>
            <a:prstGeom prst="straightConnector1">
              <a:avLst/>
            </a:prstGeom>
            <a:ln w="9360">
              <a:solidFill>
                <a:srgbClr val="3891a7"/>
              </a:solidFill>
              <a:miter/>
              <a:tailEnd len="med" type="arrow" w="med"/>
            </a:ln>
          </p:spPr>
        </p:cxnSp>
        <p:cxnSp>
          <p:nvCxnSpPr>
            <p:cNvPr id="696" name="Прямая со стрелкой 14"/>
            <p:cNvCxnSpPr>
              <a:stCxn id="693" idx="3"/>
              <a:endCxn id="690" idx="1"/>
            </p:cNvCxnSpPr>
            <p:nvPr/>
          </p:nvCxnSpPr>
          <p:spPr>
            <a:xfrm>
              <a:off x="6643800" y="4322880"/>
              <a:ext cx="643320" cy="2160"/>
            </a:xfrm>
            <a:prstGeom prst="straightConnector1">
              <a:avLst/>
            </a:prstGeom>
            <a:ln w="9360">
              <a:solidFill>
                <a:srgbClr val="3891a7"/>
              </a:solidFill>
              <a:miter/>
              <a:tailEnd len="med" type="arrow" w="med"/>
            </a:ln>
          </p:spPr>
        </p:cxnSp>
        <p:cxnSp>
          <p:nvCxnSpPr>
            <p:cNvPr id="697" name="Прямая со стрелкой 15"/>
            <p:cNvCxnSpPr>
              <a:stCxn id="692" idx="3"/>
              <a:endCxn id="693" idx="1"/>
            </p:cNvCxnSpPr>
            <p:nvPr/>
          </p:nvCxnSpPr>
          <p:spPr>
            <a:xfrm>
              <a:off x="5142960" y="4322880"/>
              <a:ext cx="572040" cy="2160"/>
            </a:xfrm>
            <a:prstGeom prst="straightConnector1">
              <a:avLst/>
            </a:prstGeom>
            <a:ln w="9360">
              <a:solidFill>
                <a:srgbClr val="3891a7"/>
              </a:solidFill>
              <a:miter/>
              <a:tailEnd len="med" type="arrow" w="med"/>
            </a:ln>
          </p:spPr>
        </p:cxnSp>
        <p:sp>
          <p:nvSpPr>
            <p:cNvPr id="698" name="TextBox 20"/>
            <p:cNvSpPr/>
            <p:nvPr/>
          </p:nvSpPr>
          <p:spPr>
            <a:xfrm>
              <a:off x="863280" y="464364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Box 21"/>
            <p:cNvSpPr/>
            <p:nvPr/>
          </p:nvSpPr>
          <p:spPr>
            <a:xfrm>
              <a:off x="2504520" y="46436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тор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Box 22"/>
            <p:cNvSpPr/>
            <p:nvPr/>
          </p:nvSpPr>
          <p:spPr>
            <a:xfrm>
              <a:off x="4212360" y="464364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Трет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Box 23"/>
            <p:cNvSpPr/>
            <p:nvPr/>
          </p:nvSpPr>
          <p:spPr>
            <a:xfrm>
              <a:off x="5650560" y="464364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Четверт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24"/>
            <p:cNvSpPr/>
            <p:nvPr/>
          </p:nvSpPr>
          <p:spPr>
            <a:xfrm>
              <a:off x="7362000" y="464364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Box 27"/>
          <p:cNvSpPr/>
          <p:nvPr/>
        </p:nvSpPr>
        <p:spPr>
          <a:xfrm>
            <a:off x="928800" y="31431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29"/>
          <p:cNvSpPr/>
          <p:nvPr/>
        </p:nvSpPr>
        <p:spPr>
          <a:xfrm>
            <a:off x="7363800" y="328608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Операции работы с очередью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enull (Q) 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елает очередь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уст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e(Q) 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дает очеред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st (Q) 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дает значение первого элемента очереди, не удаляя е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(Q)/outqueue(Q)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выдает значение первого элемента очереди и удаляет его из очеред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(x, Q)/inqueue(x, Q)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помещает в конец очеред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вый элемент со значением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pty (Q) -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очередь пуста, то функция возвращает 1 (истина), иначе – 0 (ложь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515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03b"/>
                </a:solidFill>
                <a:latin typeface="Corbel"/>
              </a:rPr>
              <a:t>Реализация очереди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 Queue_Ite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ta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Queue_Item * next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QueueItem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 _Queue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Item *first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Item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603b"/>
                </a:solidFill>
                <a:latin typeface="Corbel"/>
              </a:rPr>
              <a:t>Односвязные списк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2855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Односвязный список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это список, у элементов которого существует связь, указывающая на следующий элемент списка ( односторонняя связь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357200" y="3786120"/>
            <a:ext cx="107172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"/>
          <p:cNvSpPr/>
          <p:nvPr/>
        </p:nvSpPr>
        <p:spPr>
          <a:xfrm>
            <a:off x="2714760" y="3786120"/>
            <a:ext cx="107136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6"/>
          <p:cNvSpPr/>
          <p:nvPr/>
        </p:nvSpPr>
        <p:spPr>
          <a:xfrm>
            <a:off x="4071960" y="3786120"/>
            <a:ext cx="107172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7"/>
          <p:cNvSpPr/>
          <p:nvPr/>
        </p:nvSpPr>
        <p:spPr>
          <a:xfrm>
            <a:off x="5357880" y="3786120"/>
            <a:ext cx="107136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8"/>
          <p:cNvSpPr/>
          <p:nvPr/>
        </p:nvSpPr>
        <p:spPr>
          <a:xfrm>
            <a:off x="6643800" y="3786120"/>
            <a:ext cx="107136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10"/>
          <p:cNvSpPr/>
          <p:nvPr/>
        </p:nvSpPr>
        <p:spPr>
          <a:xfrm flipH="1">
            <a:off x="2071800" y="378612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12"/>
          <p:cNvSpPr/>
          <p:nvPr/>
        </p:nvSpPr>
        <p:spPr>
          <a:xfrm flipH="1">
            <a:off x="3429000" y="378612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14"/>
          <p:cNvSpPr/>
          <p:nvPr/>
        </p:nvSpPr>
        <p:spPr>
          <a:xfrm flipH="1">
            <a:off x="4785840" y="3786120"/>
            <a:ext cx="180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16"/>
          <p:cNvSpPr/>
          <p:nvPr/>
        </p:nvSpPr>
        <p:spPr>
          <a:xfrm flipH="1">
            <a:off x="6071760" y="3786120"/>
            <a:ext cx="180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18"/>
          <p:cNvSpPr/>
          <p:nvPr/>
        </p:nvSpPr>
        <p:spPr>
          <a:xfrm flipH="1">
            <a:off x="7429680" y="378792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Прямая со стрелкой 20"/>
          <p:cNvCxnSpPr>
            <a:endCxn id="337" idx="1"/>
          </p:cNvCxnSpPr>
          <p:nvPr/>
        </p:nvCxnSpPr>
        <p:spPr>
          <a:xfrm>
            <a:off x="2285640" y="4071960"/>
            <a:ext cx="42948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347" name="Прямая со стрелкой 21"/>
          <p:cNvCxnSpPr/>
          <p:nvPr/>
        </p:nvCxnSpPr>
        <p:spPr>
          <a:xfrm>
            <a:off x="4928760" y="4071960"/>
            <a:ext cx="42948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348" name="Прямая со стрелкой 22"/>
          <p:cNvCxnSpPr/>
          <p:nvPr/>
        </p:nvCxnSpPr>
        <p:spPr>
          <a:xfrm>
            <a:off x="3642840" y="4071960"/>
            <a:ext cx="42948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349" name="Прямая со стрелкой 23"/>
          <p:cNvCxnSpPr/>
          <p:nvPr/>
        </p:nvCxnSpPr>
        <p:spPr>
          <a:xfrm>
            <a:off x="6214680" y="4071960"/>
            <a:ext cx="42948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350" name="Прямая со стрелкой 24"/>
          <p:cNvCxnSpPr/>
          <p:nvPr/>
        </p:nvCxnSpPr>
        <p:spPr>
          <a:xfrm flipH="1">
            <a:off x="7571520" y="4145040"/>
            <a:ext cx="2520" cy="4291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351" name="TextBox 26"/>
          <p:cNvSpPr/>
          <p:nvPr/>
        </p:nvSpPr>
        <p:spPr>
          <a:xfrm>
            <a:off x="919440" y="51436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Прямая со стрелкой 28"/>
          <p:cNvCxnSpPr>
            <a:stCxn id="351" idx="0"/>
            <a:endCxn id="336" idx="2"/>
          </p:cNvCxnSpPr>
          <p:nvPr/>
        </p:nvCxnSpPr>
        <p:spPr>
          <a:xfrm flipV="1">
            <a:off x="1347840" y="4357080"/>
            <a:ext cx="545040" cy="786600"/>
          </a:xfrm>
          <a:prstGeom prst="straightConnector1">
            <a:avLst/>
          </a:prstGeom>
          <a:ln w="19080">
            <a:solidFill>
              <a:srgbClr val="3891a7"/>
            </a:solidFill>
            <a:miter/>
            <a:tailEnd len="med" type="triangle" w="med"/>
          </a:ln>
        </p:spPr>
      </p:cxnSp>
      <p:sp>
        <p:nvSpPr>
          <p:cNvPr id="353" name="Правая фигурная скобка 31"/>
          <p:cNvSpPr/>
          <p:nvPr/>
        </p:nvSpPr>
        <p:spPr>
          <a:xfrm rot="5400000">
            <a:off x="5036400" y="2107080"/>
            <a:ext cx="357120" cy="528624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5286240"/>
              <a:gd name="textAreaBottom" fmla="*/ 527724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"/>
                  <a:pt x="10800" y="122"/>
                </a:cubicBezTo>
                <a:lnTo>
                  <a:pt x="10800" y="10940"/>
                </a:lnTo>
                <a:cubicBezTo>
                  <a:pt x="10800" y="11001"/>
                  <a:pt x="16200" y="11062"/>
                  <a:pt x="21600" y="11062"/>
                </a:cubicBezTo>
                <a:cubicBezTo>
                  <a:pt x="16200" y="11062"/>
                  <a:pt x="10800" y="11123"/>
                  <a:pt x="10800" y="11184"/>
                </a:cubicBezTo>
                <a:lnTo>
                  <a:pt x="10800" y="21478"/>
                </a:lnTo>
                <a:cubicBezTo>
                  <a:pt x="10800" y="21539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2"/>
          <p:cNvSpPr/>
          <p:nvPr/>
        </p:nvSpPr>
        <p:spPr>
          <a:xfrm>
            <a:off x="4791960" y="50007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914400" y="2854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603b"/>
                </a:solidFill>
                <a:latin typeface="Corbel"/>
              </a:rPr>
              <a:t>Создание очеред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 * create() {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 *q = (Queue *) malloc ( sizeof( Queue ) )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q-&gt;first = NULL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q-&gt;last = NULL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q</a:t>
            </a:r>
            <a:r>
              <a:rPr b="1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603b"/>
                </a:solidFill>
                <a:latin typeface="Corbel"/>
              </a:rPr>
              <a:t>Добавление элемента в очеред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ut(Queue * q, int a) {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Item * p = (QueueItem *)malloc(sizeof(QueueItem))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p-&gt;data = a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p-&gt;next = NULL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q-&gt;first == NULL)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q-&gt;first = p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q-&gt;last-&gt;next = p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q</a:t>
            </a:r>
            <a:r>
              <a:rPr b="1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</a:t>
            </a:r>
            <a:r>
              <a:rPr b="1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91440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603b"/>
                </a:solidFill>
                <a:latin typeface="Corbel"/>
              </a:rPr>
              <a:t>Изъятие первого элемента из очеред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(Queue * q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Item * p = q-&gt;first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 = p-&gt;data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-&gt;first = p-&gt;next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p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q-&gt;first == NULL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-&gt;last = NULL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603b"/>
                </a:solidFill>
                <a:latin typeface="Courier New"/>
                <a:ea typeface="Courier New"/>
              </a:rPr>
              <a:t>Проверка на пустот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mpt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eue *q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q-&gt;first == NULL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914400" y="42840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 * q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b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 = create(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t(q, 5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t(q, 7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empty(q)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get(q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%d\n", b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583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Дек</a:t>
            </a:r>
            <a:r>
              <a:rPr b="1" lang="ru-RU" sz="3200" spc="-1" strike="noStrike">
                <a:solidFill>
                  <a:srgbClr val="67603b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(</a:t>
            </a:r>
            <a:r>
              <a:rPr b="0" lang="en-US" sz="3200" spc="-1" strike="noStrike">
                <a:solidFill>
                  <a:srgbClr val="67603b"/>
                </a:solidFill>
                <a:latin typeface="Gill Sans MT"/>
              </a:rPr>
              <a:t>double-ended queue</a:t>
            </a: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) </a:t>
            </a:r>
            <a:r>
              <a:rPr b="0" lang="ru-RU" sz="2800" spc="-1" strike="noStrike">
                <a:solidFill>
                  <a:srgbClr val="67603b"/>
                </a:solidFill>
                <a:latin typeface="Corbel"/>
              </a:rPr>
              <a:t>очередь с двумя концам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14400" y="1213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это линейный список, в котором все включения и исключения производятся на обоих концах списка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Прямоугольник 20"/>
          <p:cNvSpPr/>
          <p:nvPr/>
        </p:nvSpPr>
        <p:spPr>
          <a:xfrm>
            <a:off x="857160" y="5143680"/>
            <a:ext cx="928800" cy="500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оугольник 21"/>
          <p:cNvSpPr/>
          <p:nvPr/>
        </p:nvSpPr>
        <p:spPr>
          <a:xfrm>
            <a:off x="7286760" y="5143680"/>
            <a:ext cx="928440" cy="500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оугольник 22"/>
          <p:cNvSpPr/>
          <p:nvPr/>
        </p:nvSpPr>
        <p:spPr>
          <a:xfrm>
            <a:off x="2571840" y="5143680"/>
            <a:ext cx="928440" cy="500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оугольник 23"/>
          <p:cNvSpPr/>
          <p:nvPr/>
        </p:nvSpPr>
        <p:spPr>
          <a:xfrm>
            <a:off x="4214880" y="5143680"/>
            <a:ext cx="928800" cy="500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оугольник 24"/>
          <p:cNvSpPr/>
          <p:nvPr/>
        </p:nvSpPr>
        <p:spPr>
          <a:xfrm>
            <a:off x="5715000" y="5143680"/>
            <a:ext cx="928800" cy="500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9" name="Прямая со стрелкой 25"/>
          <p:cNvCxnSpPr>
            <a:stCxn id="714" idx="3"/>
            <a:endCxn id="716" idx="1"/>
          </p:cNvCxnSpPr>
          <p:nvPr/>
        </p:nvCxnSpPr>
        <p:spPr>
          <a:xfrm>
            <a:off x="1785600" y="5393880"/>
            <a:ext cx="78660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0" name="Прямая со стрелкой 26"/>
          <p:cNvCxnSpPr>
            <a:stCxn id="716" idx="3"/>
            <a:endCxn id="717" idx="1"/>
          </p:cNvCxnSpPr>
          <p:nvPr/>
        </p:nvCxnSpPr>
        <p:spPr>
          <a:xfrm>
            <a:off x="3499920" y="5393880"/>
            <a:ext cx="71532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1" name="Прямая со стрелкой 27"/>
          <p:cNvCxnSpPr>
            <a:stCxn id="718" idx="3"/>
            <a:endCxn id="715" idx="1"/>
          </p:cNvCxnSpPr>
          <p:nvPr/>
        </p:nvCxnSpPr>
        <p:spPr>
          <a:xfrm>
            <a:off x="6643800" y="5393880"/>
            <a:ext cx="64332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2" name="Прямая со стрелкой 28"/>
          <p:cNvCxnSpPr>
            <a:stCxn id="717" idx="3"/>
            <a:endCxn id="718" idx="1"/>
          </p:cNvCxnSpPr>
          <p:nvPr/>
        </p:nvCxnSpPr>
        <p:spPr>
          <a:xfrm>
            <a:off x="5143320" y="5393880"/>
            <a:ext cx="57204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sp>
        <p:nvSpPr>
          <p:cNvPr id="723" name="TextBox 29"/>
          <p:cNvSpPr/>
          <p:nvPr/>
        </p:nvSpPr>
        <p:spPr>
          <a:xfrm>
            <a:off x="862920" y="571500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30"/>
          <p:cNvSpPr/>
          <p:nvPr/>
        </p:nvSpPr>
        <p:spPr>
          <a:xfrm>
            <a:off x="2504520" y="57150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31"/>
          <p:cNvSpPr/>
          <p:nvPr/>
        </p:nvSpPr>
        <p:spPr>
          <a:xfrm>
            <a:off x="4220640" y="5715000"/>
            <a:ext cx="11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в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2"/>
          <p:cNvSpPr/>
          <p:nvPr/>
        </p:nvSpPr>
        <p:spPr>
          <a:xfrm>
            <a:off x="5648040" y="571500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33"/>
          <p:cNvSpPr/>
          <p:nvPr/>
        </p:nvSpPr>
        <p:spPr>
          <a:xfrm>
            <a:off x="7364160" y="571500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34"/>
          <p:cNvSpPr/>
          <p:nvPr/>
        </p:nvSpPr>
        <p:spPr>
          <a:xfrm>
            <a:off x="1007640" y="371484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исклю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36"/>
          <p:cNvSpPr/>
          <p:nvPr/>
        </p:nvSpPr>
        <p:spPr>
          <a:xfrm>
            <a:off x="7222680" y="3786120"/>
            <a:ext cx="16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ить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Реализация односвязного спис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14400" y="9997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word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данны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* word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ount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nex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/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следующий уз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 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ad = NULL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спис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 new_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wWord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) 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TList *)malloc(sizeof(TList))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(p)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p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word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w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2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сло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count = 1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чик сло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next = NULL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го узла не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/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функции – адрес элемен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rbel"/>
              </a:rPr>
              <a:t>Создание первого элемента спис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56800" y="1856880"/>
            <a:ext cx="9215640" cy="19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TList *)malloc(sizeof(TList)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-&gt;data = 5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-&gt;next = NULL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 = p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оугольник 3"/>
          <p:cNvSpPr/>
          <p:nvPr/>
        </p:nvSpPr>
        <p:spPr>
          <a:xfrm>
            <a:off x="2000160" y="4071960"/>
            <a:ext cx="714600" cy="28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4"/>
          <p:cNvSpPr/>
          <p:nvPr/>
        </p:nvSpPr>
        <p:spPr>
          <a:xfrm>
            <a:off x="2000160" y="4857840"/>
            <a:ext cx="714600" cy="28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357200" y="40719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1645560" y="4857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7"/>
          <p:cNvSpPr/>
          <p:nvPr/>
        </p:nvSpPr>
        <p:spPr>
          <a:xfrm>
            <a:off x="5072040" y="4000680"/>
            <a:ext cx="1928880" cy="8571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9"/>
          <p:cNvSpPr/>
          <p:nvPr/>
        </p:nvSpPr>
        <p:spPr>
          <a:xfrm flipH="1">
            <a:off x="6215040" y="4000680"/>
            <a:ext cx="1440" cy="8571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0"/>
          <p:cNvSpPr/>
          <p:nvPr/>
        </p:nvSpPr>
        <p:spPr>
          <a:xfrm>
            <a:off x="5431680" y="4286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6291360" y="42861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Скругленная соединительная линия 13"/>
          <p:cNvCxnSpPr>
            <a:endCxn id="363" idx="1"/>
          </p:cNvCxnSpPr>
          <p:nvPr/>
        </p:nvCxnSpPr>
        <p:spPr>
          <a:xfrm>
            <a:off x="2428920" y="4214520"/>
            <a:ext cx="2643840" cy="2149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368" name="Скругленная соединительная линия 14"/>
          <p:cNvCxnSpPr/>
          <p:nvPr/>
        </p:nvCxnSpPr>
        <p:spPr>
          <a:xfrm flipV="1">
            <a:off x="2428920" y="4571280"/>
            <a:ext cx="2643840" cy="42948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369" name="Rectangle 14"/>
          <p:cNvSpPr/>
          <p:nvPr/>
        </p:nvSpPr>
        <p:spPr>
          <a:xfrm>
            <a:off x="1000080" y="9288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head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″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″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6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6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6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6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4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6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2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2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2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2640" y="356760"/>
            <a:ext cx="77295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603b"/>
                </a:solidFill>
                <a:latin typeface="Corbel"/>
              </a:rPr>
              <a:t>Списки смежносте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Овал 3"/>
          <p:cNvSpPr/>
          <p:nvPr/>
        </p:nvSpPr>
        <p:spPr>
          <a:xfrm>
            <a:off x="6215040" y="2214720"/>
            <a:ext cx="357120" cy="35712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4"/>
          <p:cNvSpPr/>
          <p:nvPr/>
        </p:nvSpPr>
        <p:spPr>
          <a:xfrm>
            <a:off x="7358040" y="2857680"/>
            <a:ext cx="357120" cy="35712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5"/>
          <p:cNvSpPr/>
          <p:nvPr/>
        </p:nvSpPr>
        <p:spPr>
          <a:xfrm>
            <a:off x="7286760" y="1714680"/>
            <a:ext cx="357120" cy="35712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6"/>
          <p:cNvSpPr/>
          <p:nvPr/>
        </p:nvSpPr>
        <p:spPr>
          <a:xfrm>
            <a:off x="8429760" y="2286000"/>
            <a:ext cx="357120" cy="35712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6215040" y="221472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8430840" y="2286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7287840" y="17146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hape 10"/>
          <p:cNvCxnSpPr>
            <a:stCxn id="375" idx="0"/>
            <a:endCxn id="377" idx="1"/>
          </p:cNvCxnSpPr>
          <p:nvPr/>
        </p:nvCxnSpPr>
        <p:spPr>
          <a:xfrm flipH="1" flipV="1" rot="5400000">
            <a:off x="6678360" y="1606320"/>
            <a:ext cx="3024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9" name="Shape 11"/>
          <p:cNvCxnSpPr>
            <a:stCxn id="376" idx="2"/>
          </p:cNvCxnSpPr>
          <p:nvPr/>
        </p:nvCxnSpPr>
        <p:spPr>
          <a:xfrm rot="5400000">
            <a:off x="7954920" y="2441880"/>
            <a:ext cx="391320" cy="872280"/>
          </a:xfrm>
          <a:prstGeom prst="curvedConnector2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0" name="Shape 24"/>
          <p:cNvCxnSpPr>
            <a:stCxn id="377" idx="2"/>
          </p:cNvCxnSpPr>
          <p:nvPr/>
        </p:nvCxnSpPr>
        <p:spPr>
          <a:xfrm rot="5400000">
            <a:off x="7028640" y="2511360"/>
            <a:ext cx="815040" cy="14760"/>
          </a:xfrm>
          <a:prstGeom prst="curvedConnector5">
            <a:avLst>
              <a:gd name="adj1" fmla="val 49977"/>
              <a:gd name="adj2" fmla="val 50000"/>
              <a:gd name="adj3" fmla="val 49977"/>
            </a:avLst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1" name="Shape 13"/>
          <p:cNvCxnSpPr>
            <a:endCxn id="376" idx="1"/>
          </p:cNvCxnSpPr>
          <p:nvPr/>
        </p:nvCxnSpPr>
        <p:spPr>
          <a:xfrm flipH="1" flipV="1" rot="5400000">
            <a:off x="7786440" y="2212560"/>
            <a:ext cx="372240" cy="915120"/>
          </a:xfrm>
          <a:prstGeom prst="curvedConnector2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2" name="Shape 14"/>
          <p:cNvCxnSpPr>
            <a:endCxn id="375" idx="2"/>
          </p:cNvCxnSpPr>
          <p:nvPr/>
        </p:nvCxnSpPr>
        <p:spPr>
          <a:xfrm rot="10800000">
            <a:off x="6371640" y="2610720"/>
            <a:ext cx="986400" cy="400680"/>
          </a:xfrm>
          <a:prstGeom prst="curvedConnector2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3" name="Shape 15"/>
          <p:cNvCxnSpPr>
            <a:stCxn id="373" idx="6"/>
            <a:endCxn id="376" idx="0"/>
          </p:cNvCxnSpPr>
          <p:nvPr/>
        </p:nvCxnSpPr>
        <p:spPr>
          <a:xfrm>
            <a:off x="7656480" y="1893600"/>
            <a:ext cx="930960" cy="3927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TextBox 16"/>
          <p:cNvSpPr/>
          <p:nvPr/>
        </p:nvSpPr>
        <p:spPr>
          <a:xfrm>
            <a:off x="7373520" y="2828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Овал 17"/>
          <p:cNvSpPr/>
          <p:nvPr/>
        </p:nvSpPr>
        <p:spPr>
          <a:xfrm>
            <a:off x="7358040" y="3971880"/>
            <a:ext cx="357120" cy="35712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8"/>
          <p:cNvSpPr/>
          <p:nvPr/>
        </p:nvSpPr>
        <p:spPr>
          <a:xfrm>
            <a:off x="7359120" y="3971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hape 19"/>
          <p:cNvCxnSpPr>
            <a:stCxn id="371" idx="3"/>
            <a:endCxn id="385" idx="2"/>
          </p:cNvCxnSpPr>
          <p:nvPr/>
        </p:nvCxnSpPr>
        <p:spPr>
          <a:xfrm flipH="1" rot="16200000">
            <a:off x="5995800" y="2789640"/>
            <a:ext cx="1632600" cy="1091160"/>
          </a:xfrm>
          <a:prstGeom prst="curvedConnector2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8" name="Shape 20"/>
          <p:cNvCxnSpPr>
            <a:stCxn id="384" idx="2"/>
            <a:endCxn id="385" idx="0"/>
          </p:cNvCxnSpPr>
          <p:nvPr/>
        </p:nvCxnSpPr>
        <p:spPr>
          <a:xfrm flipH="1" rot="16200000">
            <a:off x="7166520" y="3588120"/>
            <a:ext cx="734040" cy="8640"/>
          </a:xfrm>
          <a:prstGeom prst="curvedConnector5">
            <a:avLst>
              <a:gd name="adj1" fmla="val 50834"/>
              <a:gd name="adj2" fmla="val 47826"/>
              <a:gd name="adj3" fmla="val 50834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9" name="Shape 21"/>
          <p:cNvCxnSpPr>
            <a:endCxn id="385" idx="6"/>
          </p:cNvCxnSpPr>
          <p:nvPr/>
        </p:nvCxnSpPr>
        <p:spPr>
          <a:xfrm rot="5400000">
            <a:off x="7459200" y="2882880"/>
            <a:ext cx="1537200" cy="1000800"/>
          </a:xfrm>
          <a:prstGeom prst="curvedConnector2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90" name="Прямоугольник 32"/>
          <p:cNvSpPr/>
          <p:nvPr/>
        </p:nvSpPr>
        <p:spPr>
          <a:xfrm>
            <a:off x="2928960" y="4929120"/>
            <a:ext cx="107172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33"/>
          <p:cNvSpPr/>
          <p:nvPr/>
        </p:nvSpPr>
        <p:spPr>
          <a:xfrm>
            <a:off x="4214880" y="4929120"/>
            <a:ext cx="107136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34"/>
          <p:cNvSpPr/>
          <p:nvPr/>
        </p:nvSpPr>
        <p:spPr>
          <a:xfrm>
            <a:off x="5500800" y="4929120"/>
            <a:ext cx="107136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35"/>
          <p:cNvSpPr/>
          <p:nvPr/>
        </p:nvSpPr>
        <p:spPr>
          <a:xfrm flipH="1">
            <a:off x="3642840" y="4929120"/>
            <a:ext cx="180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36"/>
          <p:cNvSpPr/>
          <p:nvPr/>
        </p:nvSpPr>
        <p:spPr>
          <a:xfrm flipH="1">
            <a:off x="4928760" y="4929120"/>
            <a:ext cx="180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37"/>
          <p:cNvSpPr/>
          <p:nvPr/>
        </p:nvSpPr>
        <p:spPr>
          <a:xfrm flipH="1">
            <a:off x="6286680" y="4930920"/>
            <a:ext cx="14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Прямая со стрелкой 38"/>
          <p:cNvCxnSpPr/>
          <p:nvPr/>
        </p:nvCxnSpPr>
        <p:spPr>
          <a:xfrm>
            <a:off x="3785760" y="5214960"/>
            <a:ext cx="42948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397" name="Прямая со стрелкой 39"/>
          <p:cNvCxnSpPr/>
          <p:nvPr/>
        </p:nvCxnSpPr>
        <p:spPr>
          <a:xfrm>
            <a:off x="5071680" y="5214960"/>
            <a:ext cx="42948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398" name="Прямая со стрелкой 40"/>
          <p:cNvCxnSpPr/>
          <p:nvPr/>
        </p:nvCxnSpPr>
        <p:spPr>
          <a:xfrm flipH="1">
            <a:off x="6428520" y="5288040"/>
            <a:ext cx="2520" cy="4291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399" name="Прямоугольник 49"/>
          <p:cNvSpPr/>
          <p:nvPr/>
        </p:nvSpPr>
        <p:spPr>
          <a:xfrm>
            <a:off x="2928960" y="3571920"/>
            <a:ext cx="107172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0"/>
          <p:cNvSpPr/>
          <p:nvPr/>
        </p:nvSpPr>
        <p:spPr>
          <a:xfrm>
            <a:off x="4214880" y="3571920"/>
            <a:ext cx="107136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52"/>
          <p:cNvSpPr/>
          <p:nvPr/>
        </p:nvSpPr>
        <p:spPr>
          <a:xfrm flipH="1">
            <a:off x="3642840" y="3571920"/>
            <a:ext cx="180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53"/>
          <p:cNvSpPr/>
          <p:nvPr/>
        </p:nvSpPr>
        <p:spPr>
          <a:xfrm flipH="1">
            <a:off x="4998600" y="3573360"/>
            <a:ext cx="180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Прямая со стрелкой 54"/>
          <p:cNvCxnSpPr>
            <a:endCxn id="399" idx="1"/>
          </p:cNvCxnSpPr>
          <p:nvPr/>
        </p:nvCxnSpPr>
        <p:spPr>
          <a:xfrm>
            <a:off x="2217240" y="3731760"/>
            <a:ext cx="71532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04" name="Прямая со стрелкой 55"/>
          <p:cNvCxnSpPr/>
          <p:nvPr/>
        </p:nvCxnSpPr>
        <p:spPr>
          <a:xfrm>
            <a:off x="3785760" y="3857760"/>
            <a:ext cx="42948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05" name="Прямая со стрелкой 56"/>
          <p:cNvCxnSpPr/>
          <p:nvPr/>
        </p:nvCxnSpPr>
        <p:spPr>
          <a:xfrm flipH="1">
            <a:off x="5141160" y="3930120"/>
            <a:ext cx="252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406" name="Прямоугольник 58"/>
          <p:cNvSpPr/>
          <p:nvPr/>
        </p:nvSpPr>
        <p:spPr>
          <a:xfrm>
            <a:off x="2928960" y="2571840"/>
            <a:ext cx="107172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59"/>
          <p:cNvSpPr/>
          <p:nvPr/>
        </p:nvSpPr>
        <p:spPr>
          <a:xfrm>
            <a:off x="4214880" y="2571840"/>
            <a:ext cx="1071360" cy="5713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61"/>
          <p:cNvSpPr/>
          <p:nvPr/>
        </p:nvSpPr>
        <p:spPr>
          <a:xfrm flipH="1">
            <a:off x="3642840" y="2571840"/>
            <a:ext cx="180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62"/>
          <p:cNvSpPr/>
          <p:nvPr/>
        </p:nvSpPr>
        <p:spPr>
          <a:xfrm flipH="1">
            <a:off x="4998600" y="2573280"/>
            <a:ext cx="180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63"/>
          <p:cNvCxnSpPr>
            <a:endCxn id="406" idx="1"/>
          </p:cNvCxnSpPr>
          <p:nvPr/>
        </p:nvCxnSpPr>
        <p:spPr>
          <a:xfrm>
            <a:off x="2201400" y="2855520"/>
            <a:ext cx="71532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11" name="Прямая со стрелкой 64"/>
          <p:cNvCxnSpPr/>
          <p:nvPr/>
        </p:nvCxnSpPr>
        <p:spPr>
          <a:xfrm>
            <a:off x="3785760" y="2857680"/>
            <a:ext cx="42948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12" name="Прямая со стрелкой 65"/>
          <p:cNvCxnSpPr/>
          <p:nvPr/>
        </p:nvCxnSpPr>
        <p:spPr>
          <a:xfrm flipH="1">
            <a:off x="5141160" y="2930040"/>
            <a:ext cx="252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413" name="Прямоугольник 67"/>
          <p:cNvSpPr/>
          <p:nvPr/>
        </p:nvSpPr>
        <p:spPr>
          <a:xfrm>
            <a:off x="2857680" y="1643040"/>
            <a:ext cx="107136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68"/>
          <p:cNvSpPr/>
          <p:nvPr/>
        </p:nvSpPr>
        <p:spPr>
          <a:xfrm>
            <a:off x="4143240" y="1643040"/>
            <a:ext cx="1071720" cy="5716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69"/>
          <p:cNvSpPr/>
          <p:nvPr/>
        </p:nvSpPr>
        <p:spPr>
          <a:xfrm flipH="1">
            <a:off x="1642680" y="2435400"/>
            <a:ext cx="78588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70"/>
          <p:cNvSpPr/>
          <p:nvPr/>
        </p:nvSpPr>
        <p:spPr>
          <a:xfrm flipH="1">
            <a:off x="3571920" y="164304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71"/>
          <p:cNvSpPr/>
          <p:nvPr/>
        </p:nvSpPr>
        <p:spPr>
          <a:xfrm flipH="1">
            <a:off x="4927680" y="1643040"/>
            <a:ext cx="1440" cy="571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Прямая со стрелкой 72"/>
          <p:cNvCxnSpPr>
            <a:endCxn id="413" idx="1"/>
          </p:cNvCxnSpPr>
          <p:nvPr/>
        </p:nvCxnSpPr>
        <p:spPr>
          <a:xfrm>
            <a:off x="2201760" y="1926720"/>
            <a:ext cx="643320" cy="25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19" name="Прямая со стрелкой 73"/>
          <p:cNvCxnSpPr/>
          <p:nvPr/>
        </p:nvCxnSpPr>
        <p:spPr>
          <a:xfrm>
            <a:off x="3714840" y="1928880"/>
            <a:ext cx="42912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20" name="Прямая со стрелкой 74"/>
          <p:cNvCxnSpPr/>
          <p:nvPr/>
        </p:nvCxnSpPr>
        <p:spPr>
          <a:xfrm flipH="1">
            <a:off x="5070240" y="1999800"/>
            <a:ext cx="2160" cy="4309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421" name="Прямоугольник 75"/>
          <p:cNvSpPr/>
          <p:nvPr/>
        </p:nvSpPr>
        <p:spPr>
          <a:xfrm>
            <a:off x="1643040" y="1500120"/>
            <a:ext cx="857160" cy="41436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79"/>
          <p:cNvSpPr/>
          <p:nvPr/>
        </p:nvSpPr>
        <p:spPr>
          <a:xfrm flipH="1">
            <a:off x="1642680" y="3011400"/>
            <a:ext cx="78588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80"/>
          <p:cNvSpPr/>
          <p:nvPr/>
        </p:nvSpPr>
        <p:spPr>
          <a:xfrm flipH="1">
            <a:off x="1642680" y="4740120"/>
            <a:ext cx="78588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81"/>
          <p:cNvSpPr/>
          <p:nvPr/>
        </p:nvSpPr>
        <p:spPr>
          <a:xfrm flipH="1">
            <a:off x="1642680" y="5388120"/>
            <a:ext cx="78588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Прямая со стрелкой 89"/>
          <p:cNvCxnSpPr/>
          <p:nvPr/>
        </p:nvCxnSpPr>
        <p:spPr>
          <a:xfrm>
            <a:off x="2075040" y="4451400"/>
            <a:ext cx="71496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426" name="Прямая со стрелкой 90"/>
          <p:cNvCxnSpPr>
            <a:endCxn id="390" idx="1"/>
          </p:cNvCxnSpPr>
          <p:nvPr/>
        </p:nvCxnSpPr>
        <p:spPr>
          <a:xfrm>
            <a:off x="2130120" y="5213520"/>
            <a:ext cx="78660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427" name="TextBox 93"/>
          <p:cNvSpPr/>
          <p:nvPr/>
        </p:nvSpPr>
        <p:spPr>
          <a:xfrm>
            <a:off x="2793960" y="43084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5"/>
          <p:cNvSpPr/>
          <p:nvPr/>
        </p:nvSpPr>
        <p:spPr>
          <a:xfrm>
            <a:off x="1215360" y="17146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96"/>
          <p:cNvSpPr/>
          <p:nvPr/>
        </p:nvSpPr>
        <p:spPr>
          <a:xfrm>
            <a:off x="5716080" y="5000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97"/>
          <p:cNvSpPr/>
          <p:nvPr/>
        </p:nvSpPr>
        <p:spPr>
          <a:xfrm>
            <a:off x="4430160" y="5000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98"/>
          <p:cNvSpPr/>
          <p:nvPr/>
        </p:nvSpPr>
        <p:spPr>
          <a:xfrm>
            <a:off x="3144240" y="5000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99"/>
          <p:cNvSpPr/>
          <p:nvPr/>
        </p:nvSpPr>
        <p:spPr>
          <a:xfrm>
            <a:off x="4430160" y="3643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00"/>
          <p:cNvSpPr/>
          <p:nvPr/>
        </p:nvSpPr>
        <p:spPr>
          <a:xfrm>
            <a:off x="3072960" y="3643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01"/>
          <p:cNvSpPr/>
          <p:nvPr/>
        </p:nvSpPr>
        <p:spPr>
          <a:xfrm>
            <a:off x="4430160" y="2643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02"/>
          <p:cNvSpPr/>
          <p:nvPr/>
        </p:nvSpPr>
        <p:spPr>
          <a:xfrm>
            <a:off x="3144240" y="2643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03"/>
          <p:cNvSpPr/>
          <p:nvPr/>
        </p:nvSpPr>
        <p:spPr>
          <a:xfrm>
            <a:off x="4358880" y="17146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04"/>
          <p:cNvSpPr/>
          <p:nvPr/>
        </p:nvSpPr>
        <p:spPr>
          <a:xfrm>
            <a:off x="3072960" y="17146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05"/>
          <p:cNvSpPr/>
          <p:nvPr/>
        </p:nvSpPr>
        <p:spPr>
          <a:xfrm>
            <a:off x="1144080" y="5027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06"/>
          <p:cNvSpPr/>
          <p:nvPr/>
        </p:nvSpPr>
        <p:spPr>
          <a:xfrm>
            <a:off x="1144080" y="4307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07"/>
          <p:cNvSpPr/>
          <p:nvPr/>
        </p:nvSpPr>
        <p:spPr>
          <a:xfrm>
            <a:off x="1144080" y="35146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08"/>
          <p:cNvSpPr/>
          <p:nvPr/>
        </p:nvSpPr>
        <p:spPr>
          <a:xfrm>
            <a:off x="1144080" y="25779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69"/>
          <p:cNvSpPr/>
          <p:nvPr/>
        </p:nvSpPr>
        <p:spPr>
          <a:xfrm flipH="1">
            <a:off x="1642680" y="3300480"/>
            <a:ext cx="79236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69"/>
          <p:cNvSpPr/>
          <p:nvPr/>
        </p:nvSpPr>
        <p:spPr>
          <a:xfrm flipH="1">
            <a:off x="1642680" y="2147760"/>
            <a:ext cx="78588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69"/>
          <p:cNvSpPr/>
          <p:nvPr/>
        </p:nvSpPr>
        <p:spPr>
          <a:xfrm flipH="1">
            <a:off x="1642680" y="4164120"/>
            <a:ext cx="78588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69"/>
          <p:cNvSpPr/>
          <p:nvPr/>
        </p:nvSpPr>
        <p:spPr>
          <a:xfrm flipH="1">
            <a:off x="1642680" y="3876840"/>
            <a:ext cx="78588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69"/>
          <p:cNvSpPr/>
          <p:nvPr/>
        </p:nvSpPr>
        <p:spPr>
          <a:xfrm flipH="1">
            <a:off x="1642680" y="4956120"/>
            <a:ext cx="78588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82296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1071720" y="214200"/>
            <a:ext cx="849600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03b"/>
                </a:solidFill>
                <a:latin typeface="Courier New"/>
              </a:rPr>
              <a:t>Реализация списка смеж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 Ie_list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e_list *nex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simpleLi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e_lis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e_list*)malloc(sizeof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e_list)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list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-&gt;next=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-&gt;simpleList = new_el(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hello!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28440" y="214200"/>
            <a:ext cx="86439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603b"/>
                </a:solidFill>
                <a:latin typeface="Corbel"/>
              </a:rPr>
              <a:t>Вставка элемента в односвязный список</a:t>
            </a:r>
            <a:r>
              <a:rPr b="1" lang="en-US" sz="2400" spc="-1" strike="noStrike">
                <a:solidFill>
                  <a:srgbClr val="67603b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67603b"/>
                </a:solidFill>
                <a:latin typeface="Corbel"/>
              </a:rPr>
              <a:t>после элемента</a:t>
            </a:r>
            <a:br>
              <a:rPr sz="2400"/>
            </a:br>
            <a:r>
              <a:rPr b="1" lang="ru-RU" sz="2400" spc="-1" strike="noStrike">
                <a:solidFill>
                  <a:srgbClr val="67603b"/>
                </a:solidFill>
                <a:latin typeface="Corbel"/>
              </a:rPr>
              <a:t>с адресом </a:t>
            </a:r>
            <a:r>
              <a:rPr b="0" i="1" lang="en-US" sz="2400" spc="-1" strike="noStrike">
                <a:solidFill>
                  <a:srgbClr val="67603b"/>
                </a:solidFill>
                <a:latin typeface="Courier New"/>
              </a:rPr>
              <a:t>prev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1116000" y="1052640"/>
            <a:ext cx="77770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v, const char</a:t>
            </a:r>
            <a:r>
              <a:rPr b="1" lang="ru-RU" sz="2000" spc="-1" strike="noStrike">
                <a:solidFill>
                  <a:srgbClr val="feb80a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]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b80a"/>
                </a:solidFill>
                <a:latin typeface="Courier New"/>
                <a:ea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List * cur = new_el(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ur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u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next =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v-&gt;nex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v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next =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6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5832720" cy="2376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755280" y="3500280"/>
            <a:ext cx="8388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зультат выполнения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_after (after, ”middle”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3:10:58Z</dcterms:created>
  <dc:creator>Нестеренко</dc:creator>
  <dc:description/>
  <dc:language>en-US</dc:language>
  <cp:lastModifiedBy>Evgeny</cp:lastModifiedBy>
  <dcterms:modified xsi:type="dcterms:W3CDTF">2013-12-22T02:08:24Z</dcterms:modified>
  <cp:revision>210</cp:revision>
  <dc:subject/>
  <dc:title>Отношения, графы, деревья</dc:title>
</cp:coreProperties>
</file>